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4457-0634-44EE-A5E1-4E8C262E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03B6-E0A5-4164-93D0-6DD04D39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F6C-86A8-44D1-B5C7-123D88560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F8B-B0B1-4D35-AF80-458CE566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A528-D704-49F7-A798-67679B8C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0DF-05D7-457C-A643-162629B4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39D5-CF5B-45F3-9587-96BEA95C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6980-5CD5-4A1C-8209-0B6DE2DB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B64-2B99-47AD-A7DE-57CA7D0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7368-A080-466B-A1A7-AF46C43F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1D6B-423B-4C13-8C0A-D9F9461D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9AFC-426B-4DC7-A7A4-DDA747F5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289F-89F6-4BC0-860C-BF0F72C11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82000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5969160"/>
            <a:ext cx="88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ansión del Islám desde la muerte de Mahoma 632,  hasta la sublevación contra los califas Omeyas, 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539640" y="5013360"/>
            <a:ext cx="144720" cy="287280"/>
          </a:xfrm>
          <a:custGeom>
            <a:avLst/>
            <a:gdLst>
              <a:gd name="textAreaLeft" fmla="*/ 36000 w 144720"/>
              <a:gd name="textAreaRight" fmla="*/ 108720 w 144720"/>
              <a:gd name="textAreaTop" fmla="*/ 36000 h 287280"/>
              <a:gd name="textAreaBottom" fmla="*/ 251280 h 287280"/>
            </a:gdLst>
            <a:ahLst/>
            <a:rect l="textAreaLeft" t="textAreaTop" r="textAreaRight" b="textAreaBottom"/>
            <a:pathLst>
              <a:path w="21600" h="42825">
                <a:moveTo>
                  <a:pt x="0" y="0"/>
                </a:moveTo>
                <a:lnTo>
                  <a:pt x="21600" y="0"/>
                </a:lnTo>
                <a:lnTo>
                  <a:pt x="21600" y="42825"/>
                </a:lnTo>
                <a:lnTo>
                  <a:pt x="0" y="42825"/>
                </a:lnTo>
                <a:close/>
              </a:path>
              <a:path fill="lightenLess" w="21600" h="42825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42825">
                <a:moveTo>
                  <a:pt x="21600" y="0"/>
                </a:moveTo>
                <a:lnTo>
                  <a:pt x="21600" y="42825"/>
                </a:lnTo>
                <a:lnTo>
                  <a:pt x="16200" y="37425"/>
                </a:lnTo>
                <a:lnTo>
                  <a:pt x="16200" y="5400"/>
                </a:lnTo>
                <a:close/>
              </a:path>
              <a:path fill="darkenLess" w="21600" h="42825">
                <a:moveTo>
                  <a:pt x="21600" y="42825"/>
                </a:moveTo>
                <a:lnTo>
                  <a:pt x="0" y="42825"/>
                </a:lnTo>
                <a:lnTo>
                  <a:pt x="5400" y="37425"/>
                </a:lnTo>
                <a:lnTo>
                  <a:pt x="16200" y="37425"/>
                </a:lnTo>
                <a:close/>
              </a:path>
              <a:path fill="lighten" w="21600" h="42825">
                <a:moveTo>
                  <a:pt x="0" y="42825"/>
                </a:moveTo>
                <a:lnTo>
                  <a:pt x="0" y="0"/>
                </a:lnTo>
                <a:lnTo>
                  <a:pt x="5400" y="5400"/>
                </a:lnTo>
                <a:lnTo>
                  <a:pt x="5400" y="37425"/>
                </a:lnTo>
                <a:close/>
              </a:path>
              <a:path fill="darken" w="21600" h="42825">
                <a:moveTo>
                  <a:pt x="6775" y="17387"/>
                </a:moveTo>
                <a:lnTo>
                  <a:pt x="14825" y="21412"/>
                </a:lnTo>
                <a:lnTo>
                  <a:pt x="6775" y="25437"/>
                </a:lnTo>
                <a:close/>
              </a:path>
            </a:pathLst>
          </a:custGeom>
          <a:solidFill>
            <a:srgbClr val="dc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1320" y="5033880"/>
            <a:ext cx="219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la muerte de Mahoma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firstslide"/>
          </p:cNvPr>
          <p:cNvSpPr/>
          <p:nvPr/>
        </p:nvSpPr>
        <p:spPr>
          <a:xfrm>
            <a:off x="539640" y="537372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32212">
                <a:moveTo>
                  <a:pt x="0" y="0"/>
                </a:moveTo>
                <a:lnTo>
                  <a:pt x="21600" y="0"/>
                </a:lnTo>
                <a:lnTo>
                  <a:pt x="21600" y="32212"/>
                </a:lnTo>
                <a:lnTo>
                  <a:pt x="0" y="32212"/>
                </a:lnTo>
                <a:close/>
              </a:path>
              <a:path fill="lightenLess" w="21600" h="3221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32212">
                <a:moveTo>
                  <a:pt x="21600" y="0"/>
                </a:moveTo>
                <a:lnTo>
                  <a:pt x="21600" y="32212"/>
                </a:lnTo>
                <a:lnTo>
                  <a:pt x="21600" y="32212"/>
                </a:lnTo>
                <a:lnTo>
                  <a:pt x="21600" y="0"/>
                </a:lnTo>
                <a:close/>
              </a:path>
              <a:path fill="darkenLess" w="21600" h="32212">
                <a:moveTo>
                  <a:pt x="21600" y="32212"/>
                </a:moveTo>
                <a:lnTo>
                  <a:pt x="0" y="32212"/>
                </a:lnTo>
                <a:lnTo>
                  <a:pt x="0" y="32212"/>
                </a:lnTo>
                <a:lnTo>
                  <a:pt x="21600" y="32212"/>
                </a:lnTo>
                <a:close/>
              </a:path>
              <a:path fill="lighten" w="21600" h="32212">
                <a:moveTo>
                  <a:pt x="0" y="32212"/>
                </a:moveTo>
                <a:lnTo>
                  <a:pt x="0" y="0"/>
                </a:lnTo>
                <a:lnTo>
                  <a:pt x="0" y="0"/>
                </a:lnTo>
                <a:lnTo>
                  <a:pt x="0" y="32212"/>
                </a:lnTo>
                <a:close/>
              </a:path>
              <a:path fill="darken" w="21600" h="32212">
                <a:moveTo>
                  <a:pt x="2750" y="8056"/>
                </a:moveTo>
                <a:lnTo>
                  <a:pt x="18850" y="16106"/>
                </a:lnTo>
                <a:lnTo>
                  <a:pt x="2750" y="24156"/>
                </a:lnTo>
                <a:close/>
              </a:path>
            </a:pathLst>
          </a:custGeom>
          <a:solidFill>
            <a:srgbClr val="e5ca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firstslide"/>
          </p:cNvPr>
          <p:cNvSpPr/>
          <p:nvPr/>
        </p:nvSpPr>
        <p:spPr>
          <a:xfrm flipV="1">
            <a:off x="468360" y="5660280"/>
            <a:ext cx="216000" cy="144360"/>
          </a:xfrm>
          <a:custGeom>
            <a:avLst/>
            <a:gdLst>
              <a:gd name="textAreaLeft" fmla="*/ 36000 w 216000"/>
              <a:gd name="textAreaRight" fmla="*/ 180000 w 21600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32293" h="21600">
                <a:moveTo>
                  <a:pt x="0" y="0"/>
                </a:moveTo>
                <a:lnTo>
                  <a:pt x="32293" y="0"/>
                </a:lnTo>
                <a:lnTo>
                  <a:pt x="32293" y="21600"/>
                </a:lnTo>
                <a:lnTo>
                  <a:pt x="0" y="21600"/>
                </a:lnTo>
                <a:close/>
              </a:path>
              <a:path fill="lightenLess" w="32293" h="21600">
                <a:moveTo>
                  <a:pt x="0" y="0"/>
                </a:moveTo>
                <a:lnTo>
                  <a:pt x="32293" y="0"/>
                </a:lnTo>
                <a:lnTo>
                  <a:pt x="26893" y="5400"/>
                </a:lnTo>
                <a:lnTo>
                  <a:pt x="5400" y="5400"/>
                </a:lnTo>
                <a:close/>
              </a:path>
              <a:path fill="darken" w="32293" h="21600">
                <a:moveTo>
                  <a:pt x="32293" y="0"/>
                </a:moveTo>
                <a:lnTo>
                  <a:pt x="32293" y="21600"/>
                </a:lnTo>
                <a:lnTo>
                  <a:pt x="26893" y="16200"/>
                </a:lnTo>
                <a:lnTo>
                  <a:pt x="26893" y="5400"/>
                </a:lnTo>
                <a:close/>
              </a:path>
              <a:path fill="darkenLess" w="32293" h="21600">
                <a:moveTo>
                  <a:pt x="32293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26893" y="16200"/>
                </a:lnTo>
                <a:close/>
              </a:path>
              <a:path fill="lighten" w="32293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32293" h="21600">
                <a:moveTo>
                  <a:pt x="12121" y="6775"/>
                </a:moveTo>
                <a:lnTo>
                  <a:pt x="20171" y="10800"/>
                </a:lnTo>
                <a:lnTo>
                  <a:pt x="12121" y="14825"/>
                </a:lnTo>
                <a:close/>
              </a:path>
            </a:pathLst>
          </a:custGeom>
          <a:solidFill>
            <a:srgbClr val="f6e7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0600" y="5321160"/>
            <a:ext cx="15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bu Baker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610240"/>
            <a:ext cx="10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sta 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321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Características del derecho f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Recoge elemento germánico consuetudinario y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mano vul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Es derecho no cient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Casu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revalece sobre el derecho real con excep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s de Corte” y de la segunda instanci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Derecho dinámico, en permanente recre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Sus normas provienen de: a) Costumbre jurídica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gislación del Concejo municipal  c) jurisprud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ribunal de los alcal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La posibilidad de reconocimiento del fuero gene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tación de los fueros más per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Contienen principios de igualación de los 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Contienen normas sobre tolerancia relig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Es un derecho de aplicación local que tiene caráct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vilegio. Normas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Contienen normas de Dº civil, penal, procesal, co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32184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Características del derecho fo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Recoge elemento germánico consuetudinario y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mano vul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Es derecho no cient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Casu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Prevalece sobre el derecho real con excep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sos de Corte” y de la segunda instancia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 Derecho dinámico, en permanente recre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Sus normas provienen de: a) Costumbre jurídica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) legislación del Concejo municipal  c) jurisprude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l tribunal de los alcal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La posibilidad de reconocimiento del fuero genera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itación de los fueros más perfe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Contienen principios de igualación de los 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Contienen normas sobre tolerancia relig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Es un derecho de aplicación local que tiene carácter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ivilegio. Normas de derech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 Contienen normas de Dº civil, penal, procesal, comer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Carta Magna leones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(Decretos de la Curia de León de 1188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Aprobada en las primeras “Cortes” con participación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mento de los 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Contiene garantías con carácter territorial para los t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Tiene carácter pac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 Entre  sus normas garanti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Inviolabilidad del hogar     b) legítima defen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) Habeas corpus    d) lugares de det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) Sanción de delitos cometidos por 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) Denegación o retardo malicioso en administrar just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) Derecho a conocer acusaciones y sanción del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use sin fund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) Obligación de comparecer ante la justicia, incluso 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) Prenda jud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) Normas destinadas a dar autonomía a los ju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725688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Arial"/>
              </a:rPr>
              <a:t>El Estado en los reinos cristianos alto medievales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Caracter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 Idea de reposición del reino visigodo de Españ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 Monarquía electiva que se convierte en hered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 Evolución desde un concepto patrimonial  a u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persona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-  Participación política de los estamentos nobilia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-  Las Cortes: Inicio de la participació0n política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Estruc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jo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ia  Regi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ordi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157720"/>
            <a:ext cx="142920" cy="129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87"/>
                </a:lnTo>
                <a:cubicBezTo>
                  <a:pt x="10800" y="9487"/>
                  <a:pt x="5400" y="10387"/>
                  <a:pt x="0" y="10387"/>
                </a:cubicBezTo>
                <a:cubicBezTo>
                  <a:pt x="5400" y="10387"/>
                  <a:pt x="10800" y="11287"/>
                  <a:pt x="10800" y="12187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653000"/>
            <a:ext cx="215640" cy="1081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260280"/>
          <a:ext cx="9144000" cy="633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4000" y="632952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ance de la reconquista cristi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4720" y="0"/>
            <a:ext cx="824400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2200" y="461880"/>
            <a:ext cx="84978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237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49400"/>
            <a:ext cx="9144000" cy="667764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Alta Edad Media. 711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-  1217. Etapa de variedad juríd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Presencia islámica en occidente y aislamiento de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ccidental. Al Andal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Consolidación de los reinos germanos de Occidente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Inicio del Sacro Imperio Romano Ger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4.- Separación de la Iglesia romana y la biza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5.-Consolidación del feudalismo como institución económic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lítica  y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6.- Las cruzadas y la reconquista de los santos lug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7.- Estructura estamental de la sociedad y estatutos juríd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erenciados.(estamentales, religiosos, municipa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8.- Influencia del germanismo en el derecho consuetudi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9.-  La lucha por el acceso a los privilegios jurídicos ( fu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y autonomías municipales y feud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0.-  Reconquista cristiana en España y re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1.-Formación de los reinos cristianos de la reconquista. 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ino de Castilla y su liderazgo en la empresa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onqu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16796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 altomedieval en los reinos cristianos del área astur-leon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stilla         Fueros de albedrí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Territorial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ón            _   Liber judici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_   Decretos de la Curi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eón 11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mentales:      Nobleza l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Nobleza eclesi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Personal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ligiosos:           Cristianos - Judí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usulm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. extensos -  F.bre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Derecho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Fueros muni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990000"/>
                </a:solidFill>
                <a:uFillTx/>
                <a:latin typeface="Arial"/>
              </a:rPr>
              <a:t>Locales</a:t>
            </a:r>
            <a:r>
              <a:rPr b="1" lang="es-ES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F. Ti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rechos feud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69228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1628640"/>
            <a:ext cx="73080" cy="86364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292428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92360" y="5229360"/>
            <a:ext cx="71280" cy="10792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013360"/>
            <a:ext cx="71280" cy="720720"/>
          </a:xfrm>
          <a:custGeom>
            <a:avLst/>
            <a:gdLst>
              <a:gd name="textAreaLeft" fmla="*/ 45720 w 71280"/>
              <a:gd name="textAreaRight" fmla="*/ 71640 w 7128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51280" y="2781360"/>
            <a:ext cx="73080" cy="863640"/>
          </a:xfrm>
          <a:custGeom>
            <a:avLst/>
            <a:gdLst>
              <a:gd name="textAreaLeft" fmla="*/ 21240 w 73080"/>
              <a:gd name="textAreaRight" fmla="*/ 73440 w 73080"/>
              <a:gd name="textAreaTop" fmla="*/ 36000 h 863640"/>
              <a:gd name="textAreaBottom" fmla="*/ 8280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4005360"/>
            <a:ext cx="71280" cy="79200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000"/>
              <a:gd name="textAreaBottom" fmla="*/ 75924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41360"/>
            <a:ext cx="9144000" cy="5794560"/>
          </a:xfrm>
          <a:prstGeom prst="rect">
            <a:avLst/>
          </a:prstGeom>
          <a:solidFill>
            <a:srgbClr val="fef2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FEUDALISMO - ALTA EDAD MEDI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Concepto: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ón de carácter político, económico, social y juríd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e en relaciones voluntarias de fidelidad entre nobles por las cuales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ñor y el vasallo se comprometen a darse mutua protección y ayuda,  la que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e del señor consiste en el beneficio feudal   y en la inmunidad del feu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sal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Elementos del feudalism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Bene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Vasallaje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Sólo entre nobles. Derechos y debe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íprocos. Condicional. Encomend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Beneficio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ierras en propiedad o usufru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en-US" sz="2000" spc="-1" strike="noStrike" u="sng">
                <a:solidFill>
                  <a:srgbClr val="990000"/>
                </a:solidFill>
                <a:uFillTx/>
                <a:latin typeface="Arial"/>
              </a:rPr>
              <a:t>Inmunid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Transferencia al vasallo de atribucion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bernar, impartir justicia, legislar y cobr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b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92360" y="2060640"/>
            <a:ext cx="142920" cy="936720"/>
          </a:xfrm>
          <a:custGeom>
            <a:avLst/>
            <a:gdLst>
              <a:gd name="textAreaLeft" fmla="*/ 42120 w 142920"/>
              <a:gd name="textAreaRight" fmla="*/ 143280 w 1429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84240"/>
            <a:ext cx="91440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Municipio altomediev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Autonomías y derecho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800" spc="-1" strike="noStrike" u="sng">
                <a:solidFill>
                  <a:srgbClr val="990000"/>
                </a:solidFill>
                <a:uFillTx/>
                <a:latin typeface="Arial"/>
              </a:rPr>
              <a:t>local.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Concepto de municipi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titución de derecho público constituida por los vecinos de una villa, pueblo o ciudad  que se autogobiernan y generan su propio derecho dentro de su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cejo     reg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Estructura del municipio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lcal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990000"/>
                </a:solidFill>
                <a:uFillTx/>
                <a:latin typeface="Arial"/>
              </a:rPr>
              <a:t>Fueros municipal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.    Normas jurídicas formadas por costumbre local,  jurisprudencia de los alcaldes y  ley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ctadas por el concejo municipal que rigen en el territorio de un municipio y que en el caso de obtener reconocimiento del rey o del señor feudal, constituyen un fuero o privilegio de los vecinos del lugar que se hace inmune al poder central o feudal.                         Extensos y bre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Fu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ipo o mod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2565360"/>
            <a:ext cx="216000" cy="863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2492280"/>
            <a:ext cx="216000" cy="3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716"/>
                </a:lnTo>
                <a:cubicBezTo>
                  <a:pt x="10800" y="10616"/>
                  <a:pt x="5400" y="11516"/>
                  <a:pt x="0" y="11516"/>
                </a:cubicBezTo>
                <a:cubicBezTo>
                  <a:pt x="5400" y="11516"/>
                  <a:pt x="10800" y="12416"/>
                  <a:pt x="10800" y="133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5877000"/>
            <a:ext cx="144720" cy="981000"/>
          </a:xfrm>
          <a:custGeom>
            <a:avLst/>
            <a:gdLst>
              <a:gd name="textAreaLeft" fmla="*/ 92520 w 144720"/>
              <a:gd name="textAreaRight" fmla="*/ 145080 w 144720"/>
              <a:gd name="textAreaTop" fmla="*/ 25560 h 981000"/>
              <a:gd name="textAreaBottom" fmla="*/ 955440 h 981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5:28:56Z</dcterms:created>
  <dc:creator>mfigueroa</dc:creator>
  <dc:description/>
  <dc:language>en-US</dc:language>
  <cp:lastModifiedBy>mfigueroa</cp:lastModifiedBy>
  <dcterms:modified xsi:type="dcterms:W3CDTF">2007-05-15T13:16:34Z</dcterms:modified>
  <cp:revision>23</cp:revision>
  <dc:subject/>
  <dc:title>Diapositiva 1</dc:title>
</cp:coreProperties>
</file>