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626-F4DC-4569-B36D-CDA4279D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A56-09D1-4A8C-B793-3B053759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FBF-2CF8-4734-80B6-A1A1F842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5AA-4CA8-4ED7-9E4B-30B4547E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0C8-82B1-4DEB-BC40-02ABE37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C3C-9577-4F9E-B48E-8CA26C2F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563-236D-468E-B454-C2BAB61A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8B1-1BE8-4FB9-BA4C-F20FE2D1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3AB-01B1-48C2-BB5E-D18703A0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1EC-C88D-4457-A7B5-E068A580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AEE-4263-49FD-975C-D6EB5E9E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AC2-F6E5-46AF-AE74-1C41DE9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8281-EE5D-4C88-B022-091EACEA2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274680"/>
            <a:ext cx="66643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399960"/>
            <a:ext cx="6408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280" y="189000"/>
            <a:ext cx="88934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93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emprana Edad Media. 476 -711. Aporte germánico y canónico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erísticas del perio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Desaparición de la unidad política constituida por el Imp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omano de oc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Desplazamiento de los pueblos germanos al interior de Europa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Organización de reinos germanos e intentos de restabl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l Imp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4.- Desarrollo del derecho canónico y de la filosofía de la patr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- Protección del acerbo cultural greco romano por la iglesia cató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6.- Conversión de los germanos al cristianismo católico y heré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7.- Integración del derecho germano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8.- El derecho canónico y su aporte a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9.- La presencia islámica en oc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0.-Desarrollo de instituciones prefeud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51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aracterísticas del derecho germánico prim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 Derecho principalmente consuetudinario, no e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- Sujeto de derecho de carácter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- La paz social como concepto jurídico; la declaración de 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a paz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- Tribunales populares; los j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-  Derecho penal arca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- Responsabilidad penal cole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- Las penas y la compensación pecun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- La prueba de los delitos y las ordal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- Carácter social de la pro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7920"/>
            <a:ext cx="93200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os pueblos germanos y su desplazamiento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entamientos en el Imperio Romano y los desplazamientos 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glos IV y V: godos, francos, suevos, vándalos, anglosaj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ritanos, alamanes, ostrogodos, lombardos, borgoñones,visig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Tracia 376;en Roma 410; en Galia 412, en Hispania 5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El conocimientos de los pueblos germanos por los ro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El reino visigodo: etapa tolosana 476 -  507 a 5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 toledana 526 -711(unificación terri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Hispania: 583 conquista del reino s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 Leovigildo ; 622 expulsión del impe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zantino de la Betica por Suint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4.- La conversión al catolicismo del rey Recaredo 589. E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5.- La estructura del Estado: monarquía electiva, aula reg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ci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6.- La sociedad hispano-germana. Integración entre hispano ro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y germanos. Instituciones prefeud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7.- 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08080"/>
            <a:ext cx="8893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emprana Edad Media. Influencia del elemento ger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y canónico. Legislación del reino visig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ódigo de Euric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476. (E. romano vulgar y germá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Breviario de Alaric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   502 .506( E.romano  y romano vul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eges:               C.Teodosiano, Gregoriano Hermogeniano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ura:                    Epítome de Gayo, S. de Paulo y Papin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rpretatio:      Derecho romano vul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ódigo de Leovigild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. Mediados del sig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ódigo de Recesvinto.  6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ibro de los Juec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Código de Ervigio. 6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anónico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ermánico                                    Vulg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omano vul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797360"/>
            <a:ext cx="142920" cy="165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3644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a doctrina jurídica de la patrística e Isidoro de Sev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.- La patrística y la filosofía jurídica temprano medie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.- Las obras de Isidoro de Sevilla: Etimologías, Libro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tencias, Hisp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) el concepto de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) la sociedad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) el origen, los fines y límites del poder po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 Concilio IVde Toledo, canón 75,año 633 Concilio V deTole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ño 636 y la conversión en ley canónica y civil de la doctr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sidoriana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92720" y="256068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ona votiva del rey visigodo Recesvinto (653 – 6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7131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9:09:51Z</dcterms:created>
  <dc:creator>mfigueroa</dc:creator>
  <dc:description/>
  <dc:language>en-US</dc:language>
  <cp:lastModifiedBy>mfigueroa</cp:lastModifiedBy>
  <dcterms:modified xsi:type="dcterms:W3CDTF">2007-04-26T15:37:31Z</dcterms:modified>
  <cp:revision>24</cp:revision>
  <dc:subject/>
  <dc:title>Diapositiva 1</dc:title>
</cp:coreProperties>
</file>