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F3F-0532-439C-870B-A0CAD8A8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D07-D743-460F-B3E7-53BAE737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8C5-9C57-4A66-BD50-E833AD89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DAF-749B-47A1-849C-5B5255AF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6A5-5E5D-43AD-851B-70C4C218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3E9-0321-47E5-B7A2-17E141C0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9C0-D2DF-46E2-BFE3-A438B144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698-ACEE-4413-92EC-18427D52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7E0-F597-4F54-BAA2-FE486589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CA4-D21A-466C-9DE8-D964CCEF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4E6-257D-480C-8E11-036B8E1F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CC6-D8ED-4D94-9092-31515BBB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7340-1766-45C5-8D6A-52E13CA55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274680"/>
            <a:ext cx="66643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399960"/>
            <a:ext cx="64087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280" y="189000"/>
            <a:ext cx="88934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2934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emprana Edad Media. 476 -711. Aporte germánico y canónico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erísticas del perio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Desaparición de la unidad política constituida por el Impe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omano de oc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Desplazamiento de los pueblos germanos al interior de Europa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Organización de reinos germanos e intentos de restabl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l Impe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4.- Desarrollo del derecho canónico y de la filosofía de la patr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5.- Protección del acerbo cultural greco romano por la iglesia cató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6.- Conversión de los germanos al cristianismo católico y heré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7.- Integración del derecho germano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8.- El derecho canónico y su aporte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9.- La presencia islámica en oc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0.-Desarrollo de instituciones prefeud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51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aracterísticas del derecho germánico prim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- Derecho principalmente consuetudinario, no esc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- Sujeto de derecho de carácter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- La paz social como concepto jurídico; la declaración de ru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a paz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- Tribunales populares; los j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-  Derecho penal arca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- Responsabilidad penal cole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- Las penas y la compensación pecun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- La prueba de los delitos y las ordal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- Carácter social de la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7920"/>
            <a:ext cx="93200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os pueblos germanos y su desplazamiento en Europa o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entamientos en el Imperio Romano y los desplazamientos 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glos IV y V: godos, francos, suevos, vándalos, anglosaj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ritanos, alamanes, ostrogodos, lombardos, borgoñones,visigo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 Tracia 376;en Roma 410; en Galia 412, en Hispania 5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El conocimientos de los pueblos germanos por los ro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El reino visigodo: etapa tolosana 476 -  507 a 5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 toledana 526 -711(unificación territ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Hispania: 583 conquista del reino s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 Leovigildo ; 622 expulsión del impe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zantino de la Betica por Suint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4.- La conversión al catolicismo del rey Recaredo 589. Ef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5.- La estructura del Estado: monarquía electiva, aula reg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ci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6.- La sociedad hispano-germana. Integración entre hispano ro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y germanos. Instituciones prefeud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7.- 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08080"/>
            <a:ext cx="8893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emprana Edad Media. Influencia del elemento ger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y canónico. Legislación del reino visig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ódigo de Euric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476. (E. romano vulgar y germán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Breviario de Alaric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   502 .506( E.romano  y romano vul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eges:               C.Teodosiano, Gregoriano Hermogeniano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ura:                    Epítome de Gayo, S. de Paulo y Papin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rpretatio:      Derecho romano vulg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ódigo de Leovigild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. Mediados del sig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ódigo de Recesvinto.  6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ibro de los Juec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Código de Ervigio. 6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anónico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ermánico                                    Vulg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omano vul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797360"/>
            <a:ext cx="142920" cy="165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3644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 doctrina jurídica de la patrística e Isidoro de Sev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 La patrística y la filosofía jurídica temprano medie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Las obras de Isidoro de Sevilla: Etimologías, Libro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tencias, Hisp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) el concepto de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) la sociedad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) el origen, los fines y límites del poder pol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 Concilio IVde Toledo, canón 75,año 633 Concilio V deTole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ño 636 y la conversión en ley canónica y civil de la doctr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sidoriana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92720" y="256068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ona votiva del rey visigodo Recesvinto (653 – 6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7131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9:09:51Z</dcterms:created>
  <dc:creator>mfigueroa</dc:creator>
  <dc:description/>
  <dc:language>en-US</dc:language>
  <cp:lastModifiedBy>mfigueroa</cp:lastModifiedBy>
  <dcterms:modified xsi:type="dcterms:W3CDTF">2007-04-26T15:37:31Z</dcterms:modified>
  <cp:revision>24</cp:revision>
  <dc:subject/>
  <dc:title>Diapositiva 1</dc:title>
</cp:coreProperties>
</file>