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4C76-4197-453A-B771-19E39E727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39A2-8E9D-40B1-A1BF-AA47989D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01E5-07E5-47C8-B361-51E195FD5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721E-9E07-439D-B0F0-D6984540C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06D5-F9B0-40C4-BCB8-0D5EC74C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CDE6-F7C2-4367-9D25-EDD50242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3C13-F38D-4CD5-952B-5B581017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D605-6D55-4AD4-954E-ED7EAECF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FE22-8B15-4742-B00A-D77B425C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C17B-50AB-480F-A653-BF4DFFE7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821F-240D-4E3D-B877-7C4DCDE1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28EF-1367-4608-88AC-ABBA0DA7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1D8B-B2CC-4237-94EC-01D500F12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77058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16000" y="274680"/>
            <a:ext cx="666432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58920" y="399960"/>
            <a:ext cx="640872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280" y="189000"/>
            <a:ext cx="8893440" cy="64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497800" cy="62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2934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Times New Roman"/>
              </a:rPr>
              <a:t>Temprana Edad Media. 476 -711. Aporte germánico y canónico al derecho occid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racterísticas del perio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1.-Desaparición de la unidad política constituida por el Impe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omano de occid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2.- Desplazamiento de los pueblos germanos al interior de Europa occid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3.- Organización de reinos germanos e intentos de restable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l Impe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4.- Desarrollo del derecho canónico y de la filosofía de la patrís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5.- Protección del acerbo cultural greco romano por la iglesia catól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6.- Conversión de los germanos al cristianismo católico y heré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7.- Integración del derecho germano al derecho occid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8.- El derecho canónico y su aporte al derecho occid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9.- La presencia islámica en occid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10.-Desarrollo de instituciones prefeud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6516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Características del derecho germánico prim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- Derecho principalmente consuetudinario, no escr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- Sujeto de derecho de carácter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- La paz social como concepto jurídico; la declaración de rup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la paz so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- Tribunales populares; los jur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-  Derecho penal arca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- Responsabilidad penal cole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- Las penas y la compensación pecuni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- La prueba de los delitos y las ordalí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.- Carácter social de la propie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-7920"/>
            <a:ext cx="932004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Times New Roman"/>
              </a:rPr>
              <a:t>Los pueblos germanos y su desplazamiento en Europa occid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1.-</a:t>
            </a:r>
            <a:r>
              <a:rPr b="1" lang="es-E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sentamientos en el Imperio Romano y los desplazamientos en 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iglos IV y V: godos, francos, suevos, vándalos, anglosajo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britanos, alamanes, ostrogodos, lombardos, borgoñones,visigo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n Tracia 376;en Roma 410; en Galia 412, en Hispania 5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2.- El conocimientos de los pueblos germanos por los rom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3.- El reino visigodo: etapa tolosana 476 -  507 a 5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tapa toledana 526 -711(unificación territor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 Hispania: 583 conquista del reino sue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or Leovigildo ; 622 expulsión del imper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bizantino de la Betica por Suinti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4.- La conversión al catolicismo del rey Recaredo 589. Efec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5.- La estructura del Estado: monarquía electiva, aula regi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oncil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6.- La sociedad hispano-germana. Integración entre hispano rom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y germanos. Instituciones prefeud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7.- El der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0920" y="208080"/>
            <a:ext cx="889308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Times New Roman"/>
              </a:rPr>
              <a:t>Temprana Edad Media. Influencia del elemento ger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Times New Roman"/>
              </a:rPr>
              <a:t> </a:t>
            </a:r>
            <a:r>
              <a:rPr b="1" lang="es-ES" sz="2400" spc="-1" strike="noStrike" u="sng">
                <a:solidFill>
                  <a:srgbClr val="cc3300"/>
                </a:solidFill>
                <a:uFillTx/>
                <a:latin typeface="Times New Roman"/>
              </a:rPr>
              <a:t>y canónico. Legislación del reino visigo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Times New Roman"/>
              </a:rPr>
              <a:t>Código de Eurico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.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476. (E. romano vulgar y germán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Times New Roman"/>
              </a:rPr>
              <a:t>Breviario de Alarico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.   502 .506( E.romano  y romano vulg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eges:               C.Teodosiano, Gregoriano Hermogeniano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ura:                    Epítome de Gayo, S. de Paulo y Papini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terpretatio:      Derecho romano vulg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Times New Roman"/>
              </a:rPr>
              <a:t>Código de Leovigildo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. Mediados del siglo 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ódigo de Recesvinto.  6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Times New Roman"/>
              </a:rPr>
              <a:t>Libro de los Jueces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     Código de Ervigio. 6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anónico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germánico                                    Vulg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omano vul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2360" y="4797360"/>
            <a:ext cx="142920" cy="1656000"/>
          </a:xfrm>
          <a:custGeom>
            <a:avLst/>
            <a:gdLst>
              <a:gd name="textAreaLeft" fmla="*/ 91440 w 142920"/>
              <a:gd name="textAreaRight" fmla="*/ 143280 w 14292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8"/>
                </a:lnTo>
                <a:cubicBezTo>
                  <a:pt x="10800" y="9908"/>
                  <a:pt x="5400" y="10808"/>
                  <a:pt x="0" y="10808"/>
                </a:cubicBezTo>
                <a:cubicBezTo>
                  <a:pt x="5400" y="10808"/>
                  <a:pt x="10800" y="11708"/>
                  <a:pt x="10800" y="1260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136440"/>
            <a:ext cx="88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Times New Roman"/>
              </a:rPr>
              <a:t>La doctrina jurídica de la patrística e Isidoro de Sev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1.- La patrística y la filosofía jurídica temprano medie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2.- Las obras de Isidoro de Sevilla: Etimologías, Libro de 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ntencias, Hisp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) el concepto de der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b) la sociedad pol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) el origen, los fines y límites del poder polí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3.-  Concilio IVde Toledo, canón 75,año 633 Concilio V deToled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ño 636 y la conversión en ley canónica y civil de la doctri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sidoriana.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292720" y="2560680"/>
            <a:ext cx="36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rona votiva del rey visigodo Recesvinto (653 – 67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471312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9:09:51Z</dcterms:created>
  <dc:creator>mfigueroa</dc:creator>
  <dc:description/>
  <dc:language>en-US</dc:language>
  <cp:lastModifiedBy>mfigueroa</cp:lastModifiedBy>
  <dcterms:modified xsi:type="dcterms:W3CDTF">2007-04-26T15:37:31Z</dcterms:modified>
  <cp:revision>24</cp:revision>
  <dc:subject/>
  <dc:title>Diapositiva 1</dc:title>
</cp:coreProperties>
</file>