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E5A-1D75-4EC7-8094-ECA7CE5F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5DC-D554-41B6-9F92-D57F374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2B5-B0B3-46FB-AA07-055A2FAA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DB5-67E1-4D0D-AAA2-1ABC6A95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EEA-ADC2-4991-9BE2-2758A77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640-8FB7-4384-8A9C-C1F30F7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71A-4747-45B7-9164-62901487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846-F7F9-4FA2-810C-223826BE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110-BF74-423A-B045-24DE500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C18-57B7-4178-BA7B-E0AE2DC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D91-64C5-4F08-A85D-5D59237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C0C-3AE3-4F8B-9B82-B43690B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E429-C5E5-420A-AE60-F90C8F407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6664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399960"/>
            <a:ext cx="6408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8934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93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476 -711. Aporte germánico y canónic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del peri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Desaparición de la unidad política constituida por el Imp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de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Desplazamiento de los pueblos germanos al interior de Europa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Organización de reinos germanos e intentos de restabl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Imp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Desarrollo del derecho canónico y de la filosofía de la patr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Protección del acerbo cultural greco romano por la iglesia cat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Conversión de los germanos al cristianismo católico y her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Integración del derecho german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8.- El derecho canónico y su aporte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9.- La presencia islámica en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0.-Desarrollo de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aracterísticas del derecho germánico prim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 Derecho principalmente consuetudinario, no 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 Sujeto de derecho de carácter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 La paz social como concepto jurídico; la declaración de 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paz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- Tribunales populares; los j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  Derecho penal arca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- Responsabilidad penal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- Las penas y la compensación pecun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- La prueba de los delitos y las ordal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- Carácter social de la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920"/>
            <a:ext cx="9320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os pueblos germanos y su desplazamiento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entamientos en el Imperio Romano y los desplazamientos 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glos IV y V: godos, francos, suevos, vándalos, anglosaj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ritanos, alamanes, ostrogodos, lombardos, borgoñones,visig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Tracia 376;en Roma 410; en Galia 412, en Hispania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El conocimientos de los pueblos germanos por los ro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El reino visigodo: etapa tolosana 476 -  507 a 5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 toledana 526 -711(unificac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Hispania: 583 conquista del reino s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 Leovigildo ; 622 expulsión del impe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zantino de la Betica por Suint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La conversión al catolicismo del rey Recaredo 589. E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La estructura del Estado: monarquía electiva, aula reg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La sociedad hispano-germana. Integración entre hispano ro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 germanos.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08080"/>
            <a:ext cx="889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Influencia del elemento g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y canónico. Legislación del reino visig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Euric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476. (E. romano vulgar y germ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Breviario de Alar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  502 .506( E.romano  y romano vul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ges:               C.Teodosiano, Gregoriano Hermogeniano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ura:                    Epítome de Gayo, S. de Paulo y Papin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pretatio:      Derecho romano vul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Leovigild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. Mediados del sig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digo de Recesvinto.  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ibro de los Juec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Código de Ervigio. 6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nónico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rmánico                                    Vul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vul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797360"/>
            <a:ext cx="142920" cy="165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3644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 doctrina jurídica de la patrística e Isidoro de Sev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 La patrística y la filosofía jurídica temprano medie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Las obras de Isidoro de Sevilla: Etimologías, Libro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tencias, Hisp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el concept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) la sociedad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el origen, los fines y límites del poder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 Concilio IVde Toledo, canón 75,año 633 Concilio V deTole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ño 636 y la conversión en ley canónica y civil de la doctr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sidorian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92720" y="256068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ona votiva del rey visigodo Recesvinto (653 – 6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131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9:09:51Z</dcterms:created>
  <dc:creator>mfigueroa</dc:creator>
  <dc:description/>
  <dc:language>en-US</dc:language>
  <cp:lastModifiedBy>mfigueroa</cp:lastModifiedBy>
  <dcterms:modified xsi:type="dcterms:W3CDTF">2007-04-26T15:37:31Z</dcterms:modified>
  <cp:revision>24</cp:revision>
  <dc:subject/>
  <dc:title>Diapositiva 1</dc:title>
</cp:coreProperties>
</file>