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FEF-C9DD-4027-80F5-FDE2B462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3F6-25A4-4932-904B-F2E9ACF2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927-41C3-4480-8372-0EFA5BB5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8C1-D1F5-4656-AF7C-29C95B2D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57B-90FE-4DBD-BC60-49636BE5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37D-C70A-45CD-88AA-4055F8B1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6BC-4E34-4B7C-8C32-A238465B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E5E-9CC6-4845-8AEA-67B4AEC0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CF3-B766-4B45-91BD-A9B69AAF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280-4A8B-4150-BCED-0E3EB5CD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515-87DE-4B5D-AAF5-6DD136FF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A41-0C9E-4754-86F7-87918EE0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DCC5-7927-43D6-B71F-E413F9721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3534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92960" y="39600"/>
            <a:ext cx="95536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recho romano y romanización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omanización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omanización jurídic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xtensión del derecho romano privilegio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ves de la ciudad- Estado de Roma a población no romana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rritorios ro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Organización provincial del territorio.( 133 lex proviciae – 197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incias:Citerior y Ulterior; 27 a.C. Tarraconense, Be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sitania; 284, Diocesis de Hispania:Tarraconense. Bet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sitania,Cartaginense, Galicia,Mauritania Tingitana Baleá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Conversión de las ciudades indígenas en ciudades rom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municipio latino -  municipio ro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Concesión de ciudadanía romana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a. Concesiones parciales (74 d. C. a España: E. de Vespas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b. Concesión general: 212 a todos los libres del Imp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titutio Antonin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s de la romanización juríd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Formación del derecho romano 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Vulgarización del derecho occidental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111240"/>
            <a:ext cx="9044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dad Antigua. Derecho Romano y Romanización del Derecho Occident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el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pre        indígenas       ib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os de                                tartes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ccidente           colonos          grie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n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tagin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pansión militar        2ªguerra con Cartago 218 a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a                        206a.C Inicio conquista militar- 133 Num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nínsula Ibérica         19 a.C.Fin conquista militar (Cantabria y Astu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onarquía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754 - 5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lítica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públic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510 a.C - 27 aC. (patricia, patricio-plebe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oma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mper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7a.C- 284 (Principado) 284- 476 (Domin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rca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754 a.C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    del            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lás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s.III a.C   - s. III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romano          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sclás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s. III -535 d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90792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92280"/>
            <a:ext cx="216000" cy="57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141300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81"/>
                </a:lnTo>
                <a:cubicBezTo>
                  <a:pt x="10800" y="9281"/>
                  <a:pt x="5400" y="10181"/>
                  <a:pt x="0" y="10181"/>
                </a:cubicBezTo>
                <a:cubicBezTo>
                  <a:pt x="5400" y="10181"/>
                  <a:pt x="10800" y="11081"/>
                  <a:pt x="10800" y="1198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2924280"/>
            <a:ext cx="360360" cy="72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29"/>
                </a:lnTo>
                <a:cubicBezTo>
                  <a:pt x="10800" y="9329"/>
                  <a:pt x="5400" y="10229"/>
                  <a:pt x="0" y="10229"/>
                </a:cubicBezTo>
                <a:cubicBezTo>
                  <a:pt x="5400" y="10229"/>
                  <a:pt x="10800" y="11129"/>
                  <a:pt x="10800" y="120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422100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508464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1200" y="39600"/>
            <a:ext cx="8841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S DE LA ROMANIZACIÓN JURÍDICA. (Etapa postclás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ncesión de ciudadanía plena a todos los libres del Imperio 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12 extiende la aplicación del derecho romano clásico a todo el Imp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ya se ha iniciado la etapa postclásica del derecho rom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ormación del derecho romano vulg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Derecho clásic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ificado por la costumbre provincial de cada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Vulgarización del derecho romano.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terioro  del derecho clá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o consecuencia de simplificaciones y confu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ACTERÍSTICAS DE LA ETAPA POSTCLÁSICA DEL 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Ausencia del pretor y del procedimiento formul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Desaparición de  los juristas en la creación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Aparición de los jueces funcionarios del Emp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Sustitución del procedimiento formulario del pretor por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dimiento extraordinario del legatii August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Otorgamiento por el Emperador del jus respondendi ex auctoritat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ius a los juristas en leyes de citas (427 Emperadores Valentini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Teodosio:  Papiniano,Ulpiano,Paulo, Gayo, y Modest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 Preeminencia de la ley imperial como fuente del derecho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stitución de la jurisprudencia como creadora de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220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tapa postclásica del derecho romano y los textos de fijación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le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Gregoriano( Siglo III- C.de Adriano y Dioclesiano del 19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  295,Ori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Hermogeniano(.291-324 Dioclesiano, redacción siglo I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Teodosiano. (Constantino a Teodosio. 313-43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mulgada en Occidente en siglo  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i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pítome de Ga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ntencias de Pa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leges y i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ragmenta vaticana  372 – 438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ultatio veteris .( Hecha en Galia, siglos V,  V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llatio legum Mosaicarum.-(Comparación entre Dº roman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íblico heb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derecho romano 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reviario de Alarico ( 506 reino visigodo-tolos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ex romana Burgundionum, ( siglo VI en  Franci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dictum Theodorici, ( siglo VI en Itali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9280" y="260280"/>
          <a:ext cx="885672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8567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9:35:19Z</dcterms:created>
  <dc:creator>mfigueroa</dc:creator>
  <dc:description/>
  <dc:language>en-US</dc:language>
  <cp:lastModifiedBy>derecho</cp:lastModifiedBy>
  <dcterms:modified xsi:type="dcterms:W3CDTF">2007-04-04T15:01:11Z</dcterms:modified>
  <cp:revision>8</cp:revision>
  <dc:subject/>
  <dc:title>Diapositiva 1</dc:title>
</cp:coreProperties>
</file>