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76B-7850-426D-BFA6-D21C1A79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9A0-7C4B-433F-A0F1-0D5567D4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AC2-800A-4662-94F5-DC8D8C9F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F2D-E42D-45E2-A7CA-A587CA89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6F4-3E82-46BB-A91A-FF9273B5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583-2869-4F8E-A9FD-64B3817B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368-43A7-471D-8303-4446A620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C76-2452-49AF-A79B-5B21AD07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829-8E49-4699-AB38-99CE9C40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EFD-8662-47D2-9BBF-933796B6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473-2B8A-433A-B996-A99A27F9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5C0-E486-4E6A-89C5-3D7AB119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E45A-6377-4123-899C-CEB45329B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353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92960" y="39600"/>
            <a:ext cx="95536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recho romano y romanización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omanización jurídic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xtensión del derecho romano privilegio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ves de la ciudad- Estado de Roma a población no romana 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rritorios ro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Organización provincial del territorio.( 133 lex proviciae – 197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vincias:Citerior y Ulterior; 27 a.C. Tarraconense, Be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; 284, Diocesis de Hispania:Tarraconense. Beti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sitania,Cartaginense, Galicia,Mauritania Tingitana Baleá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Conversión de las ciudades indígenas en ciudades rom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municipio latino -  municipio ro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Concesión de ciudadanía romana a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a. Concesiones parciales (74 d. C. a España: E. de Vespas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b. Concesión general: 212 a todos los libres d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stitutio Antonin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Formación del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Vulgarización del derecho occidental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111240"/>
            <a:ext cx="90442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dad Antigua. Derecho Romano y Romanización del Derecho Occident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l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pre        indígenas       ib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os de                                tartes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ccidente           colonos          grie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n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tagin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ansión militar        2ªguerra con Cartago 218 a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omana                        206a.C Inicio conquista militar- 133 Num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nínsula Ibérica         19 a.C.Fin conquista militar (Cantabria y Astu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onarquía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754 - 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lítica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públic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510 a.C - 27 aC. (patricia, patricio-plebe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oma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mper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7a.C- 284 (Principado) 284- 476 (Domin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rca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754 a.C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olución    del  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III a.C   - s. III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romano          etap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osclásic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s. III -535 d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90792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92280"/>
            <a:ext cx="216000" cy="57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141300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81"/>
                </a:lnTo>
                <a:cubicBezTo>
                  <a:pt x="10800" y="9281"/>
                  <a:pt x="5400" y="10181"/>
                  <a:pt x="0" y="10181"/>
                </a:cubicBezTo>
                <a:cubicBezTo>
                  <a:pt x="5400" y="10181"/>
                  <a:pt x="10800" y="11081"/>
                  <a:pt x="10800" y="1198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2924280"/>
            <a:ext cx="360360" cy="72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29"/>
                </a:lnTo>
                <a:cubicBezTo>
                  <a:pt x="10800" y="9329"/>
                  <a:pt x="5400" y="10229"/>
                  <a:pt x="0" y="10229"/>
                </a:cubicBezTo>
                <a:cubicBezTo>
                  <a:pt x="5400" y="10229"/>
                  <a:pt x="10800" y="11129"/>
                  <a:pt x="10800" y="120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422100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5084640"/>
            <a:ext cx="287280" cy="100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1200" y="39600"/>
            <a:ext cx="8841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FECTOS DE LA ROMANIZACIÓN JURÍDICA. (Etapa postclás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ncesión de ciudadanía plena a todos los libres del Imperio 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12 extiende la aplicación del derecho romano clásico a todo el Imp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ando ya se ha iniciado la etapa postclásica del derecho ro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ormación del derecho romano vulg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Derecho clásic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ificado por la costumbre provincial de cada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Vulgarización del derecho romano.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terioro  del derecho clá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o consecuencia de simplificaciones y confu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ACTERÍSTICAS DE LA ETAPA POSTCLÁSICA DEL DERECH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Ausencia del pretor y del procedimiento formul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Desaparición de  los juristas en la creación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Aparición de los jueces funcionarios del Emp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Sustitución del procedimiento formulario del pretor por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dimiento extraordinario del legatii August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Otorgamiento por el Emperador del jus respondendi ex auctoritat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ius a los juristas en leyes de citas (427 Emperadores Valentini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Teodosio:  Papiniano,Ulpiano,Paulo, Gayo, y Modest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 Preeminencia de la ley imperial como fuente del derecho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stitución de la jurisprudencia como creadora de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220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tapa postclásica del derecho romano y los textos de fijación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Gregoriano( Siglo III- C.de Adriano y Dioclesiano del 196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  295,Orie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Hermogeniano(.291-324 Dioclesiano, redacción siglo I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digo Teodosiano. (Constantino a Teodosio. 313-4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mulgada en Occidente en siglo  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pítome de Ga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ntencias de Pa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leges y i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ragmenta vaticana  372 – 438 d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ultatio veteris .( Hecha en Galia, siglos V,  V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llatio legum Mosaicarum.-(Comparación entre Dº roman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íblico heb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copilaciones de derecho romano 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reviario de Alarico ( 506 reino visigodo-tolos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ex romana Burgundionum, ( siglo VI en  Franci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dictum Theodorici, ( siglo VI en Itali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9280" y="260280"/>
          <a:ext cx="885672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8567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9:35:19Z</dcterms:created>
  <dc:creator>mfigueroa</dc:creator>
  <dc:description/>
  <dc:language>en-US</dc:language>
  <cp:lastModifiedBy>derecho</cp:lastModifiedBy>
  <dcterms:modified xsi:type="dcterms:W3CDTF">2007-04-04T15:01:11Z</dcterms:modified>
  <cp:revision>8</cp:revision>
  <dc:subject/>
  <dc:title>Diapositiva 1</dc:title>
</cp:coreProperties>
</file>