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A133-5E1E-4015-BFB2-E5C83D78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DAD-4375-450D-9328-FAC9D7CE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993-24DF-4650-AF8D-5CFDB187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EA2-A4BB-4C7B-80EF-2BA9F90C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D10-7EFA-4A7E-B81E-BD20A189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C45-98D8-42DF-8AA0-91CA8FC8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8AE-A785-4E67-B813-67AE9A09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B43-4A4E-461A-B93E-72C3B284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085-9959-42F7-9836-9F3E1806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CC9-2E94-48A9-B5E5-A561DC9A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624-5AFD-4D4F-B65A-86D7F2D9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D0D-AC53-4B79-9B92-C688196A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FE9E-368A-4A1F-9263-579313C27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5834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ítulo I.  Int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431640"/>
            <a:ext cx="93963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ISTORIA DEL DERECHO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studio de la evolución del Derecho Occidental a través del conocimiento de los cambios producidos en sus normas e instituciones jurídicas y en sus principios (valores) y concepciones sobre el derecho como parte del proceso histórico de la cultura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ISTORICIDAD DEL DER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CEPTO DE DER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stum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.- Normas jurídicas             Jurisprudencia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Jurisprudencia Doctr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echos de la realida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.-Instituciones jurídicas      Valoración social del h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rmativa jdca.  del hecho según valor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. Principios jurí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4.-Concepciones sobre el 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3284640"/>
            <a:ext cx="73080" cy="1296720"/>
          </a:xfrm>
          <a:custGeom>
            <a:avLst/>
            <a:gdLst>
              <a:gd name="textAreaLeft" fmla="*/ 46800 w 73080"/>
              <a:gd name="textAreaRight" fmla="*/ 73440 w 7308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4869000"/>
            <a:ext cx="144720" cy="1081080"/>
          </a:xfrm>
          <a:custGeom>
            <a:avLst/>
            <a:gdLst>
              <a:gd name="textAreaLeft" fmla="*/ 92520 w 144720"/>
              <a:gd name="textAreaRight" fmla="*/ 145080 w 1447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5"/>
                </a:lnTo>
                <a:cubicBezTo>
                  <a:pt x="10800" y="10435"/>
                  <a:pt x="5400" y="11335"/>
                  <a:pt x="0" y="11335"/>
                </a:cubicBezTo>
                <a:cubicBezTo>
                  <a:pt x="5400" y="11335"/>
                  <a:pt x="10800" y="12235"/>
                  <a:pt x="10800" y="131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333360"/>
            <a:ext cx="896472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echo continental europeo o roma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n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ccidental                                         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Derecho del Common law o anglosaj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n en común:             Principios jurí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ertas instituciones jurí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mismos elementos f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arten la concepción científica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fieren:                            Menor influencia de ciertos elementos f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ferentes valor de las fuentes  formales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909720"/>
            <a:ext cx="73080" cy="1511280"/>
          </a:xfrm>
          <a:custGeom>
            <a:avLst/>
            <a:gdLst>
              <a:gd name="textAreaLeft" fmla="*/ 46800 w 73080"/>
              <a:gd name="textAreaRight" fmla="*/ 73440 w 73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31840"/>
            <a:ext cx="835344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058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361800"/>
            <a:ext cx="8136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MENTOS FORMATIVOS DEL DERECHO OCCID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- Derecho ro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- Derecho ger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- Derecho can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- Doctrina del derecho común, “ius commu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- Concepción católica del derech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Concepción racionalista del derech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- Concepción positivista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- Concepciones socialistas sobre 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62064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ERIODIFICACIÓN DE LA HISTORIA DEL DERECHO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-EDAD ANTIGUA. 218 a.C – 476 d.C. Romanización e influenci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istianismo en el derecho. Efectos en el derecho de Espa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-TEMPRANA EDAD MEDIA. 476 – 711. Aporte germano y canónico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echo occidental. Efectos en el derecho de Espa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- ALTA EDAD MEDIA. 711 – 1217. Etapa de variedad jurídica y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ción del derecho castel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- BAJA EDAD MEDIA. 1217 – 1474/1492. Unificación del 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la recepción del derecho común (ius commu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-TIEMPOS MODERNOS. 1492 - 1810.Proyección del derecho castel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América y formación del derecho indi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.- ETAPA CONTEMPORÁNEA. 1810 --- Derecho chileno. Recepción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itucionalismo y la codificación y evolución a través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sitivismo y so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3:39:03Z</dcterms:created>
  <dc:creator>mfigueroa</dc:creator>
  <dc:description/>
  <dc:language>en-US</dc:language>
  <cp:lastModifiedBy>mfigueroa</cp:lastModifiedBy>
  <dcterms:modified xsi:type="dcterms:W3CDTF">2007-03-14T15:57:37Z</dcterms:modified>
  <cp:revision>12</cp:revision>
  <dc:subject/>
  <dc:title>Capítulo I. Introducción</dc:title>
</cp:coreProperties>
</file>