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3510-0F8E-4F01-8E5B-CFF43F38C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1171-3C84-4416-911D-8EF85BA60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4337-0874-4158-8A3D-8AF4BE8CC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D530-D3E1-4D08-B3A0-5E33F94F1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5315-038D-45EA-8BBE-67DC6A19C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79F8-EEEC-490E-8A2E-6F85BF5F8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651C-66A8-46D2-9391-AD346B832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EC8C-BCE7-4FA6-AD87-9FA7D3971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D773-B918-40ED-9062-79C504799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739F-11A5-4C9F-99A1-7E93F97E1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E4F5-6707-4CCB-9CAE-44A28804D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B4BA-F9A8-4F41-9CA6-6D1B33453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47B7B-FE40-449F-B0EF-3D41C01449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42920" y="115920"/>
            <a:ext cx="583416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pítulo I.  Introduc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-360" y="431640"/>
            <a:ext cx="939636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HISTORIA DEL DERECHO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Estudio de la evolución del Derecho Occidental a través del conocimiento de los cambios producidos en sus normas e instituciones jurídicas y en sus principios (valores) y concepciones sobre el derecho como parte del proceso histórico de la cultura occident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HISTORICIDAD DEL DERECH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CONCEPTO DE DERECH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Le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Costumb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1.- Normas jurídicas             Jurisprudencia Judi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Jurisprudencia Doctri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Hechos de la realidad so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2.-Instituciones jurídicas      Valoración social del hec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Normativa jdca.  del hecho según valoración so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3. Principios juríd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4.-Concepciones sobre el Derech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411280" y="3284640"/>
            <a:ext cx="73080" cy="1296720"/>
          </a:xfrm>
          <a:custGeom>
            <a:avLst/>
            <a:gdLst>
              <a:gd name="textAreaLeft" fmla="*/ 46800 w 73080"/>
              <a:gd name="textAreaRight" fmla="*/ 73440 w 73080"/>
              <a:gd name="textAreaTop" fmla="*/ 33480 h 1296720"/>
              <a:gd name="textAreaBottom" fmla="*/ 1263240 h 129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4869000"/>
            <a:ext cx="144720" cy="1081080"/>
          </a:xfrm>
          <a:custGeom>
            <a:avLst/>
            <a:gdLst>
              <a:gd name="textAreaLeft" fmla="*/ 92520 w 144720"/>
              <a:gd name="textAreaRight" fmla="*/ 145080 w 14472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535"/>
                </a:lnTo>
                <a:cubicBezTo>
                  <a:pt x="10800" y="10435"/>
                  <a:pt x="5400" y="11335"/>
                  <a:pt x="0" y="11335"/>
                </a:cubicBezTo>
                <a:cubicBezTo>
                  <a:pt x="5400" y="11335"/>
                  <a:pt x="10800" y="12235"/>
                  <a:pt x="10800" y="13135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79280" y="333360"/>
            <a:ext cx="8964720" cy="599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erecho continental europeo o romano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anón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erech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Occidental                                                                                       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   Derecho del Common law o anglosaj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ienen en común:             Principios juríd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iertas instituciones juríd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os mismos elementos forma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mparten la concepción científica del derec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ifieren:                            Menor influencia de ciertos elementos forma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iferentes valor de las fuentes  formales del derec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627280" y="909720"/>
            <a:ext cx="73080" cy="1511280"/>
          </a:xfrm>
          <a:custGeom>
            <a:avLst/>
            <a:gdLst>
              <a:gd name="textAreaLeft" fmla="*/ 46800 w 73080"/>
              <a:gd name="textAreaRight" fmla="*/ 73440 w 73080"/>
              <a:gd name="textAreaTop" fmla="*/ 39240 h 1511280"/>
              <a:gd name="textAreaBottom" fmla="*/ 1472040 h 151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95280" y="231840"/>
            <a:ext cx="8353440" cy="65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11280" y="115920"/>
            <a:ext cx="7705800" cy="65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68360" y="361800"/>
            <a:ext cx="813600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LEMENTOS FORMATIVOS DEL DERECHO OCCIDENT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- Derecho roma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- Derecho germa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- Derecho canón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- Doctrina del derecho común, “ius commun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.- Concepción católica del derecho natu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.  Concepción racionalista del derecho natu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.- Concepción positivista del derec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.- Concepciones socialistas sobre el derec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95280" y="620640"/>
            <a:ext cx="83534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PERIODIFICACIÓN DE LA HISTORIA DEL DERECHO OCCIDENT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1.-EDAD ANTIGUA. 218 a.C – 476 d.C. Romanización e influencia 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ristianismo en el derecho. Efectos en el derecho de Españ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2.-TEMPRANA EDAD MEDIA. 476 – 711. Aporte germano y canónico 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erecho occidental. Efectos en el derecho de Españ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3.- ALTA EDAD MEDIA. 711 – 1217. Etapa de variedad jurídica y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formación del derecho castella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4.- BAJA EDAD MEDIA. 1217 – 1474/1492. Unificación del derech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ediante la recepción del derecho común (ius commun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5.-TIEMPOS MODERNOS. 1492 - 1810.Proyección del derecho castell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n América y formación del derecho india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6.- ETAPA CONTEMPORÁNEA. 1810 --- Derecho chileno. Recepción d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nstitucionalismo y la codificación y evolución a través d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ositivismo y socialis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2T13:39:03Z</dcterms:created>
  <dc:creator>mfigueroa</dc:creator>
  <dc:description/>
  <dc:language>en-US</dc:language>
  <cp:lastModifiedBy>mfigueroa</cp:lastModifiedBy>
  <dcterms:modified xsi:type="dcterms:W3CDTF">2007-03-14T15:57:37Z</dcterms:modified>
  <cp:revision>12</cp:revision>
  <dc:subject/>
  <dc:title>Capítulo I. Introducción</dc:title>
</cp:coreProperties>
</file>