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6EB-5433-40E9-8E4B-D4169DFC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8A6-9882-447C-9DC9-E0ED6650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BE6-298B-4587-8FBB-D83F66E5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56C-9B39-4A39-B726-ADFF72F5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807-CC87-4CE3-971C-9C2B0178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8BD-EAF8-4441-98D4-4CCC2FA2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1EB-2DC9-402F-A5B0-C1974766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C46-DBBC-4EF2-BD61-B1646238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800-6244-493B-B4C5-F6FD844E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84F-24DE-4F1B-A22D-13037D30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65C0-7BF7-448C-85C8-986C3DA9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E8B-704A-4C51-B39E-28CD6537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BD8F-A3B8-4AC2-8A22-DDEAF16C7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5834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ítulo I.  Int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431640"/>
            <a:ext cx="939636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ISTORIA DEL DERECHO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tudio de la evolución del Derecho Occidental a través del conocimiento de los cambios producidos en sus normas e instituciones jurídicas y en sus principios (valores) y concepciones sobre el derecho como parte del proceso histórico de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ISTORICIDAD DEL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NCEPTO DE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ostum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.- Normas jurídicas             Jurisprudencia Jud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Jurisprudencia Doctr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echos de la realida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.-Instituciones jurídicas      Valoración social del h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ormativa jdca.  del hecho según valo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. Principios jurí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.-Concepciones sobre el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3284640"/>
            <a:ext cx="73080" cy="129672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4869000"/>
            <a:ext cx="144720" cy="108108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35"/>
                </a:lnTo>
                <a:cubicBezTo>
                  <a:pt x="10800" y="10435"/>
                  <a:pt x="5400" y="11335"/>
                  <a:pt x="0" y="11335"/>
                </a:cubicBezTo>
                <a:cubicBezTo>
                  <a:pt x="5400" y="11335"/>
                  <a:pt x="10800" y="12235"/>
                  <a:pt x="10800" y="131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333360"/>
            <a:ext cx="896472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continental europeo o roma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n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ccidental                                                       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Derecho del Common law o anglosaj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n en común:             Principios jurí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ertas instituciones jurí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ismos elementos 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rten la concepción científica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ieren:                            Menor influencia de ciertos elementos form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ferentes valor de las fuentes  formale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909720"/>
            <a:ext cx="73080" cy="1511280"/>
          </a:xfrm>
          <a:custGeom>
            <a:avLst/>
            <a:gdLst>
              <a:gd name="textAreaLeft" fmla="*/ 46800 w 73080"/>
              <a:gd name="textAreaRight" fmla="*/ 7344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3534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7058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361800"/>
            <a:ext cx="813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MENTOS FORMATIVOS DEL DERECHO OCCID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- Derecho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- Derecho ger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- Derecho can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- Doctrina del derecho común, “ius commu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- Concepción católica del derech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Concepción racionalista del derecho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- Concepción positivista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- Concepciones socialistas sobre 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62064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ERIODIFICACIÓN DE LA HISTORIA DEL DERECHO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-EDAD ANTIGUA. 218 a.C – 476 d.C. Romanización e influencia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istianismo en el derecho. Efectos en el derecho de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-TEMPRANA EDAD MEDIA. 476 – 711. Aporte germano y canónico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echo occidental. Efectos en el derecho de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- ALTA EDAD MEDIA. 711 – 1217. Etapa de variedad jurídica y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ción del derecho 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.- BAJA EDAD MEDIA. 1217 – 1474/1492. Unificación del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recepción del derecho común (ius comm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-TIEMPOS MODERNOS. 1492 - 1810.Proyección del derecho castel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América y formación del derecho indi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.- ETAPA CONTEMPORÁNEA. 1810 --- Derecho chileno. Recepción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cionalismo y la codificación y evolución a través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sitivismo y so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3:39:03Z</dcterms:created>
  <dc:creator>mfigueroa</dc:creator>
  <dc:description/>
  <dc:language>en-US</dc:language>
  <cp:lastModifiedBy>mfigueroa</cp:lastModifiedBy>
  <dcterms:modified xsi:type="dcterms:W3CDTF">2007-03-14T15:57:37Z</dcterms:modified>
  <cp:revision>12</cp:revision>
  <dc:subject/>
  <dc:title>Capítulo I. Introducción</dc:title>
</cp:coreProperties>
</file>