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2BE-1299-445E-8D71-BF627F05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0F1-FBCF-4948-BD73-A8204307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D53-E321-4800-A898-4DCE6513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095-7CE6-44C2-BEE1-8799CCBE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F2E-3962-4054-8FED-183809CD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D56-0094-4829-9706-22E8B588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EEC-6A52-41E9-BE82-1D7956FC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154-8F40-48B3-9AAA-0E2DFF79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DDD-065A-40B2-907D-6BDEBF86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86A-3EDA-498C-B250-5F1F2A2B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D06-CA1E-4E8A-BBED-33509306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3E5-8AE1-43DC-AEEC-829A65C8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B42F-63AF-4BC5-B937-04B20FC86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5834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ítulo I.  Int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431640"/>
            <a:ext cx="9396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ISTORIA DEL DERECHO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tudio de la evolución del Derecho Occidental a través del conocimiento de los cambios producidos en sus normas e instituciones jurídicas y en sus principios (valores) y concepciones sobre el derecho como parte del proceso histórico de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ISTORICIDAD DEL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CEPTO DE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stum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.- Normas jurídicas             Jurisprudencia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Jurisprudencia Doctr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echos de la realida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.-Instituciones jurídicas      Valoración social del h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rmativa jdca.  del hecho según valo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. Principios jurí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.-Concepciones sobre el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3284640"/>
            <a:ext cx="73080" cy="129672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4869000"/>
            <a:ext cx="144720" cy="108108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5"/>
                </a:lnTo>
                <a:cubicBezTo>
                  <a:pt x="10800" y="10435"/>
                  <a:pt x="5400" y="11335"/>
                  <a:pt x="0" y="11335"/>
                </a:cubicBezTo>
                <a:cubicBezTo>
                  <a:pt x="5400" y="11335"/>
                  <a:pt x="10800" y="12235"/>
                  <a:pt x="10800" y="131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333360"/>
            <a:ext cx="896472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continental europeo o roma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n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ccidental                                      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Derecho del Common law o anglosaj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en común:             Principios jurí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ertas instituciones jurí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ismos elementos 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rten la concepción científica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ieren:                            Menor influencia de ciertos elementos 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erentes valor de las fuentes  formale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909720"/>
            <a:ext cx="73080" cy="1511280"/>
          </a:xfrm>
          <a:custGeom>
            <a:avLst/>
            <a:gdLst>
              <a:gd name="textAreaLeft" fmla="*/ 46800 w 73080"/>
              <a:gd name="textAreaRight" fmla="*/ 7344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353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361800"/>
            <a:ext cx="813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MENTOS FORMATIVOS DEL DERECHO OCCID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- Derech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- Derecho ger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- Derecho can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- Doctrina del derecho común, “ius commu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- Concepción católica del derech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Concepción racionalista del derech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- Concepción positivista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- Concepciones socialistas sobre 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6206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IODIFICACIÓN DE LA HISTORIA DEL DERECHO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-EDAD ANTIGUA. 218 a.C – 476 d.C. Romanización e influenci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istianismo en el derecho. Efectos en el derecho de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-TEMPRANA EDAD MEDIA. 476 – 711. Aporte germano y canónico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occidental. Efectos en el derecho de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- ALTA EDAD MEDIA. 711 – 1217. Etapa de variedad jurídica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ción del derecho 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- BAJA EDAD MEDIA. 1217 – 1474/1492. Unificación del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recepción del derecho común (ius comm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-TIEMPOS MODERNOS. 1492 - 1810.Proyección del derecho castel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América y formación del derecho indi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.- ETAPA CONTEMPORÁNEA. 1810 --- Derecho chileno. Recep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cionalismo y la codificación y evolución a travé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sitivismo y so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3:39:03Z</dcterms:created>
  <dc:creator>mfigueroa</dc:creator>
  <dc:description/>
  <dc:language>en-US</dc:language>
  <cp:lastModifiedBy>mfigueroa</cp:lastModifiedBy>
  <dcterms:modified xsi:type="dcterms:W3CDTF">2007-03-14T15:57:37Z</dcterms:modified>
  <cp:revision>12</cp:revision>
  <dc:subject/>
  <dc:title>Capítulo I. Introducción</dc:title>
</cp:coreProperties>
</file>