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AD20E2A-C59A-4AFA-AFF4-728870DBC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EFA7EA-09DB-449E-B886-73E9CBBA5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5E5F85E-2B58-4D85-B967-4CC01859B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02D814E-83EF-4995-B575-FF35301AC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1429B-5CCF-41CA-B61F-78363F916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BA6CA-9C51-47B8-9D3D-65E62971F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0409E-2373-41CB-9838-6F4045EAD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2CB77-4268-4A42-8794-E6194360E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45927-D120-4898-9CEF-995B4BF73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9E41A-F0BF-49DE-BD72-A9B6FC5D2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C2BC0-6C5B-444C-86A8-CC3DFE569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C344E3-4625-47BC-99A9-5B04FCE8D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78E5C-6ADB-4C2D-8141-E08205504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A1C74-7DD4-47A2-A8E9-CC25CB11A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5A6E6-6E57-4F74-A646-149BABF85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AC0D9-51D8-4BE9-8502-6798626AF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ECF6E-E054-4241-BC25-76C620191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54EABD-046F-441F-BCD4-4AB6A22FE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63B2E9-7768-47FF-9D4C-032744585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A0A08D-8BC9-4F08-8674-71ECA44B0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51300A-C644-4ECF-8959-AB5BA119A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949F11-D45C-492D-AF8F-D8F0C307B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B14B96-C528-4A49-97F2-4B5699AF7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BA8D84-9E4B-4B28-B296-C1DEAA114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E9AA-5D9B-470C-B275-91C24F5A5E4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7DBD-0ACC-4584-86B8-3C43D19E66E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Relación entre el Derecho Internacional y el Derecho Intern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476360" y="4005360"/>
            <a:ext cx="6400800" cy="24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átedra de Derecho Internacional Públic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yudante Sebastián Quiroz</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Semestre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Jurisprudencia internacional</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Alabama de 1872:</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el gobierno de su Majestad Británica no puede justificarse a si mismo por la falta de normas internas que pudieron haber impedido el zarpe de los barcos…”</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los Nacionales Polacos en Danzig de 1931.</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un Estado no puede alegar en contra de otro Estado su propia constitución con miras a evadir obligaciones que le incumben según el derecho internacional …”</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Acuerdo de Sede en Naciones Unidas (1988)</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Se trató de una opinión consultiva solicitada a la Corte Internacional de Justicia. En esta opotunidad la Corte ratificó el principio de supremacía del derecho internacional. </a:t>
            </a: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acional en el plano intern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ble aspecto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cepción o introducción de la normativa internacional en el orden jurídico interno.</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flicto que pude producirse entre la norma de derecho internacional así incorporada y las normas intern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cepción de la norma internacional en el ordenamiento interno.</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ent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que derivan del  </a:t>
            </a:r>
            <a:r>
              <a:rPr b="0" lang="es-CL" sz="3200" spc="-1" strike="noStrike">
                <a:solidFill>
                  <a:srgbClr val="ffffff"/>
                </a:solidFill>
                <a:latin typeface="Garamond"/>
              </a:rPr>
              <a:t>	</a:t>
            </a:r>
            <a:r>
              <a:rPr b="0" lang="es-CL" sz="3200" spc="-1" strike="noStrike">
                <a:solidFill>
                  <a:srgbClr val="ffffff"/>
                </a:solidFill>
                <a:latin typeface="Garamond"/>
              </a:rPr>
              <a:t>           derecho internacional consuetudinar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de derecho internacional conven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Recepción de la norma internacional consuetudinaria</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s normas de derecho internacional deben ser aplicadas dentro del Estado.</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3 modalidades de incorporació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Dictación de leyes o D.L que reproduzcan </a:t>
            </a:r>
            <a:r>
              <a:rPr b="0" lang="es-CL" sz="3200" spc="-1" strike="noStrike">
                <a:solidFill>
                  <a:srgbClr val="ffffff"/>
                </a:solidFill>
                <a:latin typeface="Garamond"/>
              </a:rPr>
              <a:t>	</a:t>
            </a:r>
            <a:r>
              <a:rPr b="0" lang="es-CL" sz="3200" spc="-1" strike="noStrike">
                <a:solidFill>
                  <a:srgbClr val="ffffff"/>
                </a:solidFill>
                <a:latin typeface="Garamond"/>
              </a:rPr>
              <a:t>   el contenido de ella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Leyes que se remitan a las normas d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erecho internaciona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Recepción “glob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rtículo 25 “Grundgesetz”:</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a:t>
            </a:r>
            <a:r>
              <a:rPr b="0" i="1" lang="es-CL" sz="3200" spc="-1" strike="noStrike">
                <a:solidFill>
                  <a:srgbClr val="ffffff"/>
                </a:solidFill>
                <a:latin typeface="Garamond"/>
              </a:rPr>
              <a:t>Las reglas generales del derecho internacional   </a:t>
            </a:r>
            <a:r>
              <a:rPr b="0" i="1" lang="es-CL" sz="3200" spc="-1" strike="noStrike">
                <a:solidFill>
                  <a:srgbClr val="ffffff"/>
                </a:solidFill>
                <a:latin typeface="Garamond"/>
              </a:rPr>
              <a:t>	</a:t>
            </a:r>
            <a:r>
              <a:rPr b="0" i="1" lang="es-CL" sz="3200" spc="-1" strike="noStrike">
                <a:solidFill>
                  <a:srgbClr val="ffffff"/>
                </a:solidFill>
                <a:latin typeface="Garamond"/>
              </a:rPr>
              <a:t>forman parte integrante del derecho federal. Ellas </a:t>
            </a:r>
            <a:r>
              <a:rPr b="0" i="1" lang="es-CL" sz="3200" spc="-1" strike="noStrike">
                <a:solidFill>
                  <a:srgbClr val="ffffff"/>
                </a:solidFill>
                <a:latin typeface="Garamond"/>
              </a:rPr>
              <a:t>	</a:t>
            </a:r>
            <a:r>
              <a:rPr b="0" i="1" lang="es-CL" sz="3200" spc="-1" strike="noStrike">
                <a:solidFill>
                  <a:srgbClr val="ffffff"/>
                </a:solidFill>
                <a:latin typeface="Garamond"/>
              </a:rPr>
              <a:t>priman sobre las leyes y crean directamente derecho y </a:t>
            </a:r>
            <a:r>
              <a:rPr b="0" i="1" lang="es-CL" sz="3200" spc="-1" strike="noStrike">
                <a:solidFill>
                  <a:srgbClr val="ffffff"/>
                </a:solidFill>
                <a:latin typeface="Garamond"/>
              </a:rPr>
              <a:t>	</a:t>
            </a:r>
            <a:r>
              <a:rPr b="0" i="1" lang="es-CL" sz="3200" spc="-1" strike="noStrike">
                <a:solidFill>
                  <a:srgbClr val="ffffff"/>
                </a:solidFill>
                <a:latin typeface="Garamond"/>
              </a:rPr>
              <a:t>obligaciones para los habitantes del territorio federal”</a:t>
            </a:r>
            <a:endParaRPr b="0" lang="en-US" sz="3200" spc="-1" strike="noStrike">
              <a:solidFill>
                <a:srgbClr val="ffffff"/>
              </a:solidFill>
              <a:latin typeface="Garamond"/>
            </a:endParaRPr>
          </a:p>
          <a:p>
            <a:pPr marL="291600" indent="-2916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ículo 10 constitución italiana: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i="1" lang="es-CL" sz="3200" spc="-1" strike="noStrike">
                <a:solidFill>
                  <a:srgbClr val="ffffff"/>
                </a:solidFill>
                <a:latin typeface="Garamond"/>
              </a:rPr>
              <a:t>El orden jurídico italiano se conforma a las reglas </a:t>
            </a:r>
            <a:r>
              <a:rPr b="0" i="1" lang="es-CL" sz="3200" spc="-1" strike="noStrike">
                <a:solidFill>
                  <a:srgbClr val="ffffff"/>
                </a:solidFill>
                <a:latin typeface="Garamond"/>
              </a:rPr>
              <a:t>	</a:t>
            </a:r>
            <a:r>
              <a:rPr b="0" i="1" lang="es-CL" sz="3200" spc="-1" strike="noStrike">
                <a:solidFill>
                  <a:srgbClr val="ffffff"/>
                </a:solidFill>
                <a:latin typeface="Garamond"/>
              </a:rPr>
              <a:t>del derecho internacional generalmente reconocidas”</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lang="es-CL" sz="3200" spc="-1" strike="noStrike">
                <a:solidFill>
                  <a:srgbClr val="ffffff"/>
                </a:solidFill>
                <a:latin typeface="Garamond"/>
              </a:rPr>
              <a:t>U.K </a:t>
            </a:r>
            <a:r>
              <a:rPr b="0" i="1" lang="es-CL" sz="3200" spc="-1" strike="noStrike">
                <a:solidFill>
                  <a:srgbClr val="ffffff"/>
                </a:solidFill>
                <a:latin typeface="Garamond"/>
              </a:rPr>
              <a:t>“ International law is a part of the law of the l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Recepción de los tratados</a:t>
            </a:r>
            <a:endParaRPr b="1" lang="en-US" sz="32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n tratado NO es conocido por los jueces nacionales </a:t>
            </a:r>
            <a:r>
              <a:rPr b="0" lang="es-CL"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Necesita de un acto interno del Est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recho internacional, no impone una vía única de recep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exige el cumplimiento cabal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tratado.</a:t>
            </a:r>
            <a:endParaRPr b="0" lang="en-US" sz="3200" spc="-1" strike="noStrike">
              <a:solidFill>
                <a:srgbClr val="ffffff"/>
              </a:solidFill>
              <a:latin typeface="Garamond"/>
            </a:endParaRPr>
          </a:p>
        </p:txBody>
      </p:sp>
      <p:sp>
        <p:nvSpPr>
          <p:cNvPr id="131" name=""/>
          <p:cNvSpPr/>
          <p:nvPr/>
        </p:nvSpPr>
        <p:spPr>
          <a:xfrm>
            <a:off x="2340000" y="4508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340000" y="4724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repeatCount="100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odalidades para efectuar la ejecución de un tratado:</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stado dicta una ley que reproduzca el contenido de las obligaciones convencionales.</a:t>
            </a: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os Estados exigen la aprobación de órganos internos, aquí se incoporan al ordenamiento jurídico interno mediante una formalidad determinad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ublicación oficial  (Franci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mulgación y publicación (Chile)</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clamación (EE.U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Conflicto entre normas internacionales y nacionales.</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erarquía de las normas internacionales una vez incorporada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eces deben interpretar de manera conciliatoria (evitar el conflict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uesta le cabe a cada Estad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az que distinguir dos situaciones:</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D° Int. Consuetudinario y </a:t>
            </a:r>
            <a:r>
              <a:rPr b="0" lang="es-CL" sz="3200" spc="-1" strike="noStrike">
                <a:solidFill>
                  <a:srgbClr val="ffffff"/>
                </a:solidFill>
                <a:latin typeface="Garamond"/>
              </a:rPr>
              <a:t>	</a:t>
            </a:r>
            <a:r>
              <a:rPr b="0" lang="es-CL" sz="3200" spc="-1" strike="noStrike">
                <a:solidFill>
                  <a:srgbClr val="ffffff"/>
                </a:solidFill>
                <a:latin typeface="Garamond"/>
              </a:rPr>
              <a:t> ley interna</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tratado y ley interna</a:t>
            </a:r>
            <a:endParaRPr b="0" lang="en-US" sz="32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repeatCount="1000">
                                  <p:stCondLst>
                                    <p:cond delay="0"/>
                                  </p:stCondLst>
                                  <p:childTnLst>
                                    <p:set>
                                      <p:cBhvr>
                                        <p:cTn id="2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35">
                                            <p:txEl>
                                              <p:pRg st="3" end="3"/>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135">
                                            <p:txEl>
                                              <p:pRg st="4" end="4"/>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fontScale="98000"/>
          </a:bodyPr>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   </a:t>
            </a:r>
            <a:r>
              <a:rPr b="0" lang="es-CL" sz="2000" spc="-1" strike="noStrike" u="sng">
                <a:solidFill>
                  <a:srgbClr val="ffffff"/>
                </a:solidFill>
                <a:uFillTx/>
                <a:latin typeface="Garamond"/>
              </a:rPr>
              <a:t>Doctrina de la prevalencia de la ley nacional</a:t>
            </a:r>
            <a:r>
              <a:rPr b="0" lang="es-CL" sz="2000" spc="-1" strike="noStrike">
                <a:solidFill>
                  <a:srgbClr val="ffffff"/>
                </a:solidFill>
                <a:latin typeface="Garamond"/>
              </a:rPr>
              <a:t>:</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Juez nacional es un órgano del Estad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Funciones y atribuciones derivadas del ordenamiento jurídico 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No le corresponde averiguar si las leyes de su soberano son no contrarias al derecho inter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Puede surgir responsabilidad para el Estado, cuando norma es contraria al d° int. </a:t>
            </a:r>
            <a:r>
              <a:rPr b="0" lang="es-CL" sz="2000" spc="-1" strike="noStrike">
                <a:solidFill>
                  <a:srgbClr val="ffffff"/>
                </a:solidFill>
                <a:latin typeface="Wingdings"/>
                <a:ea typeface="Wingdings"/>
              </a:rPr>
              <a:t></a:t>
            </a:r>
            <a:r>
              <a:rPr b="0" lang="es-CL" sz="2000" spc="-1" strike="noStrike">
                <a:solidFill>
                  <a:srgbClr val="ffffff"/>
                </a:solidFill>
                <a:latin typeface="Garamond"/>
              </a:rPr>
              <a:t> no incumbe al juez, sino al legislativ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i)   </a:t>
            </a:r>
            <a:r>
              <a:rPr b="0" lang="es-CL" sz="2000" spc="-1" strike="noStrike" u="sng">
                <a:solidFill>
                  <a:srgbClr val="ffffff"/>
                </a:solidFill>
                <a:uFillTx/>
                <a:latin typeface="Garamond"/>
              </a:rPr>
              <a:t>Doctrina de primacía del D°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Lo general es que se de la recepción global del derecho int. Consuetudinario, pero con una importante limitación; en caso de un conflicto inevitable la ley interna prevalece, en el plano interno, por sobre la norma internacional consuetudinaria.</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Alemania caso, en que sí hay primacía del derecho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Conflicto entre normas consuetudinarias y norma interna:</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Conflicto entre derecho convencional y norma interna</a:t>
            </a:r>
            <a:endParaRPr b="1" lang="en-US" sz="32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ayoría de los países entiende que el tratado tiene un valor interno igual o superior a la le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istinguir si el tratado es anterior o posterior a la ley interna que genera el conflict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i la ley es anterior al tratado las disposiciones de éste prevalec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Caso de que la ley es posterior al tratado </a:t>
            </a:r>
            <a:r>
              <a:rPr b="0" lang="es-CL" sz="2800" spc="-1" strike="noStrike">
                <a:solidFill>
                  <a:srgbClr val="ffffff"/>
                </a:solidFill>
                <a:latin typeface="Wingdings"/>
                <a:ea typeface="Wingdings"/>
              </a:rPr>
              <a:t></a:t>
            </a:r>
            <a:r>
              <a:rPr b="0" lang="es-CL" sz="2800" spc="-1" strike="noStrike">
                <a:solidFill>
                  <a:srgbClr val="ffffff"/>
                </a:solidFill>
                <a:latin typeface="Garamond"/>
              </a:rPr>
              <a:t>Respuesta en el sistema constitucional del Estado respectiv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flicto entre tratado y las normas constituciona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lación d° internacional y d°interno</a:t>
            </a:r>
            <a:br>
              <a:rPr sz="4000"/>
            </a:br>
            <a:r>
              <a:rPr b="1" lang="es-CL" sz="4000" spc="-1" strike="noStrike">
                <a:solidFill>
                  <a:srgbClr val="e5e5ff"/>
                </a:solidFill>
                <a:latin typeface="Garamond"/>
              </a:rPr>
              <a:t>(primera parte)</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TRODUCCIÓN</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erecho como una necesidad soc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Virtualidad del Derecho Internacional</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experiencia</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práctica de los Estados</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jurisprudenci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Ámbito de aplicación                rebasa las áreas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tradicionales” </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dos </a:t>
            </a:r>
            <a:r>
              <a:rPr b="0" lang="es-CL" sz="2800" spc="-1" strike="noStrike">
                <a:solidFill>
                  <a:srgbClr val="ffffff"/>
                </a:solidFill>
                <a:latin typeface="Wingdings"/>
                <a:ea typeface="Wingdings"/>
              </a:rPr>
              <a:t></a:t>
            </a:r>
            <a:r>
              <a:rPr b="0" lang="es-CL" sz="2800" spc="-1" strike="noStrike">
                <a:solidFill>
                  <a:srgbClr val="ffffff"/>
                </a:solidFill>
                <a:latin typeface="Garamond"/>
              </a:rPr>
              <a:t> entidades abstractas.</a:t>
            </a:r>
            <a:endParaRPr b="0" lang="en-US" sz="2800" spc="-1" strike="noStrike">
              <a:solidFill>
                <a:srgbClr val="ffffff"/>
              </a:solidFill>
              <a:latin typeface="Garamond"/>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 name=""/>
          <p:cNvSpPr/>
          <p:nvPr/>
        </p:nvSpPr>
        <p:spPr>
          <a:xfrm>
            <a:off x="4211640" y="4437000"/>
            <a:ext cx="976320" cy="486000"/>
          </a:xfrm>
          <a:prstGeom prst="right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En todo caso es de vital importancia tener presente, que si un tribunal interno aplica una ley nacional contraria a las obligaciones impuestas por el derecho  internacional habrá cumplido su deber como tribunal nacional, </a:t>
            </a:r>
            <a:r>
              <a:rPr b="0" i="1" lang="es-CL" sz="2800" spc="-1" strike="noStrike">
                <a:solidFill>
                  <a:srgbClr val="ffffff"/>
                </a:solidFill>
                <a:latin typeface="Garamond"/>
              </a:rPr>
              <a:t>pero habrá también cometido un acto ilícito internacional que es fuente de responsabilidad para el Estado</a:t>
            </a:r>
            <a:r>
              <a:rPr b="0" lang="es-CL" sz="2800" spc="-1" strike="noStrike">
                <a:solidFill>
                  <a:srgbClr val="ffffff"/>
                </a:solidFill>
                <a:latin typeface="Garamond"/>
              </a:rPr>
              <a:t>, puesto que éste no puede invocar su derecho interno para eludir sus obligaciones internacionales, como lo establece expresamente el artículo 27 de la Convención de Viena sobre Derecho de los Tratados de 196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400" spc="-1" strike="noStrike">
                <a:solidFill>
                  <a:srgbClr val="e5e5ff"/>
                </a:solidFill>
                <a:latin typeface="Garamond"/>
              </a:rPr>
              <a:t>Aplicación del Derecho Internacional en el ordenamiento jurídico chileno</a:t>
            </a:r>
            <a:endParaRPr b="1" lang="en-US" sz="4400" spc="-1" strike="noStrike">
              <a:solidFill>
                <a:srgbClr val="e5e5ff"/>
              </a:solidFill>
              <a:latin typeface="Garamond"/>
            </a:endParaRPr>
          </a:p>
        </p:txBody>
      </p:sp>
      <p:sp>
        <p:nvSpPr>
          <p:cNvPr id="143"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gunda par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uestro sistema constitucional no contempla una disposición que incorpore expresamente el ordenamiento internacion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titución solo regula la incorporación del derecho internacional convencional. (Arts. 5, 32N°17 y 50 N°1).</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doctrina y los tribun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536040" indent="-536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ta relación da origen a dos grandes temas:</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teór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monismo v/s dualismo</a:t>
            </a:r>
            <a:endParaRPr b="0" lang="en-US" sz="3200" spc="-1" strike="noStrike">
              <a:solidFill>
                <a:srgbClr val="ffffff"/>
              </a:solidFill>
              <a:latin typeface="Garamond"/>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práct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normas aplicables ant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un posible conflicto.</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oceso de incorporación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 Internacional al D° interno”</a:t>
            </a:r>
            <a:endParaRPr b="0" lang="en-US" sz="3200" spc="-1" strike="noStrike">
              <a:solidFill>
                <a:srgbClr val="ffffff"/>
              </a:solidFill>
              <a:latin typeface="Garamond"/>
            </a:endParaRPr>
          </a:p>
        </p:txBody>
      </p:sp>
      <p:sp>
        <p:nvSpPr>
          <p:cNvPr id="106" name=""/>
          <p:cNvSpPr/>
          <p:nvPr/>
        </p:nvSpPr>
        <p:spPr>
          <a:xfrm>
            <a:off x="6084720" y="42926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1.- </a:t>
            </a:r>
            <a:r>
              <a:rPr b="0" lang="es-CL" sz="3200" spc="-1" strike="noStrike" u="sng">
                <a:solidFill>
                  <a:srgbClr val="ffffff"/>
                </a:solidFill>
                <a:uFillTx/>
                <a:latin typeface="Garamond"/>
              </a:rPr>
              <a:t>Monism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stentado por la doctrina naturalista.</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universalidad del </a:t>
            </a:r>
            <a:r>
              <a:rPr b="0" i="1" lang="es-CL" sz="3200" spc="-1" strike="noStrike">
                <a:solidFill>
                  <a:srgbClr val="ffffff"/>
                </a:solidFill>
                <a:latin typeface="Garamond"/>
              </a:rPr>
              <a:t>derecho natu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al derecho internacional y al derecho interno como partes integrantes de </a:t>
            </a:r>
            <a:r>
              <a:rPr b="0" i="1" lang="es-CL" sz="3200" spc="-1" strike="noStrike">
                <a:solidFill>
                  <a:srgbClr val="ffffff"/>
                </a:solidFill>
                <a:latin typeface="Garamond"/>
              </a:rPr>
              <a:t>un mismo sistema jurídic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premacía de la norma internacional por sobre la nacion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
          <p:cNvSpPr/>
          <p:nvPr/>
        </p:nvSpPr>
        <p:spPr>
          <a:xfrm>
            <a:off x="1187280" y="285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187280" y="306864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5434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Hans Kelsen </a:t>
            </a:r>
            <a:r>
              <a:rPr b="0" lang="es-CL" sz="2400" spc="-1" strike="noStrike">
                <a:solidFill>
                  <a:srgbClr val="ffffff"/>
                </a:solidFill>
                <a:latin typeface="Wingdings"/>
                <a:ea typeface="Wingdings"/>
              </a:rPr>
              <a:t></a:t>
            </a:r>
            <a:r>
              <a:rPr b="0" lang="es-CL" sz="2400" spc="-1" strike="noStrike">
                <a:solidFill>
                  <a:srgbClr val="ffffff"/>
                </a:solidFill>
                <a:latin typeface="Garamond"/>
              </a:rPr>
              <a:t> </a:t>
            </a:r>
            <a:endParaRPr b="0" lang="en-US" sz="2400" spc="-1" strike="noStrike">
              <a:solidFill>
                <a:srgbClr val="ffffff"/>
              </a:solidFill>
              <a:latin typeface="Garamond"/>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Garamond"/>
              </a:rPr>
              <a:t>“… </a:t>
            </a:r>
            <a:r>
              <a:rPr b="0" i="1" lang="es-CL" sz="2400" spc="-1" strike="noStrike">
                <a:solidFill>
                  <a:srgbClr val="ffffff"/>
                </a:solidFill>
                <a:latin typeface="Garamond"/>
              </a:rPr>
              <a:t>todo derecho constituye una unidad normativa un sistema único en que las normas están subordinadas jerárquicamente unas a otras; dentro de esta jerarquía el Derecho internacional encuentra una posición privilegiadas en relación con el derecho interno, el que está subordinado al primero en una relación de derivación”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Lauterprecht </a:t>
            </a:r>
            <a:r>
              <a:rPr b="0" lang="es-CL" sz="2400" spc="-1" strike="noStrike">
                <a:solidFill>
                  <a:srgbClr val="ffffff"/>
                </a:solidFill>
                <a:latin typeface="Wingdings"/>
                <a:ea typeface="Wingdings"/>
              </a:rPr>
              <a:t></a:t>
            </a:r>
            <a:r>
              <a:rPr b="0" lang="es-CL" sz="2400" spc="-1" strike="noStrike">
                <a:solidFill>
                  <a:srgbClr val="ffffff"/>
                </a:solidFill>
                <a:latin typeface="Garamond"/>
              </a:rPr>
              <a:t>  norma internacional prevalece por tener como fin último el proteger a los individuo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Karl Döhring </a:t>
            </a:r>
            <a:r>
              <a:rPr b="0" lang="es-CL" sz="2400" spc="-1" strike="noStrike">
                <a:solidFill>
                  <a:srgbClr val="ffffff"/>
                </a:solidFill>
                <a:latin typeface="Wingdings"/>
                <a:ea typeface="Wingdings"/>
              </a:rPr>
              <a:t></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acional</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moderad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endParaRPr b="0" lang="en-US" sz="24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exponen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a:t>
            </a:r>
            <a:r>
              <a:rPr b="0" lang="es-CL" sz="3200" spc="-1" strike="noStrike" u="sng">
                <a:solidFill>
                  <a:srgbClr val="ffffff"/>
                </a:solidFill>
                <a:uFillTx/>
                <a:latin typeface="Garamond"/>
              </a:rPr>
              <a:t>Dualism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igado directamente a las doctrinas positivitas.</a:t>
            </a: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incipio de soberanía.</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que el derecho internacional y el derecho interno forman parte de </a:t>
            </a:r>
            <a:r>
              <a:rPr b="0" i="1" lang="es-CL" sz="3200" spc="-1" strike="noStrike">
                <a:solidFill>
                  <a:srgbClr val="ffffff"/>
                </a:solidFill>
                <a:latin typeface="Garamond"/>
              </a:rPr>
              <a:t>dos sistemas jurídicos independientes.</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tiene el poder de crear o modificar las normas del otr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 lo que hoy por hoy predomina en la práctica de las naciones.</a:t>
            </a:r>
            <a:endParaRPr b="0" lang="en-US" sz="3200" spc="-1" strike="noStrike">
              <a:solidFill>
                <a:srgbClr val="ffffff"/>
              </a:solidFill>
              <a:latin typeface="Garamond"/>
            </a:endParaRPr>
          </a:p>
          <a:p>
            <a:pPr marL="572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
          <p:cNvSpPr/>
          <p:nvPr/>
        </p:nvSpPr>
        <p:spPr>
          <a:xfrm>
            <a:off x="1403280" y="1700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03280" y="191628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bate teórico se encuentra prácticamente agot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vergencias doctrinales son más bien teóricas; los autores llegan a las mismas conclusiones práctica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expuestos se encuentra de manera pura reflejado en la praxi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Ya sea que los tribunales sigan una doctrina monista o dualista, son los ordenamientos constitucionales de cada Est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 modo de resume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no ha asumido una posición dualista ni monist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norma común acerca de la forma de hacer imperativa la norma internacional en el plano intern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internacional se limita a establecer que los Estados deben cumplir sus obligaciones interna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o por tribunales internacionales.</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rtículo 27 Convención de Viena:</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a:t>
            </a:r>
            <a:r>
              <a:rPr b="0" i="1" lang="es-CL" sz="2800" spc="-1" strike="noStrike">
                <a:solidFill>
                  <a:srgbClr val="ffffff"/>
                </a:solidFill>
                <a:latin typeface="Garamond"/>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 norma sólo se refiere a la responsabilidad del Estado.</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 acto interno contrario a la norma internacional puede reconocido internamente como válido, pero los estados no se encuentran obligados a reconocer sus efectos exter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2:23:01Z</dcterms:created>
  <dc:creator>SEBASTIAN QUIROZ</dc:creator>
  <dc:description/>
  <dc:language>en-US</dc:language>
  <cp:lastModifiedBy>SEBASTIAN QUIROZ</cp:lastModifiedBy>
  <dcterms:modified xsi:type="dcterms:W3CDTF">2006-11-07T15:05:39Z</dcterms:modified>
  <cp:revision>7</cp:revision>
  <dc:subject/>
  <dc:title>Relación entre el Derecho Internacional y el Derecho Interno.</dc:title>
</cp:coreProperties>
</file>