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1E39BE0-C365-46D6-9E34-9FB1E3153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31C867-AF69-4401-8B88-C4C49B030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486795F-FCD6-4A5B-B7B2-56BA5C8A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964942A-409D-476D-8234-3E9165E68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AE374-8B45-4644-AC08-97321147E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FFC46-F16E-40C5-BAEC-25827CE0A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4392F-AB54-46C5-864C-F477DB911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CD379-A23F-467A-8642-BA7B7C976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C462A-FC6E-4988-9ED0-F92E091FD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393DC-BF33-4BCE-8AAD-34D7A9DA1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63045-690E-4093-BD6A-E4ADCF132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2D134E-956D-4188-8763-4C0F9CD59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BA405-8C4F-40FA-B324-232E7CA10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51B88-6997-469E-8D4D-94BD814EA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958FE-B08A-47C0-9382-892DA0245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6D254-FD32-4048-B05D-3FCAC71E0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A1636-4C9F-4C30-AB74-493758B05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2A14CC-4FEB-40F5-8B8B-7A3F9D3B3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25DC339-A6A3-4290-8AD8-F240B201B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FEBB47-1835-4147-951E-D0A9AA140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241C3D-05D8-46AB-9091-814BD96A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FA448C-345F-40B8-AE3E-8A7D2BD9D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CE9B06-E758-4C56-BE28-22DF78BB5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4BB596-57BA-48CE-85C5-324474756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681C-4E65-41B8-8E0E-104AD12FC4A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7A93-B09D-435C-89F0-4DE66637DE3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olo regula la incorporación del derecho internacional convencional. (Arts. 5, 32N°17 y 50 N°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doctrina y los tribun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6-11-07T15:05:39Z</dcterms:modified>
  <cp:revision>7</cp:revision>
  <dc:subject/>
  <dc:title>Relación entre el Derecho Internacional y el Derecho Interno.</dc:title>
</cp:coreProperties>
</file>