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2559444-8D30-48CB-B86E-0EF359A51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A69633E-56A2-4988-80E2-8C7AFF48E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856995B-22EA-4228-8EC7-1A424FEB1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766FC43-1F48-43F4-A3C3-D628BF622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3DD05A-597B-4D98-B5FF-71EAFFFDE7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153E7-8ECD-48F8-AFAB-32CCDEF03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627D6-44B6-4F11-B95D-4947E8F15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0A293-1985-4166-94B7-9CF83D2EB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D55E1-CD3C-4019-A2AF-E5E415B68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9C2C0-1812-4C15-ABCC-397F71568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2CDDD-E86E-494A-8C1B-7B312C6F4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06042F3-FB76-4006-B6A8-33D4D2522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53A7D-9016-484A-BDCA-415981A68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8D822-7B29-4B4C-A33E-5E7608E39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D59FE-FF15-422F-B439-11497DC8E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FA113D-2D06-4D07-AB38-65975FDA78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6E60D3-29D0-4E39-ADE7-102642FBA6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31B87B0-110F-4120-9F01-2874846B9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710F54B-FC20-4740-9F25-576A2AD3A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F6D0357-87AD-447A-AC4D-48868ABCF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CE6BEBC-CAE6-4742-88AB-E1944BEE4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F2B1EF8-1FDA-4826-8522-A19A577A1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5CD7C20-756B-4F0A-A4AD-3282D36E0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2CC506B-0EEE-4DA1-9DEA-D6D649C95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76ACC-88F1-4F11-8AC5-609759D64918}" type="slidenum">
              <a:rPr b="0" lang="en-US" sz="1200" spc="-1" strike="noStrike">
                <a:solidFill>
                  <a:srgbClr val="ffff00"/>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lick to edit the title text format</a:t>
            </a:r>
            <a:endParaRPr b="1" lang="en-US" sz="4400" spc="-1" strike="noStrike">
              <a:solidFill>
                <a:srgbClr val="ffff00"/>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Click to edit the outline text format</a:t>
            </a:r>
            <a:endParaRPr b="0" lang="en-US" sz="3200" spc="-1" strike="noStrike">
              <a:solidFill>
                <a:srgbClr val="ffff00"/>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econd Outline Level</a:t>
            </a:r>
            <a:endParaRPr b="0" lang="en-US" sz="3200" spc="-1" strike="noStrike">
              <a:solidFill>
                <a:srgbClr val="ffff00"/>
              </a:solidFill>
              <a:latin typeface="Garamond"/>
            </a:endParaRPr>
          </a:p>
          <a:p>
            <a:pPr lvl="2" marL="1143000" indent="-22860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Third Outline Level</a:t>
            </a:r>
            <a:endParaRPr b="0" lang="en-US" sz="3200" spc="-1" strike="noStrike">
              <a:solidFill>
                <a:srgbClr val="ffff00"/>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Fourth Outline Level</a:t>
            </a:r>
            <a:endParaRPr b="0" lang="en-US" sz="3200" spc="-1" strike="noStrike">
              <a:solidFill>
                <a:srgbClr val="ffff00"/>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Fifth Outline Level</a:t>
            </a:r>
            <a:endParaRPr b="0" lang="en-US" sz="3200" spc="-1" strike="noStrike">
              <a:solidFill>
                <a:srgbClr val="ffff00"/>
              </a:solidFill>
              <a:latin typeface="Garamond"/>
            </a:endParaRPr>
          </a:p>
          <a:p>
            <a:pPr lvl="5" marL="2057400" indent="-22860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ixth Outline Level</a:t>
            </a:r>
            <a:endParaRPr b="0" lang="en-US" sz="3200" spc="-1" strike="noStrike">
              <a:solidFill>
                <a:srgbClr val="ffff00"/>
              </a:solidFill>
              <a:latin typeface="Garamond"/>
            </a:endParaRPr>
          </a:p>
          <a:p>
            <a:pPr lvl="6" marL="2057400" indent="-22860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eventh Outline Level</a:t>
            </a:r>
            <a:endParaRPr b="0" lang="en-US" sz="3200" spc="-1" strike="noStrike">
              <a:solidFill>
                <a:srgbClr val="ffff00"/>
              </a:solidFill>
              <a:latin typeface="Garamond"/>
            </a:endParaRPr>
          </a:p>
        </p:txBody>
      </p:sp>
      <p:sp>
        <p:nvSpPr>
          <p:cNvPr id="1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1" name=""/>
          <p:cNvGrpSpPr/>
          <p:nvPr/>
        </p:nvGrpSpPr>
        <p:grpSpPr>
          <a:xfrm>
            <a:off x="0" y="0"/>
            <a:ext cx="9140760" cy="6850080"/>
            <a:chOff x="0" y="0"/>
            <a:chExt cx="9140760" cy="6850080"/>
          </a:xfrm>
        </p:grpSpPr>
        <p:grpSp>
          <p:nvGrpSpPr>
            <p:cNvPr id="52" name=""/>
            <p:cNvGrpSpPr/>
            <p:nvPr/>
          </p:nvGrpSpPr>
          <p:grpSpPr>
            <a:xfrm>
              <a:off x="2743200" y="3540240"/>
              <a:ext cx="6392880" cy="3309840"/>
              <a:chOff x="2743200" y="3540240"/>
              <a:chExt cx="6392880" cy="3309840"/>
            </a:xfrm>
          </p:grpSpPr>
          <p:sp>
            <p:nvSpPr>
              <p:cNvPr id="5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58"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9"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6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Garamond"/>
              </a:rPr>
              <a:t>Click to edit the title text format</a:t>
            </a:r>
            <a:endParaRPr b="1" lang="en-US" sz="6000" spc="-1" strike="noStrike">
              <a:solidFill>
                <a:srgbClr val="ffff00"/>
              </a:solidFill>
              <a:latin typeface="Garamond"/>
            </a:endParaRPr>
          </a:p>
        </p:txBody>
      </p:sp>
      <p:sp>
        <p:nvSpPr>
          <p:cNvPr id="61"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t;date/time&gt;</a:t>
            </a:r>
            <a:endParaRPr b="0" lang="en-US" sz="1200" spc="-1" strike="noStrike">
              <a:solidFill>
                <a:srgbClr val="000000"/>
              </a:solidFill>
              <a:latin typeface="Arial"/>
            </a:endParaRPr>
          </a:p>
        </p:txBody>
      </p:sp>
      <p:sp>
        <p:nvSpPr>
          <p:cNvPr id="62"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t;footer&gt;</a:t>
            </a:r>
            <a:endParaRPr b="0" lang="en-US" sz="1200" spc="-1" strike="noStrike">
              <a:solidFill>
                <a:srgbClr val="000000"/>
              </a:solidFill>
              <a:latin typeface="Arial"/>
            </a:endParaRPr>
          </a:p>
        </p:txBody>
      </p:sp>
      <p:sp>
        <p:nvSpPr>
          <p:cNvPr id="63"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5CAC-2CDE-4498-BE2D-04875434967A}" type="slidenum">
              <a:rPr b="0" lang="en-US" sz="1200" spc="-1" strike="noStrike">
                <a:solidFill>
                  <a:srgbClr val="ffff00"/>
                </a:solidFill>
                <a:latin typeface="Arial"/>
              </a:rPr>
              <a:t>&lt;number&gt;</a:t>
            </a:fld>
            <a:endParaRPr b="0" lang="en-US" sz="1200" spc="-1" strike="noStrike">
              <a:solidFill>
                <a:srgbClr val="000000"/>
              </a:solidFill>
              <a:latin typeface="Arial"/>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Click to edit the outline text format</a:t>
            </a:r>
            <a:endParaRPr b="0" lang="en-US" sz="3200" spc="-1" strike="noStrike">
              <a:solidFill>
                <a:srgbClr val="ffff00"/>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Second Outline Level</a:t>
            </a:r>
            <a:endParaRPr b="0" lang="en-US" sz="2800" spc="-1" strike="noStrike">
              <a:solidFill>
                <a:srgbClr val="ffff00"/>
              </a:solidFill>
              <a:latin typeface="Garamond"/>
            </a:endParaRPr>
          </a:p>
          <a:p>
            <a:pPr lvl="2" marL="914400" algn="ctr">
              <a:spcBef>
                <a:spcPts val="601"/>
              </a:spcBef>
              <a:buClr>
                <a:srgbClr val="ffff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Third Outline Level</a:t>
            </a:r>
            <a:endParaRPr b="0" lang="en-US" sz="2400" spc="-1" strike="noStrike">
              <a:solidFill>
                <a:srgbClr val="ffff00"/>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Fourth Outline Level</a:t>
            </a:r>
            <a:endParaRPr b="0" lang="en-US" sz="2000" spc="-1" strike="noStrike">
              <a:solidFill>
                <a:srgbClr val="ffff00"/>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Fifth Outline Level</a:t>
            </a:r>
            <a:endParaRPr b="0" lang="en-US" sz="2000" spc="-1" strike="noStrike">
              <a:solidFill>
                <a:srgbClr val="ffff00"/>
              </a:solidFill>
              <a:latin typeface="Garamond"/>
            </a:endParaRPr>
          </a:p>
          <a:p>
            <a:pPr lvl="5" marL="1828800">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Sixth Outline Level</a:t>
            </a:r>
            <a:endParaRPr b="0" lang="en-US" sz="2000" spc="-1" strike="noStrike">
              <a:solidFill>
                <a:srgbClr val="ffff00"/>
              </a:solidFill>
              <a:latin typeface="Garamond"/>
            </a:endParaRPr>
          </a:p>
          <a:p>
            <a:pPr lvl="6" marL="1828800">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Seventh Outline Level</a:t>
            </a:r>
            <a:endParaRPr b="0" lang="en-US" sz="2000" spc="-1" strike="noStrike">
              <a:solidFill>
                <a:srgbClr val="ffff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1" lang="es-CL" sz="6600" spc="-1" strike="noStrike">
                <a:solidFill>
                  <a:srgbClr val="ffff00"/>
                </a:solidFill>
                <a:latin typeface="Garamond"/>
              </a:rPr>
              <a:t>Sociedades En Comanditas</a:t>
            </a:r>
            <a:endParaRPr b="1" lang="en-US" sz="6600" spc="-1" strike="noStrike">
              <a:solidFill>
                <a:srgbClr val="ffff00"/>
              </a:solidFill>
              <a:latin typeface="Garamond"/>
            </a:endParaRPr>
          </a:p>
        </p:txBody>
      </p:sp>
      <p:sp>
        <p:nvSpPr>
          <p:cNvPr id="102" name="PlaceHolder 2"/>
          <p:cNvSpPr>
            <a:spLocks noGrp="1"/>
          </p:cNvSpPr>
          <p:nvPr>
            <p:ph/>
          </p:nvPr>
        </p:nvSpPr>
        <p:spPr>
          <a:xfrm>
            <a:off x="457200" y="1196640"/>
            <a:ext cx="8229600" cy="470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lasificación</a:t>
            </a:r>
            <a:endParaRPr b="1" lang="en-US" sz="4400" spc="-1" strike="noStrike">
              <a:solidFill>
                <a:srgbClr val="ffff00"/>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xisten dos tipos de sociedades en comandita: (Articulo 471 del Código de Comercio)</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 </a:t>
            </a:r>
            <a:r>
              <a:rPr b="0" lang="en-US" sz="3200" spc="-1" strike="noStrike">
                <a:solidFill>
                  <a:srgbClr val="ffff00"/>
                </a:solidFill>
                <a:latin typeface="Garamond"/>
              </a:rPr>
              <a:t>Sociedad en comandita simple: </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 </a:t>
            </a:r>
            <a:r>
              <a:rPr b="0" lang="en-US" sz="3200" spc="-1" strike="noStrike">
                <a:solidFill>
                  <a:srgbClr val="ffff00"/>
                </a:solidFill>
                <a:latin typeface="Garamond"/>
              </a:rPr>
              <a:t>Sociedad en comandita por acciones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Sociedad en comandita simple</a:t>
            </a:r>
            <a:endParaRPr b="1" lang="en-US" sz="4400" spc="-1" strike="noStrike">
              <a:solidFill>
                <a:srgbClr val="ffff00"/>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Concepto: El Articulo 473 del Código de Comercio señala que “se forma por la reunión de un fondo suministrado en su totalidad por uno o mas socios comanditarios o por estos y los socios gestores a la vez”.</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Sociedad en comandita simple</a:t>
            </a:r>
            <a:endParaRPr b="1" lang="en-US" sz="4400" spc="-1" strike="noStrike">
              <a:solidFill>
                <a:srgbClr val="ffff00"/>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egislación aplicable: La sociedad en comandita simple se rige por las normas especiales contenidas en el párrafo X del titulo VII del código de comercio y se refieren a diversos aspectos de la vida de este tipo de sociedad, cuyo análisis haremos a continuación:</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Garamond"/>
              </a:rPr>
              <a:t>Constitución  y Prueba</a:t>
            </a:r>
            <a:endParaRPr b="1" lang="en-US" sz="4400" spc="-1" strike="noStrike">
              <a:solidFill>
                <a:srgbClr val="ffff00"/>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Garamond"/>
              </a:rPr>
              <a:t>La sociedad comandita simple se forma y prueba como la sociedad colectiva.(art. 474)</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Garamond"/>
              </a:rPr>
              <a:t>Se forma y prueba por escritura publica inscrita en los términos del articulo 354. (art.350)</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Nombre de los socios</a:t>
            </a:r>
            <a:endParaRPr b="1" lang="en-US" sz="4400" spc="-1" strike="noStrike">
              <a:solidFill>
                <a:srgbClr val="ffff00"/>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603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l nombre del socio o los socios comanditarios como lo señala el art. 475 del Código de Comercio, no debe figurar en el extracto de la escritura social, puesto que la inclusión del nombre del o los comanditarios podría inducir a error a los terceros, quienes podrían creer que dichas personas responden también en forma ilimitada y solidaria como los propios gestores.</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Garamond"/>
              </a:rPr>
              <a:t>Nombre de los socios</a:t>
            </a:r>
            <a:endParaRPr b="1" lang="en-US" sz="4400" spc="-1" strike="noStrike">
              <a:solidFill>
                <a:srgbClr val="ffff00"/>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Nuestra legislación no contiene ninguna sanción para el caso de que se infrinja la norma del Art. 474 del código de comercio (que es la que ordena no incluir el nombre del o los comanditarios en el extracto de la escritura social), por lo tanto, nuestra legislación guarda un vacío en esta materia. A juicio del profesor Ricardo Sandoval, la sanción seria la nulidad absoluta fundada en los art. 1681 y 1682 del Código Civil, cuyas reglas son imperativas y que son aplicables en materia comercial en virtud a lo establecido al art.96 del Código de Comercio. </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Razón Social</a:t>
            </a:r>
            <a:endParaRPr b="1" lang="en-US" sz="4400" spc="-1" strike="noStrike">
              <a:solidFill>
                <a:srgbClr val="ffff00"/>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a razón social según lo establecido en el art. 476 del código de comercio la sociedad en comandita se rige por una razón social, que debe comprender necesariamente el nombre del socio gestor si fuese uno solo, o el nombre de uno o mas de los gestores si fueren muchos.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Razón Social</a:t>
            </a:r>
            <a:endParaRPr b="1" lang="en-US" sz="4400" spc="-1" strike="noStrike">
              <a:solidFill>
                <a:srgbClr val="ffff00"/>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El nombre de un socio comanditario no puede ser incluido en la razón social. </a:t>
            </a:r>
            <a:endParaRPr b="0" lang="en-US" sz="2400" spc="-1" strike="noStrike">
              <a:solidFill>
                <a:srgbClr val="ffff00"/>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Las palabras “y compañía” agregadas al nombre de un socio gestor no implican la inclusión del nombre del comanditario en la razón social, ni imponen a este responsabilidades diversas de las que tiene en su carácter de tal. En caso de que se infrinja esta prohibición y que se incluya el nombre de un comanditario en la firma social, el socio que lo permita o tolere “se constituye responsable de todas las obligaciones y perdidas de la sociedad en los mismos términos que el socio gestor” (art. 477 del código de comercio).</a:t>
            </a:r>
            <a:endParaRPr b="0" lang="en-US" sz="2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portes</a:t>
            </a:r>
            <a:endParaRPr b="1" lang="en-US" sz="4400" spc="-1" strike="noStrike">
              <a:solidFill>
                <a:srgbClr val="ffff00"/>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Los aportes: el socio comanditario no puede llevar a la sociedad por vía de aporte, su capacidad, crédito o industria personal, art. 478 del código de comercio. Dicho en otras palabras esta prohibido al socio comanditario hacer aportes de industria en este tipo de sociedades. Sin embargo, el aporte del socio comanditario puede consistir en la comunicación de un secreto de arte o ciencia, con tal que no lo aplique por si mismo ni coopere diariamente a su aplicación (Art. 478 inc.2).  Si el aporte consiste en el mero goce o usufructo, el comanditario no soportara otra perdida que la de los productos de la cosa que constituya su aporte. </a:t>
            </a:r>
            <a:endParaRPr b="0" lang="en-US" sz="2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dministración</a:t>
            </a:r>
            <a:endParaRPr b="1" lang="en-US" sz="4400" spc="-1" strike="noStrike">
              <a:solidFill>
                <a:srgbClr val="ffff00"/>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 </a:t>
            </a:r>
            <a:r>
              <a:rPr b="0" lang="en-US" sz="3200" spc="-1" strike="noStrike">
                <a:solidFill>
                  <a:srgbClr val="ffff00"/>
                </a:solidFill>
                <a:latin typeface="Garamond"/>
              </a:rPr>
              <a:t>Administración: La gestión social en este tipo societario pertenece exclusivamente al o a los socios gestores. Este principio se deduce de la definición que da el código de comercio de la sociedad en comandita en su art. 470.</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Garamond"/>
              </a:rPr>
              <a:t>Sociedades En comanditas</a:t>
            </a:r>
            <a:br>
              <a:rPr sz="5400"/>
            </a:br>
            <a:br>
              <a:rPr sz="5400"/>
            </a:br>
            <a:r>
              <a:rPr b="0" lang="en-US" sz="5400" spc="-1" strike="noStrike">
                <a:solidFill>
                  <a:srgbClr val="ffff00"/>
                </a:solidFill>
                <a:latin typeface="Garamond"/>
              </a:rPr>
              <a:t>- </a:t>
            </a:r>
            <a:r>
              <a:rPr b="1" i="1" lang="en-US" sz="5400" spc="-1" strike="noStrike">
                <a:solidFill>
                  <a:srgbClr val="ffff00"/>
                </a:solidFill>
                <a:latin typeface="Garamond"/>
              </a:rPr>
              <a:t>Origen </a:t>
            </a:r>
            <a:br>
              <a:rPr sz="5400"/>
            </a:br>
            <a:r>
              <a:rPr b="1" i="1" lang="en-US" sz="5400" spc="-1" strike="noStrike">
                <a:solidFill>
                  <a:srgbClr val="ffff00"/>
                </a:solidFill>
                <a:latin typeface="Garamond"/>
              </a:rPr>
              <a:t>- Conceptos</a:t>
            </a:r>
            <a:br>
              <a:rPr sz="5400"/>
            </a:br>
            <a:r>
              <a:rPr b="1" i="1" lang="en-US" sz="5400" spc="-1" strike="noStrike">
                <a:solidFill>
                  <a:srgbClr val="ffff00"/>
                </a:solidFill>
                <a:latin typeface="Garamond"/>
              </a:rPr>
              <a:t>- Características</a:t>
            </a:r>
            <a:br>
              <a:rPr sz="5400"/>
            </a:br>
            <a:r>
              <a:rPr b="1" i="1" lang="en-US" sz="5400" spc="-1" strike="noStrike">
                <a:solidFill>
                  <a:srgbClr val="ffff00"/>
                </a:solidFill>
                <a:latin typeface="Garamond"/>
              </a:rPr>
              <a:t>- Clasificación</a:t>
            </a:r>
            <a:endParaRPr b="1" lang="en-US" sz="5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dministración</a:t>
            </a:r>
            <a:endParaRPr b="1" lang="en-US" sz="4400" spc="-1" strike="noStrike">
              <a:solidFill>
                <a:srgbClr val="ffff00"/>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 ley prohíbe a los comanditarios intervenir en la administración social, ni aun en calidad de apoderados de los socios gestores puede el comanditario ejecutar acto alguno de administración (art.484 del código de comercio).</a:t>
            </a:r>
            <a:endParaRPr b="0" lang="en-US" sz="2800" spc="-1" strike="noStrike">
              <a:solidFill>
                <a:srgbClr val="ffff00"/>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 sanción a esta prohibición esta contenida en el art. 485 del código de comercio de acuerdo con el cual el comanditario quedara solidariamente responsable con los gestores de todas las perdidas y obligaciones de la sociedad, sean anteriores o posteriores a la contravención.</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dministración</a:t>
            </a:r>
            <a:endParaRPr b="1" lang="en-US" sz="4400" spc="-1" strike="noStrike">
              <a:solidFill>
                <a:srgbClr val="ffff00"/>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El art. 487 del código de comercio señala “no son actos administratorios de parte de los comanditarios”: </a:t>
            </a:r>
            <a:endParaRPr b="0" lang="en-US" sz="2400" spc="-1" strike="noStrike">
              <a:solidFill>
                <a:srgbClr val="ffff00"/>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1. Los contratos que por cuenta propia o ajena celebren con los socios gestores; </a:t>
            </a:r>
            <a:endParaRPr b="0" lang="en-US" sz="2400" spc="-1" strike="noStrike">
              <a:solidFill>
                <a:srgbClr val="ffff00"/>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2. El desempeño de una comisión en una plaza distinta de aquella en que se encuentre establecido el domicilio de la sociedad; </a:t>
            </a:r>
            <a:endParaRPr b="0" lang="en-US" sz="2400" spc="-1" strike="noStrike">
              <a:solidFill>
                <a:srgbClr val="ffff00"/>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3. El consejo, examen, inspección, vigilancia y demás actos interiores que pasan entre los socios, siempre que no traben la libre y espontánea acción de los gestores; </a:t>
            </a:r>
            <a:endParaRPr b="0" lang="en-US" sz="2400" spc="-1" strike="noStrike">
              <a:solidFill>
                <a:srgbClr val="ffff00"/>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4. Los actos que colectiva o individualmente ejecuten como comuneros después de la disolución de la sociedad”.</a:t>
            </a:r>
            <a:endParaRPr b="0" lang="en-US" sz="2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dministración</a:t>
            </a:r>
            <a:endParaRPr b="1" lang="en-US" sz="4400" spc="-1" strike="noStrike">
              <a:solidFill>
                <a:srgbClr val="ffff00"/>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l socio comanditario, por tener interés en la sociedad, tiene acceso al control de la gestión social. De conformidad con el Art. 482, puede, ejerciendo su derecho de control de la administración, examinar los libros de contabilidad y en general los documentos sociales. Sin embargo, el socio comanditario que forma un establecimiento similar al que explota la sociedad o toma parte como socio colectivo o comanditario en uno formado por otra persona, pierde el derecho a examinar los documentos sociales, salvo que los intereses de tal empresa no estén en oposición con los de la sociedad (art. 488 del código de comercio). </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Garamond"/>
              </a:rPr>
              <a:t>Responsabilidad Social</a:t>
            </a:r>
            <a:endParaRPr b="1" lang="en-US" sz="4400" spc="-1" strike="noStrike">
              <a:solidFill>
                <a:srgbClr val="ffff00"/>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Distinta es la responsabilidad de los socios gestores con respecto a la de los socios comanditarios. Los primeros responden en forma ilimitada y solidaria de las deudas contraídas bajo la razón social, en iguales términos que los socios colectivos. Los comanditarios, por el contrario, responden solo hasta la concurrencia de sus respectivos aportes prometidos o entregados (art. 483 del código de comercio, Art. 2061 inc. 3 del código civil).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Cesión de los Derechos Sociales </a:t>
            </a:r>
            <a:endParaRPr b="1" lang="en-US" sz="4000" spc="-1" strike="noStrike">
              <a:solidFill>
                <a:srgbClr val="ffff00"/>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 posibilidad de ceder su parte de intereses en la sociedad esta solo abierta para los socios comanditarios que pueden considerarse con toda propiedad como socios capitalistas. La cesión de sus cuota de interés no lleva aparejada la facultad de examinar los libros y documentos de la sociedad mientras esta no haya dado término a sus operaciones (art. 482 de código de comercio). Por el contrario, los socios gestores no pueden ceder sus derechos en la sociedad, rige respecto de ellos la misma prohibición que se aplica a los socios colectivos. </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Prohibición de los Socios </a:t>
            </a:r>
            <a:endParaRPr b="1" lang="en-US" sz="4400" spc="-1" strike="noStrike">
              <a:solidFill>
                <a:srgbClr val="ffff00"/>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os socios gestores están sujetos a las mismas prohibiciones que los socios colectivos (art. 404 del código de comercio). En cambio, los comanditarios no están afectos a estas interdicciones, con la salvedad de que si surge la posibilidad del establecimiento de una competencia desleal entre estos y la sociedad, pierden el derecho a examinar los documentos sociales. (art.488)</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Disolución y Liquidación </a:t>
            </a:r>
            <a:endParaRPr b="1" lang="en-US" sz="4400" spc="-1" strike="noStrike">
              <a:solidFill>
                <a:srgbClr val="ffff00"/>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n lo que a la disolución se refiere, este tipo societario no termina por la muerte de un socio comanditario. La sociedad puede disolverse, por el contrario, en caso de fallecer un socio gestor, a menos que se estipule continuarla con los socios sobrevivientes.</a:t>
            </a:r>
            <a:endParaRPr b="0" lang="en-US" sz="2800" spc="-1" strike="noStrike">
              <a:solidFill>
                <a:srgbClr val="ffff00"/>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s acciones contra los socios gestores no liquidadores prescriben en cuatro años contados de la disolución de la sociedad. </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Sociedad en comandita por Acciones </a:t>
            </a:r>
            <a:endParaRPr b="1" lang="en-US" sz="4000" spc="-1" strike="noStrike">
              <a:solidFill>
                <a:srgbClr val="ffff00"/>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Garamond"/>
              </a:rPr>
              <a:t>Concepto : </a:t>
            </a:r>
            <a:r>
              <a:rPr b="0" lang="es-ES" sz="3200" spc="-1" strike="noStrike">
                <a:solidFill>
                  <a:srgbClr val="ffff00"/>
                </a:solidFill>
                <a:latin typeface="Garamond"/>
              </a:rPr>
              <a:t>el Articulo 473 del Código de Comercio “se constituye por la reunión de un capital dividido en acciones o cupones de acción y suministrado por socios cuyo nombre no aparece en la escritura social”.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apital Social </a:t>
            </a:r>
            <a:endParaRPr b="1" lang="en-US" sz="4400" spc="-1" strike="noStrike">
              <a:solidFill>
                <a:srgbClr val="ffff00"/>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De conformidad con lo prevenido por el art. 492 del código de comercio, el capital social se divide en acciones. Estos títulos negociables representan, al igual que en las sociedades anónimas, la contrapartida del aporte hecho a la sociedad. </a:t>
            </a:r>
            <a:endParaRPr b="0" lang="en-US" sz="3200" spc="-1" strike="noStrike">
              <a:solidFill>
                <a:srgbClr val="ffff00"/>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as acciones de la en comandita deben ser nominativas mientras no hayan sido totalmente enteradas en la caja social.</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apital Social</a:t>
            </a:r>
            <a:endParaRPr b="1" lang="en-US" sz="4400" spc="-1" strike="noStrike">
              <a:solidFill>
                <a:srgbClr val="ffff00"/>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egún el art. 495 inc. 1 del código de comercio señala que “los suscriptores de acciones son responsables, a pesar de cualquiera estipulación en contrario, del monto total de las acciones que hubieren tomado en la sociedad”. Velando la vigencia de este mismo principio “las acciones o cupones de acción no serán negociables sino después de entregadas dos quintas partes de su valor” (art. 495 inc. 2 del código de comercio).</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Origen</a:t>
            </a:r>
            <a:endParaRPr b="1" lang="en-US" sz="4400" spc="-1" strike="noStrike">
              <a:solidFill>
                <a:srgbClr val="ffff00"/>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La sociedad en comandita tiene un origen muy antiguo, ella deriva del llamado </a:t>
            </a:r>
            <a:r>
              <a:rPr b="0" i="1" lang="en-US" sz="2400" spc="-1" strike="noStrike">
                <a:solidFill>
                  <a:srgbClr val="ffff00"/>
                </a:solidFill>
                <a:latin typeface="Garamond"/>
              </a:rPr>
              <a:t>“contrato de encargo”,</a:t>
            </a:r>
            <a:r>
              <a:rPr b="0" lang="en-US" sz="2400" spc="-1" strike="noStrike">
                <a:solidFill>
                  <a:srgbClr val="ffff00"/>
                </a:solidFill>
                <a:latin typeface="Garamond"/>
              </a:rPr>
              <a:t> que permitía, en el antiguo derecho, a los nobles ejercer el comercio sin atentar contra la prohibición dictada en su contra y evitar de este modo la condenación del préstamo a interés tal como era formulada en el derecho canónico.</a:t>
            </a:r>
            <a:endParaRPr b="0" lang="en-US" sz="2400" spc="-1" strike="noStrike">
              <a:solidFill>
                <a:srgbClr val="ffff00"/>
              </a:solidFill>
              <a:latin typeface="Garamond"/>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Ahora como comanditarios estas personas entran en la sociedad aportando fondos; si lo vemos desde un punto de vista actual, podríamos sostener que ellos eran </a:t>
            </a:r>
            <a:r>
              <a:rPr b="0" i="1" lang="en-US" sz="2400" spc="-1" strike="noStrike">
                <a:solidFill>
                  <a:srgbClr val="ffff00"/>
                </a:solidFill>
                <a:latin typeface="Garamond"/>
              </a:rPr>
              <a:t>“colocadores de fondos”</a:t>
            </a:r>
            <a:r>
              <a:rPr b="0" lang="en-US" sz="2400" spc="-1" strike="noStrike">
                <a:solidFill>
                  <a:srgbClr val="ffff00"/>
                </a:solidFill>
                <a:latin typeface="Garamond"/>
              </a:rPr>
              <a:t>, a quienes les interesaba vigilar de lejos la gestión social sin tomar parte en ella frente a los ojos de terceros y respondiendo solo en la medida de los capitales aportados.</a:t>
            </a:r>
            <a:endParaRPr b="0" lang="en-US" sz="2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 </a:t>
            </a:r>
            <a:endParaRPr b="1" lang="en-US" sz="4400" spc="-1" strike="noStrike">
              <a:solidFill>
                <a:srgbClr val="ffff00"/>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Al igual que en las sociedades colectivas comerciales, se requiere el otorgamiento de una escritura publica inscrita en los términos del articulo 354 del código de comercio. Sin embargo, existen ciertas normas especiales al respecto, contenidas en el articulo 493 del mismo cuerpo legal.</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a:t>
            </a:r>
            <a:endParaRPr b="1" lang="en-US" sz="4400" spc="-1" strike="noStrike">
              <a:solidFill>
                <a:srgbClr val="ffff00"/>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n efecto, para que la sociedad en comandita por acciones quede constituida se requiere:</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Que el capital social este suscrito íntegramente.</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Que cada accionista haya enterado al menos la cuarta parte del importe de sus acciones. </a:t>
            </a:r>
            <a:endParaRPr b="0" lang="en-US" sz="3200" spc="-1" strike="noStrike">
              <a:solidFill>
                <a:srgbClr val="ffff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a:t>
            </a:r>
            <a:endParaRPr b="1" lang="en-US" sz="4400" spc="-1" strike="noStrike">
              <a:solidFill>
                <a:srgbClr val="ffff00"/>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Cuando un socio lleva un aporte que no consiste en dinero o estipulare en su favor ventajas particulares, una asamblea general deberá hacer verificar dichos aportes o ventajas, los que serán aprobados en una reunión posterior. Mientras dicha aprobación no medie por el órgano ya indicado, la sociedad no queda definitivamente constituida (art. 496 del código de comercio).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a:t>
            </a:r>
            <a:endParaRPr b="1" lang="en-US" sz="4400" spc="-1" strike="noStrike">
              <a:solidFill>
                <a:srgbClr val="ffff00"/>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 legislación se preocupa asimismo de determinar las reglas de quórum y de mayoría con que funcionara dicha asamblea; el quórum es de la cuarta parte de los accionistas que representen a lo menos la cuarta parte del capital social y la decisión se toma por mayoría de sufragios de accionistas presentes o representados. Los socios que hicieren el aporte en especie o que estipularen las ventajas sometidas a la apreciación de la asamblea, no tienen voto deliberativo (art. 496 inc. Final).</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a:t>
            </a:r>
            <a:endParaRPr b="1" lang="en-US" sz="4400" spc="-1" strike="noStrike">
              <a:solidFill>
                <a:srgbClr val="ffff00"/>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anción por incumplimiento de formalidades: La sociedad en comandita que se constituye en contravención a las exigencias ya indicadas, es nula entre los socios. Así lo dispone el articulo 497 del código de comercio. Sin embargo, los asociados no podrán oponer a terceros esa nulidad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a:t>
            </a:r>
            <a:endParaRPr b="1" lang="en-US" sz="4400" spc="-1" strike="noStrike">
              <a:solidFill>
                <a:srgbClr val="ffff00"/>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En cuanto a los efectos de esta nulidad, vale la pena insistir en que declarada por sentencia judicial nace la responsabilidad de los socios gestores, que es la misma en que incurren los socios colectivos. Lo particular en este caso esta representado por la responsabilidad que afecta a los socios comanditarios que forman parte de la junta de vigilancia, una de cuyas funciones, como veremos a continuación, es velar por la correcta constitución de la sociedad. Esta responsabilidad de los comanditarios tiene su origen en el texto legal (art. 501 del código de comercio), pero se requiere que ella sea declarada por la resolución judicial que pronuncia la nulidad del estatuto social. </a:t>
            </a:r>
            <a:endParaRPr b="0" lang="en-US" sz="2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aramond"/>
              </a:rPr>
              <a:t>Junta de Accionistas</a:t>
            </a:r>
            <a:endParaRPr b="1" lang="en-US" sz="4400" spc="-1" strike="noStrike">
              <a:solidFill>
                <a:srgbClr val="ffff00"/>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sta materia se encuentra tratada en los Artículos 496,498,500 y 506 del Código de Comercio.</a:t>
            </a:r>
            <a:endParaRPr b="0" lang="en-US" sz="2800" spc="-1" strike="noStrike">
              <a:solidFill>
                <a:srgbClr val="ffff00"/>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l art.496 señala que la junta debe verificar y aprobar o rechazar aportes no monetarios y ventajas particulares. </a:t>
            </a:r>
            <a:endParaRPr b="0" lang="en-US" sz="2800" spc="-1" strike="noStrike">
              <a:solidFill>
                <a:srgbClr val="ffff00"/>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os Artículos 498 y 500 se refieren alas reuniones de los accionistas con relación a la junta de vigilancia y el articulo 506 dice  relación con las juntas que traten sobrelas contiendas entre comanditarios y gestores.</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Junta de Vigilancia </a:t>
            </a:r>
            <a:endParaRPr b="1" lang="en-US" sz="4400" spc="-1" strike="noStrike">
              <a:solidFill>
                <a:srgbClr val="ffff00"/>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 función de verificar si se ha ejecutado bien lo que ha decidido corresponde, en la sociedad en comandita por acciones, a la junta de vigilancia. Se trata de un órgano típico de control  interno de la regularidad de la gestión social. </a:t>
            </a:r>
            <a:endParaRPr b="0" lang="en-US" sz="2800" spc="-1" strike="noStrike">
              <a:solidFill>
                <a:srgbClr val="ffff00"/>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sta junta compuesta a lo menos de tres miembros, deberá ser nombrada por la asamblea general inmediatamente después de la constitución definitiva de la sociedad y antes de toda operación social (art. 498 del cogido de comercio). </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Junta de Vigilancia</a:t>
            </a:r>
            <a:endParaRPr b="1" lang="en-US" sz="4400" spc="-1" strike="noStrike">
              <a:solidFill>
                <a:srgbClr val="ffff00"/>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Corresponde a la junta examinar si la sociedad ha sido legalmente constituida, inspeccionar los libros, comprobar la existencia de los valores sociales en caja, en documentos o en cualquiera otra forma y presentar a fin de cada año una memoria acerca de los inventarios y de las preposiciones que el gerente haga para la distribución de dividendos.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Garamond"/>
              </a:rPr>
              <a:t>Bibliografía </a:t>
            </a:r>
            <a:endParaRPr b="1" lang="en-US" sz="4400" spc="-1" strike="noStrike">
              <a:solidFill>
                <a:srgbClr val="ffff00"/>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Garamond"/>
              </a:rPr>
              <a:t>Alvaro Puelma Accorsi “Sociedades” Tomo I</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Garamond"/>
              </a:rPr>
              <a:t>Ricardo Sandoval  López “Derecho Comercial” Tomo I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Origen</a:t>
            </a:r>
            <a:endParaRPr b="1" lang="en-US" sz="4400" spc="-1" strike="noStrike">
              <a:solidFill>
                <a:srgbClr val="ffff00"/>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Desde su origen esta sociedad se caracteriza por la presencia de dos clases de socios:</a:t>
            </a:r>
            <a:endParaRPr b="0" lang="en-US" sz="3200" spc="-1" strike="noStrike">
              <a:solidFill>
                <a:srgbClr val="ffff00"/>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os Comanditarios, que aportan una determinada parte del capital social y que están excluidos de la administración y de la razón social.</a:t>
            </a:r>
            <a:endParaRPr b="0" lang="en-US" sz="3200" spc="-1" strike="noStrike">
              <a:solidFill>
                <a:srgbClr val="ffff00"/>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os Gestores quienes tienen a su cargo la gestión del patrimonio para lograr los fines sociales.</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Origen</a:t>
            </a:r>
            <a:endParaRPr b="1" lang="en-US" sz="4400" spc="-1" strike="noStrike">
              <a:solidFill>
                <a:srgbClr val="ffff00"/>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n la actualidad no tienen gran aplicación, es mas han caído en desuso en nuestro país, puesto que han sido reemplazadas la en comandita simple por la Sociedad de Responsabilidad limitada y la en comandita por acciones se ha sustituido por la Sociedad Anónima.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ceptos </a:t>
            </a:r>
            <a:endParaRPr b="1" lang="en-US" sz="4400" spc="-1" strike="noStrike">
              <a:solidFill>
                <a:srgbClr val="ffff00"/>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l Código Civil chileno en su articulo 2061 inciso 3 señala que es sociedad en comandita “aquella en que uno o mas de los socios se obligan solamente hasta la concurrencia de sus aportes”.</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ceptos</a:t>
            </a:r>
            <a:endParaRPr b="1" lang="en-US" sz="4400" spc="-1" strike="noStrike">
              <a:solidFill>
                <a:srgbClr val="ffff00"/>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Garamond"/>
              </a:rPr>
              <a:t>Por otra parte, el código de comercio en su Art. 470 inc. 1 Parece darnos una definición mas completa de que se entiende por sociedad en comandita: “Sociedad en comandita es la que se celebra entre una o mas personas que prometen llevar a la caja social un determinado aporte, y una o mas personas que se obligan a administrar exclusivamente la sociedad por si o sus delegados y en su nombre particular”</a:t>
            </a:r>
            <a:endParaRPr b="0" lang="en-US" sz="2800" spc="-1" strike="noStrike">
              <a:solidFill>
                <a:srgbClr val="ffff00"/>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Garamond"/>
              </a:rPr>
              <a:t>Llámense los primeros Socios Comanditarios y los segundos Gestores.</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aracterísticas</a:t>
            </a:r>
            <a:endParaRPr b="1" lang="en-US" sz="4400" spc="-1" strike="noStrike">
              <a:solidFill>
                <a:srgbClr val="ffff00"/>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s Solemne porque debe cumplirse con determinadas formalidades para su constitución.</a:t>
            </a:r>
            <a:endParaRPr b="0" lang="en-US" sz="2800" spc="-1" strike="noStrike">
              <a:solidFill>
                <a:srgbClr val="ffff00"/>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l rasgo mas relevante de este tipo de sociedades es la existencia de dos clases de socios.</a:t>
            </a:r>
            <a:endParaRPr b="0" lang="en-US" sz="2800" spc="-1" strike="noStrike">
              <a:solidFill>
                <a:srgbClr val="ffff00"/>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os socios gestores a cargo de la gestión social y responsables en forma ilimitada y solidaria de las obligaciones de la sociedad.</a:t>
            </a:r>
            <a:endParaRPr b="0" lang="en-US" sz="2800" spc="-1" strike="noStrike">
              <a:solidFill>
                <a:srgbClr val="ffff00"/>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os socios comanditarios, ajenos a la administración y cuya responsabilidad esta     limitada al monto de sus aportes.</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aracterísticas</a:t>
            </a:r>
            <a:endParaRPr b="1" lang="en-US" sz="4400" spc="-1" strike="noStrike">
              <a:solidFill>
                <a:srgbClr val="ffff00"/>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Otra característica es que las sociedades en comanditas en caso de silencio de sus estatutos sociales y de normas especiales se rigen por las disposiciones relativas a las sociedades colectivas comerciales, así de conformidad con lo señalado en el Art. 490 del código de comercio cuando señala “en caso de duda la sociedad se reputara colectiva”.</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6T00:18:22Z</dcterms:created>
  <dc:creator>JBLANCO</dc:creator>
  <dc:description/>
  <dc:language>en-US</dc:language>
  <cp:lastModifiedBy>pperello</cp:lastModifiedBy>
  <dcterms:modified xsi:type="dcterms:W3CDTF">2006-08-24T03:39:58Z</dcterms:modified>
  <cp:revision>16</cp:revision>
  <dc:subject/>
  <dc:title>Sociedades En comanditas  - Origen  - Conceptos - Características - Clasificació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56900785</vt:r8>
  </property>
  <property fmtid="{D5CDD505-2E9C-101B-9397-08002B2CF9AE}" pid="3" name="_AuthorEmail">
    <vt:lpwstr>alvaro.parra@parraabogados.cl</vt:lpwstr>
  </property>
  <property fmtid="{D5CDD505-2E9C-101B-9397-08002B2CF9AE}" pid="4" name="_AuthorEmailDisplayName">
    <vt:lpwstr>Alvaro Parra</vt:lpwstr>
  </property>
  <property fmtid="{D5CDD505-2E9C-101B-9397-08002B2CF9AE}" pid="5" name="_EmailSubject">
    <vt:lpwstr>Texto</vt:lpwstr>
  </property>
  <property fmtid="{D5CDD505-2E9C-101B-9397-08002B2CF9AE}" pid="6" name="_ReviewingToolsShownOnce">
    <vt:lpwstr/>
  </property>
</Properties>
</file>