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7A319-1542-4B47-AE9E-99AE4ACE5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FFBC8-BAE7-4D3F-961C-63CAEFBD2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90D43-9FDC-44EA-8397-9F0271570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CC810-DCF8-42C1-BAE1-7162A039D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123C19-8771-4498-AABC-5F07858BA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EBDA7-81C4-46F5-A488-8C2C3522E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A5884-E8BC-4EB6-A7C9-9AFD44534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EB6D8-E9A2-40BF-9153-9E399B1DA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7BF70-E7EE-4FCD-BF33-627BEBF48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3BF86-3F95-4048-8BFE-9A36F5AD1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F8238-2FC5-490D-94AE-45DAA4D4A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A3CAC-6560-4CAA-BBF6-CEACF401D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F8C0B-6711-4BE1-BFCA-B8D29B2AC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EBA26-D3FA-4338-ACEF-F3565B7D6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CA980-AABF-42B0-84AD-B9D5DC1F5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AA046-C828-4B4E-A199-E46EBCD9CF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73C1D7-FDEA-4D62-8C58-5F05D65F0B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E857A-3142-4C76-919C-491B2B005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9B2DA-1141-479F-B7A9-E62C89C72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87EE2-E0A7-4B39-B9E9-502048DB9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9879A-1D12-4BC9-A796-98E4E28FF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9DFEC-4751-4780-9B9C-E7903F916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434F6-B691-462C-9906-8211695C8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A5878-1BEA-4A51-9E39-2412457E3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61E53-0E13-4CE6-9A65-D8DC70D2AF6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FCF1-BC31-4515-95D4-99D5C43C5A9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2.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2.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hyperlink" Target="http://marketrac.nyse.com/" TargetMode="External"/><Relationship Id="rId19" Type="http://schemas.openxmlformats.org/officeDocument/2006/relationships/hyperlink" Target="http://marketrac.nyse.com/" TargetMode="External"/><Relationship Id="rId20" Type="http://schemas.openxmlformats.org/officeDocument/2006/relationships/hyperlink" Target="http://www.nyse.com/about/listed/pvd.html" TargetMode="External"/><Relationship Id="rId21" Type="http://schemas.openxmlformats.org/officeDocument/2006/relationships/hyperlink" Target="http://www.nyse.com/about/listed/pvd.html" TargetMode="External"/><Relationship Id="rId22" Type="http://schemas.openxmlformats.org/officeDocument/2006/relationships/hyperlink" Target="http://www.nyse.com/about/listed/bch.html" TargetMode="External"/><Relationship Id="rId23" Type="http://schemas.openxmlformats.org/officeDocument/2006/relationships/hyperlink" Target="http://www.nyse.com/about/listed/san.html" TargetMode="External"/><Relationship Id="rId24" Type="http://schemas.openxmlformats.org/officeDocument/2006/relationships/hyperlink" Target="http://www.nyse.com/about/listed/ctc.html" TargetMode="External"/><Relationship Id="rId25" Type="http://schemas.openxmlformats.org/officeDocument/2006/relationships/hyperlink" Target="http://www.nyse.com/about/listed/ctc.html" TargetMode="External"/><Relationship Id="rId26" Type="http://schemas.openxmlformats.org/officeDocument/2006/relationships/hyperlink" Target="http://www.nyse.com/about/listed/cu.html" TargetMode="External"/><Relationship Id="rId27" Type="http://schemas.openxmlformats.org/officeDocument/2006/relationships/hyperlink" Target="http://www.nyse.com/about/listed/bca.html" TargetMode="External"/><Relationship Id="rId28" Type="http://schemas.openxmlformats.org/officeDocument/2006/relationships/hyperlink" Target="http://www.nyse.com/about/listed/dys.html" TargetMode="External"/><Relationship Id="rId29" Type="http://schemas.openxmlformats.org/officeDocument/2006/relationships/hyperlink" Target="http://www.nyse.com/about/listed/akoa.html" TargetMode="External"/><Relationship Id="rId30" Type="http://schemas.openxmlformats.org/officeDocument/2006/relationships/hyperlink" Target="http://www.nyse.com/about/listed/akob.html" TargetMode="External"/><Relationship Id="rId31" Type="http://schemas.openxmlformats.org/officeDocument/2006/relationships/hyperlink" Target="http://www.nyse.com/about/listed/eoc.html" TargetMode="External"/><Relationship Id="rId32" Type="http://schemas.openxmlformats.org/officeDocument/2006/relationships/hyperlink" Target="http://www.nyse.com/about/listed/eni.html" TargetMode="External"/><Relationship Id="rId3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MERCADO DE VALORES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MERICAN DEPOSITARY RECEIP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D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ea typeface="Times New Roman"/>
              </a:rPr>
              <a:t>Deposit Agreement</a:t>
            </a:r>
            <a:r>
              <a:rPr b="0" lang="es-ES" sz="3200" spc="-1" strike="noStrike">
                <a:solidFill>
                  <a:srgbClr val="000000"/>
                </a:solidFill>
                <a:latin typeface="Tahoma"/>
                <a:ea typeface="Times New Roman"/>
              </a:rPr>
              <a:t>, es el contrato que celebran el Emisor y el Depositario, y además deberá ser aceptado en el futuro por los titulares de los ADRs. De contrato surge el compromiso del depositario en orden a emitir los ADRs y ADSs y a mantener en depósito estos últimos, entre otro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 </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imes New Roman"/>
              </a:rPr>
              <a:t>Securities and Exchange Commission</a:t>
            </a:r>
            <a:r>
              <a:rPr b="0" lang="es-ES" sz="2400" spc="-1" strike="noStrike">
                <a:solidFill>
                  <a:srgbClr val="000000"/>
                </a:solidFill>
                <a:latin typeface="Tahoma"/>
                <a:ea typeface="Times New Roman"/>
              </a:rPr>
              <a:t>, (SEC) es un organismo público federal de los Estados Unidos, facultado para dictar reglas generales en materia de valores, para compeler al cumplimiento de las leyes federales de valores, y para regular las presentaciones hechas por los Emisores antes de las colocaciones de tales valores. La SEC es el organismo donde deben ser registrados los ADRs con el objeto de proceder a su oferta pública en las bolsas norteamericanas. Asimismo, es la entidad encargada de la fiscalización y control, en el exterior, de la colocación de ADRs y su canje por acciones. Las funciones del SEC son similares a las que la SVS tiene en chile.</a:t>
            </a:r>
            <a:r>
              <a:rPr b="0" lang="es-E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Intervinientes en un proceso de ADR</a:t>
            </a:r>
            <a:endParaRPr b="0" lang="en-US" sz="4400" spc="-1" strike="noStrike">
              <a:solidFill>
                <a:srgbClr val="333399"/>
              </a:solidFill>
              <a:latin typeface="Tahoma"/>
            </a:endParaRPr>
          </a:p>
        </p:txBody>
      </p:sp>
      <p:sp>
        <p:nvSpPr>
          <p:cNvPr id="159" name="PlaceHolder 2"/>
          <p:cNvSpPr>
            <a:spLocks noGrp="1"/>
          </p:cNvSpPr>
          <p:nvPr>
            <p:ph/>
          </p:nvPr>
        </p:nvSpPr>
        <p:spPr>
          <a:xfrm>
            <a:off x="611280" y="227664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EC</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VS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B.Custodio                  S.A.A                 B. Depositari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Underwriter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versionistas Extranjeros               Bolsas Extranjera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160" name=""/>
          <p:cNvSpPr/>
          <p:nvPr/>
        </p:nvSpPr>
        <p:spPr>
          <a:xfrm>
            <a:off x="4716360" y="3933720"/>
            <a:ext cx="1368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859280" y="364500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4284720" y="2708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flipV="1">
            <a:off x="1403280" y="2924280"/>
            <a:ext cx="2448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7380360" y="3933720"/>
            <a:ext cx="21600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2340000" y="37893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716360" y="2492280"/>
            <a:ext cx="1800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276720" y="378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236000" y="479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4355640" y="530064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3132000" y="4076640"/>
            <a:ext cx="93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Tahoma"/>
              </a:rPr>
              <a:t>Tabla comparativa de programas de ADR´s</a:t>
            </a:r>
            <a:endParaRPr b="0" lang="en-US" sz="4000" spc="-1" strike="noStrike">
              <a:solidFill>
                <a:srgbClr val="333399"/>
              </a:solidFill>
              <a:latin typeface="Tahoma"/>
            </a:endParaRPr>
          </a:p>
        </p:txBody>
      </p:sp>
      <p:graphicFrame>
        <p:nvGraphicFramePr>
          <p:cNvPr id="172" name=""/>
          <p:cNvGraphicFramePr/>
          <p:nvPr/>
        </p:nvGraphicFramePr>
        <p:xfrm>
          <a:off x="1182600" y="2017800"/>
          <a:ext cx="7772400" cy="4114800"/>
        </p:xfrm>
        <a:graphic>
          <a:graphicData uri="http://schemas.openxmlformats.org/drawingml/2006/table">
            <a:tbl>
              <a:tblPr/>
              <a:tblGrid>
                <a:gridCol w="1611360"/>
                <a:gridCol w="1373400"/>
                <a:gridCol w="1442880"/>
                <a:gridCol w="1765440"/>
                <a:gridCol w="1579320"/>
              </a:tblGrid>
              <a:tr h="525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TEM</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ÓLO PARA ACCIONES PREEXISTENT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ARA AUMENTAR CAPITAL MEDIANTE NUEVAS EMISIONES DE ACCIO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IVEL I</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IVEL II</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IVEL III</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GLA</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144 - 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SCRIPCIÓN</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 se enlist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 enlista en las principales bolsas norteamericana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 ofrecen y enlistan en las principales bolsas norteamericana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Times New Roman"/>
                        </a:rPr>
                        <a:t>Colocación privada en el mercado norteamericano a QIB´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LUGAR DONDE SE TRANS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ercado OTC</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YSE, AMEX o NASDAQ</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YSE, AMEX o NASDAQ</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ORTA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GISTRO ANTE LA SE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Times New Roman"/>
                        </a:rPr>
                        <a:t>Formulario F-6 Registration Statemen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Times New Roman"/>
                        </a:rPr>
                        <a:t>Formulario F-6 Registration Statemen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Formulario F-1 y F-6 para oferta pública inicial (IP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ingun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2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QUERIMIENTOS DE REPORTES EXIGIDOS POR EL MERCADO NORTEAMERICANO</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Times New Roman"/>
                        </a:rPr>
                        <a:t>Excención de registro bajo la regla 12g3-2(b)</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 debe completar anualmente el formulario 20-F</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 debe completar anualmente el formulario 20-F y para ofertas posteriores se exige completar formularios cortos F-2 y F-3</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Times New Roman"/>
                        </a:rPr>
                        <a:t>Excención 12g3-2(b) o acuerdo de proveer información según se solicite por QIB´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QUERIMIENTOS DE CONCILIACIÓN CON GAAP</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ólo se exige conciliación parcial de estados financiero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nciliación total con US GAAP</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ciones posteriores</a:t>
            </a:r>
            <a:endParaRPr b="0" lang="en-US" sz="44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peración de FLOW BACK</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ancelación de los ADR´s por parte del inversionista extranjero ante el banco depositario</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nuncia del acceso al Mercado Cambiario Formal (MCF) del banco depositario a favor el inversionist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scripción del traspaso de flow back, donde firma como cedente el banco depositario</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scripción del traspaso flow back donde quedan inscritas las acciones a nombre del inversionista extranjero</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misión del certificado del emisor por la inscripción de acciones a nombre del inversionist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enta de las acciones en bolsa local</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scripción del traspaso en el registro del emiso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olicitud de acceso al MCF para remesar al extranjero el producto de la venta y presentación de antecedente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ciones posteriores</a:t>
            </a: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peración de INFLOW</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ción del Banco Central para ingresar capitales a Chil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iquidación de las divisas en el MCF</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pra de acciones en bolsas locales</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scripción de la compra en el Registro del emiso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nuncia del acceso al MCF del inversionista extranjero a favor del banco depositario</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scripción del traspaso inflow, donde firma como cesionario el banco custodio por el banco depositario</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misión de los ADS´s a nombre del inversionista extranjero</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99"/>
                </a:solidFill>
                <a:latin typeface="Tahoma"/>
              </a:rPr>
              <a:t>Empresas chilenas que transan ADR en EE.UU. (NYSE)</a:t>
            </a:r>
            <a:endParaRPr b="0" lang="en-US" sz="4000" spc="-1" strike="noStrike">
              <a:solidFill>
                <a:srgbClr val="333399"/>
              </a:solidFill>
              <a:latin typeface="Tahoma"/>
            </a:endParaRPr>
          </a:p>
        </p:txBody>
      </p:sp>
      <p:pic>
        <p:nvPicPr>
          <p:cNvPr id="102" name="arrow_up_grn" descr=""/>
          <p:cNvPicPr/>
          <p:nvPr/>
        </p:nvPicPr>
        <p:blipFill>
          <a:blip r:embed="rId1"/>
          <a:stretch/>
        </p:blipFill>
        <p:spPr>
          <a:xfrm>
            <a:off x="0" y="-1917720"/>
            <a:ext cx="66600" cy="38160"/>
          </a:xfrm>
          <a:prstGeom prst="rect">
            <a:avLst/>
          </a:prstGeom>
          <a:ln w="0">
            <a:noFill/>
          </a:ln>
        </p:spPr>
      </p:pic>
      <p:pic>
        <p:nvPicPr>
          <p:cNvPr id="103" name="arrow_up_grn" descr=""/>
          <p:cNvPicPr/>
          <p:nvPr/>
        </p:nvPicPr>
        <p:blipFill>
          <a:blip r:embed="rId2"/>
          <a:stretch/>
        </p:blipFill>
        <p:spPr>
          <a:xfrm>
            <a:off x="0" y="-1917720"/>
            <a:ext cx="66600" cy="38160"/>
          </a:xfrm>
          <a:prstGeom prst="rect">
            <a:avLst/>
          </a:prstGeom>
          <a:ln w="0">
            <a:noFill/>
          </a:ln>
        </p:spPr>
      </p:pic>
      <p:pic>
        <p:nvPicPr>
          <p:cNvPr id="104" name="arrow_dwn_red" descr=""/>
          <p:cNvPicPr/>
          <p:nvPr/>
        </p:nvPicPr>
        <p:blipFill>
          <a:blip r:embed="rId3"/>
          <a:stretch/>
        </p:blipFill>
        <p:spPr>
          <a:xfrm>
            <a:off x="0" y="-1917720"/>
            <a:ext cx="66600" cy="38160"/>
          </a:xfrm>
          <a:prstGeom prst="rect">
            <a:avLst/>
          </a:prstGeom>
          <a:ln w="0">
            <a:noFill/>
          </a:ln>
        </p:spPr>
      </p:pic>
      <p:pic>
        <p:nvPicPr>
          <p:cNvPr id="105" name="arrow_up_grn" descr=""/>
          <p:cNvPicPr/>
          <p:nvPr/>
        </p:nvPicPr>
        <p:blipFill>
          <a:blip r:embed="rId4"/>
          <a:stretch/>
        </p:blipFill>
        <p:spPr>
          <a:xfrm>
            <a:off x="0" y="-1917720"/>
            <a:ext cx="66600" cy="38160"/>
          </a:xfrm>
          <a:prstGeom prst="rect">
            <a:avLst/>
          </a:prstGeom>
          <a:ln w="0">
            <a:noFill/>
          </a:ln>
        </p:spPr>
      </p:pic>
      <p:pic>
        <p:nvPicPr>
          <p:cNvPr id="106" name="arrow_up_grn" descr=""/>
          <p:cNvPicPr/>
          <p:nvPr/>
        </p:nvPicPr>
        <p:blipFill>
          <a:blip r:embed="rId5"/>
          <a:stretch/>
        </p:blipFill>
        <p:spPr>
          <a:xfrm>
            <a:off x="0" y="-1917720"/>
            <a:ext cx="66600" cy="38160"/>
          </a:xfrm>
          <a:prstGeom prst="rect">
            <a:avLst/>
          </a:prstGeom>
          <a:ln w="0">
            <a:noFill/>
          </a:ln>
        </p:spPr>
      </p:pic>
      <p:pic>
        <p:nvPicPr>
          <p:cNvPr id="107" name="arrow_dwn_red" descr=""/>
          <p:cNvPicPr/>
          <p:nvPr/>
        </p:nvPicPr>
        <p:blipFill>
          <a:blip r:embed="rId6"/>
          <a:stretch/>
        </p:blipFill>
        <p:spPr>
          <a:xfrm>
            <a:off x="0" y="-1917720"/>
            <a:ext cx="66600" cy="38160"/>
          </a:xfrm>
          <a:prstGeom prst="rect">
            <a:avLst/>
          </a:prstGeom>
          <a:ln w="0">
            <a:noFill/>
          </a:ln>
        </p:spPr>
      </p:pic>
      <p:pic>
        <p:nvPicPr>
          <p:cNvPr id="108" name="arrow_up_grn" descr=""/>
          <p:cNvPicPr/>
          <p:nvPr/>
        </p:nvPicPr>
        <p:blipFill>
          <a:blip r:embed="rId7"/>
          <a:stretch/>
        </p:blipFill>
        <p:spPr>
          <a:xfrm>
            <a:off x="0" y="-1917720"/>
            <a:ext cx="66600" cy="38160"/>
          </a:xfrm>
          <a:prstGeom prst="rect">
            <a:avLst/>
          </a:prstGeom>
          <a:ln w="0">
            <a:noFill/>
          </a:ln>
        </p:spPr>
      </p:pic>
      <p:pic>
        <p:nvPicPr>
          <p:cNvPr id="109" name="arrow_dwn_red" descr=""/>
          <p:cNvPicPr/>
          <p:nvPr/>
        </p:nvPicPr>
        <p:blipFill>
          <a:blip r:embed="rId8"/>
          <a:stretch/>
        </p:blipFill>
        <p:spPr>
          <a:xfrm>
            <a:off x="0" y="-1917720"/>
            <a:ext cx="66600" cy="38160"/>
          </a:xfrm>
          <a:prstGeom prst="rect">
            <a:avLst/>
          </a:prstGeom>
          <a:ln w="0">
            <a:noFill/>
          </a:ln>
        </p:spPr>
      </p:pic>
      <p:pic>
        <p:nvPicPr>
          <p:cNvPr id="110" name="arrow_up_grn" descr=""/>
          <p:cNvPicPr/>
          <p:nvPr/>
        </p:nvPicPr>
        <p:blipFill>
          <a:blip r:embed="rId9"/>
          <a:stretch/>
        </p:blipFill>
        <p:spPr>
          <a:xfrm>
            <a:off x="0" y="-1917720"/>
            <a:ext cx="66600" cy="38160"/>
          </a:xfrm>
          <a:prstGeom prst="rect">
            <a:avLst/>
          </a:prstGeom>
          <a:ln w="0">
            <a:noFill/>
          </a:ln>
        </p:spPr>
      </p:pic>
      <p:pic>
        <p:nvPicPr>
          <p:cNvPr id="111" name="arrow_up_grn" descr=""/>
          <p:cNvPicPr/>
          <p:nvPr/>
        </p:nvPicPr>
        <p:blipFill>
          <a:blip r:embed="rId10"/>
          <a:stretch/>
        </p:blipFill>
        <p:spPr>
          <a:xfrm>
            <a:off x="0" y="-1917720"/>
            <a:ext cx="66600" cy="38160"/>
          </a:xfrm>
          <a:prstGeom prst="rect">
            <a:avLst/>
          </a:prstGeom>
          <a:ln w="0">
            <a:noFill/>
          </a:ln>
        </p:spPr>
      </p:pic>
      <p:pic>
        <p:nvPicPr>
          <p:cNvPr id="112" name="arrow_dwn_red" descr=""/>
          <p:cNvPicPr/>
          <p:nvPr/>
        </p:nvPicPr>
        <p:blipFill>
          <a:blip r:embed="rId11"/>
          <a:stretch/>
        </p:blipFill>
        <p:spPr>
          <a:xfrm>
            <a:off x="0" y="-1917720"/>
            <a:ext cx="66600" cy="38160"/>
          </a:xfrm>
          <a:prstGeom prst="rect">
            <a:avLst/>
          </a:prstGeom>
          <a:ln w="0">
            <a:noFill/>
          </a:ln>
        </p:spPr>
      </p:pic>
      <p:pic>
        <p:nvPicPr>
          <p:cNvPr id="113" name="arrow_up_grn" descr=""/>
          <p:cNvPicPr/>
          <p:nvPr/>
        </p:nvPicPr>
        <p:blipFill>
          <a:blip r:embed="rId12"/>
          <a:stretch/>
        </p:blipFill>
        <p:spPr>
          <a:xfrm>
            <a:off x="0" y="-1917720"/>
            <a:ext cx="66600" cy="38160"/>
          </a:xfrm>
          <a:prstGeom prst="rect">
            <a:avLst/>
          </a:prstGeom>
          <a:ln w="0">
            <a:noFill/>
          </a:ln>
        </p:spPr>
      </p:pic>
      <p:pic>
        <p:nvPicPr>
          <p:cNvPr id="114" name="arrow_up_grn" descr=""/>
          <p:cNvPicPr/>
          <p:nvPr/>
        </p:nvPicPr>
        <p:blipFill>
          <a:blip r:embed="rId13"/>
          <a:stretch/>
        </p:blipFill>
        <p:spPr>
          <a:xfrm>
            <a:off x="0" y="-1917720"/>
            <a:ext cx="66600" cy="38160"/>
          </a:xfrm>
          <a:prstGeom prst="rect">
            <a:avLst/>
          </a:prstGeom>
          <a:ln w="0">
            <a:noFill/>
          </a:ln>
        </p:spPr>
      </p:pic>
      <p:pic>
        <p:nvPicPr>
          <p:cNvPr id="115" name="arrow_dwn_red" descr=""/>
          <p:cNvPicPr/>
          <p:nvPr/>
        </p:nvPicPr>
        <p:blipFill>
          <a:blip r:embed="rId14"/>
          <a:stretch/>
        </p:blipFill>
        <p:spPr>
          <a:xfrm>
            <a:off x="0" y="-1917720"/>
            <a:ext cx="66600" cy="38160"/>
          </a:xfrm>
          <a:prstGeom prst="rect">
            <a:avLst/>
          </a:prstGeom>
          <a:ln w="0">
            <a:noFill/>
          </a:ln>
        </p:spPr>
      </p:pic>
      <p:pic>
        <p:nvPicPr>
          <p:cNvPr id="116" name="arrow_up_grn" descr=""/>
          <p:cNvPicPr/>
          <p:nvPr/>
        </p:nvPicPr>
        <p:blipFill>
          <a:blip r:embed="rId15"/>
          <a:stretch/>
        </p:blipFill>
        <p:spPr>
          <a:xfrm>
            <a:off x="0" y="-1917720"/>
            <a:ext cx="66600" cy="38160"/>
          </a:xfrm>
          <a:prstGeom prst="rect">
            <a:avLst/>
          </a:prstGeom>
          <a:ln w="0">
            <a:noFill/>
          </a:ln>
        </p:spPr>
      </p:pic>
      <p:pic>
        <p:nvPicPr>
          <p:cNvPr id="117" name="arrow_up_grn" descr=""/>
          <p:cNvPicPr/>
          <p:nvPr/>
        </p:nvPicPr>
        <p:blipFill>
          <a:blip r:embed="rId16"/>
          <a:stretch/>
        </p:blipFill>
        <p:spPr>
          <a:xfrm>
            <a:off x="0" y="-1917720"/>
            <a:ext cx="66600" cy="38160"/>
          </a:xfrm>
          <a:prstGeom prst="rect">
            <a:avLst/>
          </a:prstGeom>
          <a:ln w="0">
            <a:noFill/>
          </a:ln>
        </p:spPr>
      </p:pic>
      <p:pic>
        <p:nvPicPr>
          <p:cNvPr id="118" name="arrow_up_grn" descr=""/>
          <p:cNvPicPr/>
          <p:nvPr/>
        </p:nvPicPr>
        <p:blipFill>
          <a:blip r:embed="rId17"/>
          <a:stretch/>
        </p:blipFill>
        <p:spPr>
          <a:xfrm>
            <a:off x="0" y="-1917720"/>
            <a:ext cx="66600" cy="38160"/>
          </a:xfrm>
          <a:prstGeom prst="rect">
            <a:avLst/>
          </a:prstGeom>
          <a:ln w="0">
            <a:noFill/>
          </a:ln>
        </p:spPr>
      </p:pic>
      <p:sp>
        <p:nvSpPr>
          <p:cNvPr id="119" name=""/>
          <p:cNvSpPr/>
          <p:nvPr/>
        </p:nvSpPr>
        <p:spPr>
          <a:xfrm>
            <a:off x="0" y="-19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0"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1"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2"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3"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4"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5"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6"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7"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8"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9"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0"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1"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2"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3"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4"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5"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6"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graphicFrame>
        <p:nvGraphicFramePr>
          <p:cNvPr id="137" name=""/>
          <p:cNvGraphicFramePr/>
          <p:nvPr/>
        </p:nvGraphicFramePr>
        <p:xfrm>
          <a:off x="1187280" y="1916280"/>
          <a:ext cx="5508720" cy="212400"/>
        </p:xfrm>
        <a:graphic>
          <a:graphicData uri="http://schemas.openxmlformats.org/drawingml/2006/table">
            <a:tbl>
              <a:tblPr/>
              <a:tblGrid>
                <a:gridCol w="5508720"/>
              </a:tblGrid>
              <a:tr h="21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66666"/>
                          </a:solidFill>
                          <a:latin typeface="Arial"/>
                          <a:ea typeface="Times New Roman"/>
                        </a:rPr>
                        <a:t>Powered by </a:t>
                      </a:r>
                      <a:r>
                        <a:rPr b="0" lang="en-GB" sz="800" spc="-1" strike="noStrike" u="sng">
                          <a:solidFill>
                            <a:srgbClr val="ff0000"/>
                          </a:solidFill>
                          <a:uFillTx/>
                          <a:latin typeface="Arial"/>
                          <a:ea typeface="Times New Roman"/>
                          <a:hlinkClick r:id="rId18"/>
                        </a:rPr>
                        <a:t>NYSE </a:t>
                      </a:r>
                      <a:r>
                        <a:rPr b="0" lang="en-GB" sz="800" spc="-1" strike="noStrike" u="sng">
                          <a:solidFill>
                            <a:srgbClr val="ff0000"/>
                          </a:solidFill>
                          <a:uFillTx/>
                          <a:latin typeface="Arial"/>
                          <a:ea typeface="Times New Roman"/>
                          <a:hlinkClick r:id="rId19"/>
                        </a:rPr>
                        <a:t>MarkeTrac</a:t>
                      </a:r>
                      <a:r>
                        <a:rPr b="0" lang="en-GB" sz="800" spc="-1" strike="noStrike">
                          <a:solidFill>
                            <a:srgbClr val="666666"/>
                          </a:solidFill>
                          <a:latin typeface="Arial"/>
                          <a:ea typeface="Times New Roman"/>
                        </a:rPr>
                        <a:t> | as of 09:50 ET 31 Mar 2006 | Market data delayed 20 min.</a:t>
                      </a:r>
                      <a:endParaRPr b="0" lang="en-US" sz="800" spc="-1" strike="noStrike">
                        <a:solidFill>
                          <a:srgbClr val="000000"/>
                        </a:solidFill>
                        <a:latin typeface="Times New Roman"/>
                      </a:endParaRPr>
                    </a:p>
                  </a:txBody>
                  <a:tcPr anchor="ctr" marL="90000" marR="90000">
                    <a:lnL>
                      <a:noFill/>
                    </a:lnL>
                    <a:lnR>
                      <a:noFill/>
                    </a:lnR>
                    <a:lnT>
                      <a:noFill/>
                    </a:lnT>
                    <a:lnB>
                      <a:noFill/>
                    </a:lnB>
                    <a:solidFill>
                      <a:srgbClr val="f2f2f2"/>
                    </a:solidFill>
                  </a:tcPr>
                </a:tc>
              </a:tr>
            </a:tbl>
          </a:graphicData>
        </a:graphic>
      </p:graphicFrame>
      <p:graphicFrame>
        <p:nvGraphicFramePr>
          <p:cNvPr id="138" name=""/>
          <p:cNvGraphicFramePr/>
          <p:nvPr/>
        </p:nvGraphicFramePr>
        <p:xfrm>
          <a:off x="9360" y="-1185840"/>
          <a:ext cx="182880" cy="9951840"/>
        </p:xfrm>
        <a:graphic>
          <a:graphicData uri="http://schemas.openxmlformats.org/drawingml/2006/table">
            <a:tbl>
              <a:tblPr/>
              <a:tblGrid>
                <a:gridCol w="216000"/>
              </a:tblGrid>
              <a:tr h="995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9" name=""/>
          <p:cNvGraphicFramePr/>
          <p:nvPr/>
        </p:nvGraphicFramePr>
        <p:xfrm>
          <a:off x="324000" y="2184480"/>
          <a:ext cx="8424720" cy="4591080"/>
        </p:xfrm>
        <a:graphic>
          <a:graphicData uri="http://schemas.openxmlformats.org/drawingml/2006/table">
            <a:tbl>
              <a:tblPr/>
              <a:tblGrid>
                <a:gridCol w="1201680"/>
                <a:gridCol w="1208160"/>
                <a:gridCol w="1201680"/>
                <a:gridCol w="1201680"/>
                <a:gridCol w="1201680"/>
                <a:gridCol w="1208160"/>
                <a:gridCol w="1201680"/>
              </a:tblGrid>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Name</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Symbol</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 Last Trade</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Volume</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 Change</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 Change</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666666"/>
                          </a:solidFill>
                          <a:latin typeface="Arial"/>
                          <a:ea typeface="Times New Roman"/>
                        </a:rPr>
                        <a:t> </a:t>
                      </a:r>
                      <a:endParaRPr b="0" lang="en-US" sz="6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r>
              <a:tr h="3938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u="sng">
                          <a:solidFill>
                            <a:srgbClr val="ff0000"/>
                          </a:solidFill>
                          <a:uFillTx/>
                          <a:latin typeface="Arial"/>
                          <a:ea typeface="Times New Roman"/>
                          <a:hlinkClick r:id="rId20"/>
                        </a:rPr>
                        <a:t>Administradora de Fondos de Pensiones-</a:t>
                      </a:r>
                      <a:r>
                        <a:rPr b="0" lang="es-ES" sz="700" spc="-1" strike="noStrike" u="sng">
                          <a:solidFill>
                            <a:srgbClr val="ff0000"/>
                          </a:solidFill>
                          <a:uFillTx/>
                          <a:latin typeface="Arial"/>
                          <a:ea typeface="Times New Roman"/>
                          <a:hlinkClick r:id="rId21"/>
                        </a:rPr>
                        <a:t>Provid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PVD</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6.5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4,8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13</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49</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22"/>
                        </a:rPr>
                        <a:t>Banco de Chile</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BCH</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40.3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35,7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55</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38</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23"/>
                        </a:rPr>
                        <a:t>Banco Santander-Chile</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SAN</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43.4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81,1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25</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5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3942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u="sng">
                          <a:solidFill>
                            <a:srgbClr val="ff0000"/>
                          </a:solidFill>
                          <a:uFillTx/>
                          <a:latin typeface="Arial"/>
                          <a:ea typeface="Times New Roman"/>
                          <a:hlinkClick r:id="rId24"/>
                        </a:rPr>
                        <a:t>Compania</a:t>
                      </a:r>
                      <a:r>
                        <a:rPr b="0" lang="es-ES" sz="700" spc="-1" strike="noStrike" u="sng">
                          <a:solidFill>
                            <a:srgbClr val="ff0000"/>
                          </a:solidFill>
                          <a:uFillTx/>
                          <a:latin typeface="Arial"/>
                          <a:ea typeface="Times New Roman"/>
                          <a:hlinkClick r:id="rId25"/>
                        </a:rPr>
                        <a:t> de Telecomunicaciones de Chile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CTC</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8.9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17,6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1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14</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91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26"/>
                        </a:rPr>
                        <a:t>Compañía Cervecerías Unidas</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CU</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4.83</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31,5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0.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0.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666666"/>
                          </a:solidFill>
                          <a:latin typeface="Arial"/>
                          <a:ea typeface="Times New Roman"/>
                        </a:rPr>
                        <a:t>   </a:t>
                      </a:r>
                      <a:endParaRPr b="0" lang="en-US" sz="6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u="sng">
                          <a:solidFill>
                            <a:srgbClr val="ff0000"/>
                          </a:solidFill>
                          <a:uFillTx/>
                          <a:latin typeface="Arial"/>
                          <a:ea typeface="Times New Roman"/>
                          <a:hlinkClick r:id="rId27"/>
                        </a:rPr>
                        <a:t>Corpbanc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BC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7.7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4,0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5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2.1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91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28"/>
                        </a:rPr>
                        <a:t>Distribución y Servicio (D&amp;S)</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DYS</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9.3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5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15</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7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29"/>
                        </a:rPr>
                        <a:t>Embotelladora Andin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AKO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3.9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5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0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43</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30"/>
                        </a:rPr>
                        <a:t>Embotelladora Andin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AKOB</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4.7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78,7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03</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2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31"/>
                        </a:rPr>
                        <a:t>Endesa Chile</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EOC</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30.6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44,4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34</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12</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32"/>
                        </a:rPr>
                        <a:t>Enersis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ENI</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1.91</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33,9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0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59</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333399"/>
                          </a:solidFill>
                          <a:latin typeface="Arial"/>
                          <a:ea typeface="Times New Roman"/>
                        </a:rPr>
                        <a:t>Lan Airlines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LFL</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39.28</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9,5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2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51</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333399"/>
                          </a:solidFill>
                          <a:latin typeface="Arial"/>
                          <a:ea typeface="Times New Roman"/>
                        </a:rPr>
                        <a:t>Madeco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MAD</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8.53</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45,3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1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91</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333399"/>
                          </a:solidFill>
                          <a:latin typeface="Arial"/>
                          <a:ea typeface="Times New Roman"/>
                        </a:rPr>
                        <a:t>Masisa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MYS</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9.8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09,0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3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3.1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Times New Roman"/>
                        </a:rPr>
                        <a:t>Quiñenco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LQ</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2.25</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4,5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11</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89</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3070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Times New Roman"/>
                        </a:rPr>
                        <a:t>Sociedad Química y Minera de Chile</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SQM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11.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4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34</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3070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Times New Roman"/>
                        </a:rPr>
                        <a:t>Sociedad Química y Minera de Chile</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SQM</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15.25</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8,0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8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7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Times New Roman"/>
                        </a:rPr>
                        <a:t>Viña Concha y Toro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VCO</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9.2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4,2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02</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0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t>
            </a:r>
            <a:r>
              <a:rPr b="1" lang="es-ES_tradnl" sz="3200" spc="-1" strike="noStrike">
                <a:solidFill>
                  <a:srgbClr val="000000"/>
                </a:solidFill>
                <a:latin typeface="Tahoma"/>
              </a:rPr>
              <a:t>American Depositary Shares”</a:t>
            </a:r>
            <a:r>
              <a:rPr b="0" lang="es-ES_tradnl" sz="3200" spc="-1" strike="noStrike">
                <a:solidFill>
                  <a:srgbClr val="000000"/>
                </a:solidFill>
                <a:latin typeface="Tahoma"/>
              </a:rPr>
              <a:t>(ADS) </a:t>
            </a:r>
            <a:r>
              <a:rPr b="0" lang="es-ES" sz="3200" spc="-1" strike="noStrike">
                <a:solidFill>
                  <a:srgbClr val="000000"/>
                </a:solidFill>
                <a:latin typeface="Tahoma"/>
                <a:ea typeface="Times New Roman"/>
              </a:rPr>
              <a:t>son certificados negociables emitidos por un banco comercial de los Estados Unidos de América, que evidencian la titularidad sobre un n</a:t>
            </a:r>
            <a:r>
              <a:rPr b="0" lang="es-ES_tradnl" sz="3200" spc="-1" strike="noStrike">
                <a:solidFill>
                  <a:srgbClr val="000000"/>
                </a:solidFill>
                <a:latin typeface="Tahoma"/>
                <a:ea typeface="Times New Roman"/>
              </a:rPr>
              <a:t>úmero</a:t>
            </a:r>
            <a:r>
              <a:rPr b="0" lang="es-ES" sz="3200" spc="-1" strike="noStrike">
                <a:solidFill>
                  <a:srgbClr val="000000"/>
                </a:solidFill>
                <a:latin typeface="Tahoma"/>
                <a:ea typeface="Times New Roman"/>
              </a:rPr>
              <a:t> contractualmente determinado de "American Depositary Receip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a:t>
            </a:r>
            <a:r>
              <a:rPr b="1" lang="es-ES" sz="2800" spc="-1" strike="noStrike">
                <a:solidFill>
                  <a:srgbClr val="000000"/>
                </a:solidFill>
                <a:latin typeface="Tahoma"/>
                <a:ea typeface="Times New Roman"/>
              </a:rPr>
              <a:t>American Depositary Receips“</a:t>
            </a:r>
            <a:r>
              <a:rPr b="0" lang="es-ES" sz="2800" spc="-1" strike="noStrike">
                <a:solidFill>
                  <a:srgbClr val="000000"/>
                </a:solidFill>
                <a:latin typeface="Tahoma"/>
                <a:ea typeface="Times New Roman"/>
              </a:rPr>
              <a:t> </a:t>
            </a:r>
            <a:r>
              <a:rPr b="0" lang="es-ES_tradnl" sz="2800" spc="-1" strike="noStrike">
                <a:solidFill>
                  <a:srgbClr val="000000"/>
                </a:solidFill>
                <a:latin typeface="Tahoma"/>
                <a:ea typeface="Times New Roman"/>
              </a:rPr>
              <a:t>(ADR) son </a:t>
            </a:r>
            <a:r>
              <a:rPr b="0" lang="es-ES" sz="2800" spc="-1" strike="noStrike">
                <a:solidFill>
                  <a:srgbClr val="000000"/>
                </a:solidFill>
                <a:latin typeface="Tahoma"/>
                <a:ea typeface="Times New Roman"/>
              </a:rPr>
              <a:t>títulos emitidos por el mismo banco comercien antes indicado, mantenidos por éste en depósito, y que representan un número contractualmente determinado de acciones u otros instrumentos financieros emitidos por una entidad constituida fuera de los Estados Unidos de América, los que se encuentran en la custodia de banco comercial o empresa de depósito de valores en el país de origen del Emisor.</a:t>
            </a:r>
            <a:endParaRPr b="0" lang="en-US" sz="2800" spc="-1" strike="noStrike">
              <a:solidFill>
                <a:srgbClr val="000000"/>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Sociedad Emisora</a:t>
            </a:r>
            <a:r>
              <a:rPr b="0" lang="es-ES" sz="2800" spc="-1" strike="noStrike">
                <a:solidFill>
                  <a:srgbClr val="000000"/>
                </a:solidFill>
                <a:latin typeface="Tahoma"/>
                <a:ea typeface="Times New Roman"/>
              </a:rPr>
              <a:t>, es la entidad constituida y existente en un país distinto a los Estados Unidos de América, sobre cuyas acciones u otros instrumentos financieros se realizan operaciones de ADRs. En primer término se requiere, como es obvio, la existencia de una sociedad que emita acciones para su transacción en mercado de valores extranjero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imes New Roman"/>
              </a:rPr>
              <a:t>Banco Depositario</a:t>
            </a:r>
            <a:r>
              <a:rPr b="0" lang="es-ES" sz="2400" spc="-1" strike="noStrike">
                <a:solidFill>
                  <a:srgbClr val="000000"/>
                </a:solidFill>
                <a:latin typeface="Tahoma"/>
                <a:ea typeface="Times New Roman"/>
              </a:rPr>
              <a:t>, o sólo Depositario, es un banco comercial de los Estados Unidos de América, quien emite los ADRs y ADSs en virtud del contrato denominado "Deposit Agreement" que mantiene en depositó estos últimos, y tiene responsabilidad final de la custodia de los valores del Emisor en su país de origen, entre otras obligaciones contenidas en este contrato. Además, de conformidad con las normas del programa ADR de los Estados Unidos de América, es la institución encargada de proporcionar a la Comisión de Valores Norteamericana información sobre emisión, colocación y transacción de ADRs y acciones de la sociedad emisora. </a:t>
            </a:r>
            <a:endParaRPr b="0" lang="en-US" sz="2400" spc="-1" strike="noStrike">
              <a:solidFill>
                <a:srgbClr val="000000"/>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Banco Custodio</a:t>
            </a:r>
            <a:r>
              <a:rPr b="0" lang="es-ES" sz="2800" spc="-1" strike="noStrike">
                <a:solidFill>
                  <a:srgbClr val="000000"/>
                </a:solidFill>
                <a:latin typeface="Tahoma"/>
                <a:ea typeface="Times New Roman"/>
              </a:rPr>
              <a:t>, es un mandatario designado por el depositario en el país de origen del Emisor, el cual tendrá la misión de "custodia" de las acciones de la sociedad emisora, cuando así le sea encargado por el banco depositario en cuya virtud se han emitido los ADSs y los ADRs, según los términos de un contrato llamado “Convenio de Custodia", celebrado entre ambos. Puede tratarse de un banco comercial o de una empresa de depósito de valores.</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ea typeface="Times New Roman"/>
              </a:rPr>
              <a:t>Underwriters</a:t>
            </a:r>
            <a:r>
              <a:rPr b="0" lang="es-ES" sz="3200" spc="-1" strike="noStrike">
                <a:solidFill>
                  <a:srgbClr val="000000"/>
                </a:solidFill>
                <a:latin typeface="Tahoma"/>
                <a:ea typeface="Times New Roman"/>
              </a:rPr>
              <a:t>, son bancos o instituciones financieras especializadas, generalmente los más grandes bancos de inversiones del mundo, quienes suscriben con el Emisor el contrato denominado "Underwriting Agreement"</a:t>
            </a:r>
            <a:r>
              <a:rPr b="0" lang="es-E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ea typeface="Times New Roman"/>
              </a:rPr>
              <a:t>Underwriting Agreement</a:t>
            </a:r>
            <a:r>
              <a:rPr b="0" lang="es-ES" sz="3200" spc="-1" strike="noStrike">
                <a:solidFill>
                  <a:srgbClr val="000000"/>
                </a:solidFill>
                <a:latin typeface="Tahoma"/>
                <a:ea typeface="Times New Roman"/>
              </a:rPr>
              <a:t>, es el contrato celebrado entre el Emisor y los underwriters, mediante el cual estos últimos se obligan a suscribir, o al menos garantizan la suscripción de la totalidad o la mayor parte de los ADRs que se emitirán, buscando asegurar de este modo anticipadamente el éxito de la colocación.</a:t>
            </a:r>
            <a:endParaRPr b="0" lang="en-US" sz="3200" spc="-1" strike="noStrike">
              <a:solidFill>
                <a:srgbClr val="000000"/>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22:26:42Z</dcterms:created>
  <dc:creator>Carla Lopez</dc:creator>
  <dc:description/>
  <dc:language>en-US</dc:language>
  <cp:lastModifiedBy>lucarna05</cp:lastModifiedBy>
  <dcterms:modified xsi:type="dcterms:W3CDTF">2006-04-21T15:20:36Z</dcterms:modified>
  <cp:revision>3</cp:revision>
  <dc:subject/>
  <dc:title>MERCADO DE VALORES </dc:title>
</cp:coreProperties>
</file>