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95B-D792-4A25-B9F5-EBAB077C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40FA-76D3-4C4B-9731-48F1A06B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AB5-40E1-4A34-A2BE-54FE093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21A-5801-4D05-8C64-05F4F687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C183-AD9D-43BD-9DE6-8357B4BE9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5E71-DB55-42C0-B265-C14BD97F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EB0D-E899-4592-8A74-54816890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3A3E-E7BE-428E-BDCF-8EA52D57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86A-3BE5-46EA-B2C1-7AA433A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AB30-D3E6-45A6-85AD-528EC509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2483-A6AD-4C66-B0C4-6332A3E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A34-B835-4AC9-99CF-A7F658B7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DD94-76C6-4B17-B6CB-F0F3B8D4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DA87-511D-48DB-8F3D-E44D3C20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DB3E-DD23-4A17-BB1E-315EF8F6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2EB3-0FD4-49AF-B6AC-6B4F4282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418D-9B1E-4FAB-8E97-26D630E3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054-24BC-4E69-A7A0-CE8A4534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51A-8407-4632-A88A-56B7FCC7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E97-5080-408C-983E-5CEE9E15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B51-DBB9-4A9B-9F4D-29657C1B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90D-0A7D-46EB-80CA-B0A85DA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6D9-DE33-455D-B572-76349FE5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7E1-FB6B-457D-B540-0E81A32C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F986-83A2-4D41-9AF2-90AF31DA8D8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A980-4A27-4D0F-857C-8507ECE6EA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830592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660066"/>
                </a:solidFill>
                <a:latin typeface="Tahoma"/>
              </a:rPr>
              <a:t>Derecho Penal de la Empresa</a:t>
            </a:r>
            <a:br>
              <a:rPr sz="4800"/>
            </a:b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Infracciones de los administrador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837720" y="3309840"/>
            <a:ext cx="8001000" cy="13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duardo Morales Ro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duardo López Díaz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directores de una sociedad cuentan con información excepcional, ya que de ellos dependen determinadas decisiones de una empres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locación de a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umentos de capi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ersione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conflictos de interés es la base de la incriminación, respecto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gere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liquidad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intermediarios de val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auditores e inspectores de cuent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¿Qué es la información privilegiada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echos relevantes y Hechos reservados (Arts.9 y 10 Ley Nº 18.04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 entiende por tal  cualquier información referida 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uno o más emisores de valore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sus negocios o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 algn="just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uno o varios valores emitidos por ell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divulgada al mercad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y cuyo conocimiento, por su naturaleza, sea capaz e influir  en la cotización de los valores emitidos, como asimismo, la información reservada a la que se refiere el Art. 10 de  la Ley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rt.10: Hechos o antecedentes que se refieran a negociaciones aun pendientes que al conocerse puedan perjudicar el interés soci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obligación de reserva se encuentra en el Título XXI y es extensiv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ienes estén desempeñando ciertos cargos 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ienes hubieren dejado tales carg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lasificac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ceso presumido (Art.166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ceso general (Art.165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s sanciones son comu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Art.60 Ley Nº 18.045: presidio menor en cualquiera de sus gr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beneficio obtenido debe entregarse a beneficio fiscal, cuando no hubiere otro perjudicad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d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2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socio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dministradores y, en general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lquier persona que en razón de su cargo o posición en las sociedades clasificador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s rectores: revel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enga acceso a información reservada de los emisores clasificados 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vele el contenido de dicha información a tercer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No se requiere aprovechamien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e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odas las personas a quienes se presume que tienen acceso a la información privilegiada (Art.166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ren información privilegi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az subjetiva:deliberada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rcunstancias de la ac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 efectuar transacciones u operaciones de valores de oferta pública, de cualquier naturaleza en el mercado de valores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negociaciones privadas para sí o para terceros, directa o indirectamen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g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 ac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que valiéndose de información privilegiad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jecute un acto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rcunstancias de la ac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sí o por intermedio de otras person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emento subje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 objeto de obtener un beneficio pecuniario 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itar una pérdida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anto para sí como para tercer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mediante cualquier tipo de operaciones o transacciones con valores de oferta públic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Figuras penales: Art.60, letra h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uje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qu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Verbo rector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vele información privilegiada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lemento subjetiv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 objeto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tener un beneficio pecuniario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vitar una pérdida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tanto para sí como para tercer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n operaciones o transacciones con valores de oferta públic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fracciones del Art.103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Los integrantes de la Comisión Clasificadora, como también los funcionarios públicos deben guardar reserva sobre los documentos y antecedentes de los emisores e instrumentos sujetos a clasificación, siempre que éstos no tengan carácter público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La infracción a esta obligación será sancionada con la pena de reclusión menor en sus grados mínimo a med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fracciones del Art.103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A las mismas personas indicadas precedentement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les está prohibido valerse, directa o indirectament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en beneficio propio o de tercero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imes New Roman"/>
                <a:ea typeface="Arial"/>
              </a:rPr>
              <a:t>de la información a que tengan acceso en el desempeño de esta función, durante el lapso que dure la reserva establecida en el inciso primero del artículo 109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imes New Roman"/>
                <a:ea typeface="Arial"/>
              </a:rPr>
              <a:t>Sanción: Reclusión menor en su grado medio e inhabilitación para cargos y oficios públicos por el tiempo de la conden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Pen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residio menor en su grado medio a presidio mayor en su grado mínimo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Sujetos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director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gerent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apoderad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liquidador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operadores de mesa de dinero, 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Arial"/>
              </a:rPr>
              <a:t>trabajadores de una Administradora de Fondos de Pensiones que en razón de su cargo o posición, y valiéndose de información privilegiada de aquélla que trata el Título XXI de la ley Nº18.0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inciones prev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normas del Código Penal eran suficientes para sancionar a los mandatarios o a quienes se asemejan a tales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Gerentes y representantes leg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iquidadores en sociedades mercanti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dministración fraudulenta (Arts.469 y 470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Apropiación indebida (Art.470, Nº1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factor a considerar es el de la confianza deposi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xiste siempre en este tipo de situaciones una entrega de confianza y una consiguiente desprotección de los administr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bien jurídico en parte es la propie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458c"/>
                </a:solidFill>
                <a:latin typeface="Arial"/>
                <a:ea typeface="Arial"/>
              </a:rPr>
              <a:t>Conductas sancionad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Ejecuten un acto por sí o por intermedio de otras personas, con el objeto de obtener un beneficio pecuniario para sí o para otros, mediante cualquier operación o transacción de valores de oferta pública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Divulguen la información privilegiada, relativa a las decisiones de inversión</a:t>
            </a: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de cualquiera de los Fondos a personas distintas de las encargadas de efectuar las operaciones de adquisición o enajenación de valores de oferta pública por cuenta o en representación de cualquiera de los Fondos.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Art.159 del D.L. 3.500: Negociación incompatib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Arial"/>
              </a:rPr>
              <a:t>Sujeto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los trabajadores de una Administradora de Fondos de Pensiones que, estando encargados de la administración de la cartera y, en especial, de las decisiones de adquisición, mantención o enajenación de instrumentos para cualquiera de los Fondos y la Administradora respectiva</a:t>
            </a:r>
            <a:r>
              <a:rPr b="0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Conducta sancionad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ejerzan por sí o a través de otras personas, simultáneamente la función de administración de otra cartera de inversiones, y quienes teniendo igual condición infrinjan cualquiera de las prohibiciones consignadas en las letras a), c), d) y h) del artículo 154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generales en materia de ban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Artículo 157. LGB:  sanciona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s directores y gerentes de una institución fiscalizada por la Superintendencia 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a sabiend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hubieren hecho una declaración falsa sob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a propiedad y conformación del capital de la empresa,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aprobado o presentado un balance adulterado o falso,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isimulado su situació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 algn="just"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especialmente las sumas anticipadas a directores o empleados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generales en materia de banc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San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reclusión menor en sus grados medio a máximo y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multa de 1.000 a 10.000 U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n caso de quiebra de la institución, las personas que hubieren ejecutado tales actos serán consideradas como responsables de quiebra fraudulen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El Art.158, sanciona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os accionistas fundadores, directores, gerentes, funcionarios, empleados o auditores externos de una institución sometida a la fiscalización de la Superintendenci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que alteren o desfiguren datos o antecedentes e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os balance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libr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stad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uent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rrespondencia u otro documento cualquiera o que oculten 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O que oculten o destruyan estos elementos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con el fi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ificultar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desviar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eludir la fiscalización que corresponde ejercitar a la Superintendencia de acuerdo con la ley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incurrirán en la pena de presidio menor en sus grados medio a máxim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Infracciones en materia banca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La misma pena se les aplicará si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con el mismo fi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oporciona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suscriben o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  <a:ea typeface="Times New Roman"/>
              </a:rPr>
              <a:t>presentan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os elementos de juicio alterados o desfigur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Esta disposición no excluye la aplicación de las reglas previstas en los artículos 14 a 17 del Código Penal.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8395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inciones prev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ciedades de person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administradores son mandatarios de los soc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Código Penal es suficiente para sancion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ciedades anónim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el Código de Comercio, los directores eran mandatarios de los accionis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a Ley Nº 18.046, los directores son integrantes de un órgano de administración social y no actúan por cuenta de los accionist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 deben velar por todos los accionist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os directores no deben actuar a favor de quienes los eligiero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spon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ivil: Indemnización de perjuici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tract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xtracontractual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peraciones entre partes relacionadas (Art.44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ividendos provisorio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Administrativa: Aplicación de mul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specto de la generalidad de las empres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Respecto de empresas especialmente regulad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ociedades Anónimas Abiertas (Art.42, inc. final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ociedades Administradoras de Fondos de Pens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Bancos e Instituciones Financier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Tipos de responsabi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enal: Sanciones corpor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rientadas a responder por la socie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rientadas a responder por actos propios que perjudica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a sociedad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os accionista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 los terceros interesados, 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 mer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Responsabilidad penal de los directores de sociedades anónim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administración de una sociedad anónima corresponde a un Directorio: Órgano colegi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da director responde por los votos favorables que formule (Art.133, inc.2º). Para liberarse de responsabilidad debe dejar constancia en el acta respec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responsabilidad es siempre personal y se analiza a la luz del voto o de la decisión adopt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sos eventual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rt.44, tratándose de operaciones entre partes relacion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rt.46, obligación de información fidedig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Obligaciones generales</a:t>
            </a:r>
            <a:br>
              <a:rPr sz="4000"/>
            </a:b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e los director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guardar reserva de información de la socieda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informar con veracidad la situación de la sociedad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 los accionis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 los terceros: acreedores, tomadores de bonos, etc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Respecto del mercad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velar por todos los accionist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 algn="just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Obligación de no reportar provecho de la sociedad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9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istribución de dividen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os directores responden civilmente por los dividendos provisorios que acuerden distribuir (Art.79, inc.2º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enalmente, se aplica el Art.232, inc.2º Ley Nº 18.175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rán castigados con reclusión o relegación menores en su grado mínimo a medio si se han repartido dividendos a los socios, a propuesta del Directorio, a sabiendas que no correspondían a utilidades efectiv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pena aumenta en un grado si los repartos han ocasionado la quieb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401760"/>
            <a:ext cx="77724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Abuso de información privilegiad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as sanciones no se aplican a todas las sociedades, sino que solamente 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s sociedades anónimas, q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Hagan oferta pública de sus ac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ncuentran sujetas a la Ley Nº 18.045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ometidas a las normas de la S.V.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ambién se aplican a las sociedades inscritas en el Registro de Valor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15:21:36Z</dcterms:created>
  <dc:creator>Eduardo Morales Robles</dc:creator>
  <dc:description/>
  <dc:language>en-US</dc:language>
  <cp:lastModifiedBy>Eduardo Morales</cp:lastModifiedBy>
  <dcterms:modified xsi:type="dcterms:W3CDTF">2006-11-08T18:54:25Z</dcterms:modified>
  <cp:revision>33</cp:revision>
  <dc:subject/>
  <dc:title>Derecho Penal de la Empresa Infracciones de los administradores</dc:title>
</cp:coreProperties>
</file>