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950-A307-4DF7-9C8A-E8FB0D19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607-EA56-44FC-8187-3435B061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76B-95D0-49F2-80F6-9F2F3F5B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06B-C71A-43E7-846A-831A3647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96C-CEFA-4DFC-B370-476A82A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03E-6889-46EE-9C90-3562C6EE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D93-F322-4E4B-89F2-A9517E9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AA3-6FAA-46D6-B7BF-6DFB9A01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D36-FC23-4D9B-B2BA-314F108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E49-2BD1-4287-A413-95632C5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1BC-FEFF-4315-9933-16609D0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8A2-C8E7-4728-8338-1558A2D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B24-F878-40D3-8863-034F51B1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MEDIDA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posición predominante hoy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 la coexistencia de ambas reacciones: Pena y Medida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 las nociones de retribución (culpabilidad) y peligrosidad (prob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ítica porque podría permitir un doble cast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nción sobrepasaría los límites de la culp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pone que se cumpla primero la medida de seguridad y su tiempo de duración se impute 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posible, se podrían cumplir de forma coet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didas Predelictuales y Posdelict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delictuales: No necesitan la comisión de un ilícito para impon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delictuales: Necesitan de la comisión de un delito para impon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re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 a la peligrosidad del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genera inseguridad en los miembros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intromisión en la vida privada y una inaceptable discri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defienden dadas las amenazas globales que existen hoy en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octrina las acepta como una necesidad inev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comisión de un crimen o simple delito el juicio de peligrosidad tiene un fundamento fác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consideran administr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 mayoría considera que son parte del Derecho Penal, por restringir seriamente los derecho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 regirse por los principios de intervención mínima y leg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aplicar o pena o medida de seguridad, no ambas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dida de seguridad debe también seguir el principio de proporci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general: Protección de la sociedad de la comisión de hechos deli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gurar que un sujeto determinado no cometerá nuevos delitos (asegurado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ucar para la reinserción social (correcto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 Código Penal, por la época de su dictación no las contem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hay disposiciones que no tienen sentido sancion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enores de 16 y los mayores de 16 pero menores de 18 que han actuado sin discernimiento quedan a disposición del juez de men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l juez, entre ot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lo a los padres con una amon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lo a libertad vigil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rlo a un establecimiento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ementes son inimpu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tribunal pue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rlo en un establecimiento siquiá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eterlo a custodia y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haber realizado un hecho típico y antijuríd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debe presumirse que atentará contra su vida o la de ter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óricamente el Derecho Penal no sólo ha buscado castigar, sino que prevenir hechos delictuales en el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med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pol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ción de enfermos 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ulsión de personas indese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intento fallido: Ley de estados antisociales. (4.10.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s antisociales: Vagancia, Mendicidad, Alcoh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ían ser sometidos a medidas personales y patrimon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fue apl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ociones de peligrosidad y medida de seguridad no son modernas, aunque si lo es su tratamiento por el Derecho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, en buena medida, es consecuencia del positivismo de finales del S.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na retributiva se reemplaza con la medida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a de estudiar al delito y se estudia al delincuente (sujeto peligro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eritorio, en cuanto el delincuente es considerado como algo más que un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se discute el lím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 predelictuales o son sólo posdelictu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ión de bienes Jurídicos, que tiene como fin evitar la comisión de delitos y que se aplica en función del sujeto peligroso y se orienta a la prevención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s en que son neces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imputables con inclinación delictiva (dementes, men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s que comprenden la amenaza penal, pero por factores sicológicos se ven compelidos a delinquir (toxicómanos, alcohó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s indiferentes a la amenaza penal (delincuentes habituales, reincidentes) o que por el medio y naturaleza de sus actividades son más proclives al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unitario y du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dos grandes tend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sta o 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alista o Duplo Bi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ingue entre penas y medidas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contraria a los principios garantistas del Derecho Penal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ienes sostienen que hay una tendencia al m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pabilidad (elemento diferenciador de penas y medidas de seguridad) no serí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ibre albedrío es tan indemostrable como la peligrosidad determinista (Bus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03:51Z</dcterms:created>
  <dc:creator>JWE</dc:creator>
  <dc:description/>
  <dc:language>en-US</dc:language>
  <cp:lastModifiedBy>JWE</cp:lastModifiedBy>
  <dcterms:modified xsi:type="dcterms:W3CDTF">2006-11-09T11:57:17Z</dcterms:modified>
  <cp:revision>5</cp:revision>
  <dc:subject/>
  <dc:title>LAS MEDIDAS DE SEGURIDAD</dc:title>
</cp:coreProperties>
</file>