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040-F0A7-46A8-9B01-CA4B0773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E20A-F092-4CD7-AFDD-9447E8C0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2E9-5021-407D-AFF9-66F04F00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31B-3A1B-415D-9E36-A68A0257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33C-DA30-4B99-A6F4-03157013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E6F-E510-4006-A348-7A822794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33A-6F3C-4957-A4BD-498A5BD7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D12-35B2-4083-BC28-6CDCBFF0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26E-9E54-4EF1-B2EF-525FFE66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734-76D5-4392-A377-64E69A9B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11E-E11E-4E24-AC39-76323A8F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354-0E82-42AC-B17C-9EA78599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A28E-5A78-45B7-A139-967EF3D3D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MEDIDAS DE 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uplo Binario o Doble V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la posición predominante hoy 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idera la coexistencia de ambas reacciones: Pena y Medida de Segu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para las nociones de retribución (culpabilidad) y peligrosidad (prob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uplo Binario o Doble V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rítica porque podría permitir un doble cast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anción sobrepasaría los límites de la culp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ropone que se cumpla primero la medida de seguridad y su tiempo de duración se impute a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posible, se podrían cumplir de forma coetán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didas Predelictuales y Posdelictua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delictuales: No necesitan la comisión de un ilícito para impon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sdelictuales: Necesitan de la comisión de un delito para impon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re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en a la peligrosidad del individ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genera inseguridad en los miembros de la soci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n una intromisión en la vida privada y una inaceptable discrimin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las defienden dadas las amenazas globales que existen hoy en 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octrina las acepta como una necesidad inevi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la comisión de un crimen o simple delito el juicio de peligrosidad tiene un fundamento fác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las consideran administra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embargo, la mayoría considera que son parte del Derecho Penal, por restringir seriamente los derechos indivi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n regirse por los principios de intervención mínima y leg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ebe aplicar o pena o medida de seguridad, no ambas en conj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dida de seguridad debe también seguir el principio de proporcion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dad general: Protección de la sociedad de la comisión de hechos delic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dad especí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gurar que un sujeto determinado no cometerá nuevos delitos (asegurador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ducar para la reinserción social (corrector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 Código Penal, por la época de su dictación no las contemp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 embargo, hay disposiciones que no tienen sentido sanciona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menores de 16 y los mayores de 16 pero menores de 18 que han actuado sin discernimiento quedan a disposición del juez de men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el juez, entre otr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olverlo a los padres con una amones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erlo a libertad vigil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arlo a un establecimiento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dementes son inimpu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 embargo, el tribunal pue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narlo en un establecimiento siquiát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meterlo a custodia y trat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e haber realizado un hecho típico y antijuríd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más debe presumirse que atentará contra su vida o la de terc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stóricamente el Derecho Penal no sólo ha buscado castigar, sino que prevenir hechos delictuales en el fut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unos med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gilancia pol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nación de enfermos me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pulsión de personas indese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intento fallido: Ley de estados antisociales. (4.10.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as antisociales: Vagancia, Mendicidad, Alcoho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ían ser sometidos a medidas personales y patrimon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nca fue apl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nociones de peligrosidad y medida de seguridad no son modernas, aunque si lo es su tratamiento por el Derecho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, en buena medida, es consecuencia del positivismo de finales del S. X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ena retributiva se reemplaza con la medida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ja de estudiar al delito y se estudia al delincuente (sujeto peligros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meritorio, en cuanto el delincuente es considerado como algo más que un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y se discute el lími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n ser predelictuales o son sólo posdelictu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ión de bienes Jurídicos, que tiene como fin evitar la comisión de delitos y que se aplica en función del sujeto peligroso y se orienta a la prevención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os en que son neces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imputables con inclinación delictiva (dementes, menor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jetos que comprenden la amenaza penal, pero por factores sicológicos se ven compelidos a delinquir (toxicómanos, alcohól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sonas indiferentes a la amenaza penal (delincuentes habituales, reincidentes) o que por el medio y naturaleza de sus actividades son más proclives al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unitario y du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dos grandes tend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nista o 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ualista o Duplo Binar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distingue entre penas y medidas de segu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contraria a los principios garantistas del Derecho Penal Mod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ienes sostienen que hay una tendencia al mo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ulpabilidad (elemento diferenciador de penas y medidas de seguridad) no sería r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libre albedrío es tan indemostrable como la peligrosidad determinista (Bus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2:03:51Z</dcterms:created>
  <dc:creator>JWE</dc:creator>
  <dc:description/>
  <dc:language>en-US</dc:language>
  <cp:lastModifiedBy>JWE</cp:lastModifiedBy>
  <dcterms:modified xsi:type="dcterms:W3CDTF">2006-11-09T11:57:17Z</dcterms:modified>
  <cp:revision>5</cp:revision>
  <dc:subject/>
  <dc:title>LAS MEDIDAS DE SEGURIDAD</dc:title>
</cp:coreProperties>
</file>