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21D9B-7131-42F2-8646-146455265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AAB19-B79B-4B8E-9E75-00448A308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5F96B-438D-4109-A695-253DE1A4B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E2D77-DB70-4B8F-92B6-4090FC538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69863-6F06-4D5F-B839-3558253C7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A9455-0BAA-4740-9EDE-8262BBDBF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E0624-35E9-4A39-A6A6-DC21E5F8D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CA508-3EF1-44EE-827F-58EA72500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E581A-071C-402E-A1D6-3541B19E4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1DD46-17E3-4D4B-BAC2-68F20C9B7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8A089-1AA2-4E52-9F09-3CAF3F448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5AFF4-FE7C-4DBC-9A56-407C4A6F0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0B14A-F802-4CD0-8B52-4E89FEFD61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 MEDIDAS DE SEGURID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Duplo Binario o Doble Ví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s la posición predominante hoy dí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onsidera la coexistencia de ambas reacciones: Pena y Medida de Segurid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epara las nociones de retribución (culpabilidad) y peligrosidad (probabilidad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Duplo Binario o Doble Ví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 crítica porque podría permitir un doble castig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sanción sobrepasaría los límites de la culpabilid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 propone que se cumpla primero la medida de seguridad y su tiempo de duración se impute a la pen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 es posible, se podrían cumplir de forma coetán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Medidas Predelictuales y Posdelictuale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redelictuales: No necesitan la comisión de un ilícito para imponer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osdelictuales: Necesitan de la comisión de un delito para imponer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Medidas Predelictu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ponden a la peligrosidad del individu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o genera inseguridad en los miembros de la socied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lican una intromisión en la vida privada y una inaceptable discrimina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gunos las defienden dadas las amenazas globales que existen hoy en dí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Medidas Posdelictu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doctrina las acepta como una necesidad inevit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 la comisión de un crimen o simple delito el juicio de peligrosidad tiene un fundamento fáctic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gunos las consideran administrativ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Medidas Posdelictu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 embargo, la mayoría considera que son parte del Derecho Penal, por restringir seriamente los derechos individu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ben regirse por los principios de intervención mínima y legalid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 debe aplicar o pena o medida de seguridad, no ambas en conjun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medida de seguridad debe también seguir el principio de proporcionalid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Medidas Posdelictu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idad general: Protección de la sociedad de la comisión de hechos delictiv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idad específic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egurar que un sujeto determinado no cometerá nuevos delitos (aseguradora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educar para la reinserción social (correctora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a Medida de Seguridad en Chi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Nuestro Código Penal, por la época de su dictación no las contempl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in embargo, hay disposiciones que no tienen sentido sancionatori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a Medida de Seguridad en Chi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s menores de 16 y los mayores de 16 pero menores de 18 que han actuado sin discernimiento quedan a disposición del juez de menor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ede el juez, entre otr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olverlo a los padres con una amonesta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terlo a libertad vigilad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fiarlo a un establecimiento especi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a Medida de Seguridad en Chi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os dementes son inimputab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in embargo, el tribunal pue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Internarlo en un establecimiento siquiátric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ometerlo a custodia y tratamien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Debe haber realizado un hecho típico y antijurídic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demás debe presumirse que atentará contra su vida o la de tercer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spectos Gener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Históricamente el Derecho Penal no sólo ha buscado castigar, sino que prevenir hechos delictuales en el futur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lgunos medi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Vigilancia polici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Internación de enfermos ment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xpulsión de personas indesead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a Medida de Seguridad en Chi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 intento fallido: Ley de estados antisociales. (4.10.195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ductas antisociales: Vagancia, Mendicidad, Alcoholism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dían ser sometidos a medidas personales y patrimoni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nca fue aplicad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spectos Gener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 nociones de peligrosidad y medida de seguridad no son modernas, aunque si lo es su tratamiento por el Derecho Pe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o, en buena medida, es consecuencia del positivismo de finales del S. XIX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pena retributiva se reemplaza con la medida preventiv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spectos Gener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e deja de estudiar al delito y se estudia al delincuente (sujeto peligroso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s meritorio, en cuanto el delincuente es considerado como algo más que un obje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Hoy se discute el límite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ueden ser predelictuales o son sólo posdelictua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I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vación de bienes Jurídicos, que tiene como fin evitar la comisión de delitos y que se aplica en función del sujeto peligroso y se orienta a la prevención especi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sos en que son necesari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Inimputables con inclinación delictiva (dementes, menore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ujetos que comprenden la amenaza penal, pero por factores sicológicos se ven compelidos a delinquir (toxicómanos, alcohólico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Personas indiferentes a la amenaza penal (delincuentes habituales, reincidentes) o que por el medio y naturaleza de sus actividades son más proclives al deli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stema unitario y dualis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Hay dos grandes tendenci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Monista o Unita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Dualista o Duplo Binari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nis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No distingue entre penas y medidas de segurid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s contraria a los principios garantistas del Derecho Penal Modern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nis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y quienes sostienen que hay una tendencia al monism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culpabilidad (elemento diferenciador de penas y medidas de seguridad) no sería re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 libre albedrío es tan indemostrable como la peligrosidad determinista (Busto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9T02:03:51Z</dcterms:created>
  <dc:creator>JWE</dc:creator>
  <dc:description/>
  <dc:language>en-US</dc:language>
  <cp:lastModifiedBy>JWE</cp:lastModifiedBy>
  <dcterms:modified xsi:type="dcterms:W3CDTF">2006-11-09T11:57:17Z</dcterms:modified>
  <cp:revision>5</cp:revision>
  <dc:subject/>
  <dc:title>LAS MEDIDAS DE SEGURIDAD</dc:title>
</cp:coreProperties>
</file>