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C3C9-C162-4F2D-94D2-290D172C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319-4BF8-4E6A-B675-FF14FC4D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6D0-10B0-4759-8B99-0AD1C2ED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14A-3209-4071-A422-BFA3C20C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B95-477B-4256-BA3C-3CC16382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884-DD84-49E3-AE5E-A15406F0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D38-D5A2-49C5-809C-510B2A16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A89-02D8-4F77-BD8A-385E3897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B4C-8CCB-4886-BFD1-63051FEB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A41E-1393-4202-AAF0-11397C93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5EF-BDC5-4EE4-8B31-145BEB4C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1B4-5D1B-4C4A-8876-263B4B4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BF59-08E4-4C4D-AF0C-8F861988C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la suspensión de su cumplimiento y en la discreta observancia  y en la discreta observancia y asistencia el condenado por la autoridad administrativa durante cie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es que hagan presumir que no volverá a delinq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a innecesaria la ejecución de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 favore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reto) Control y asis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ón, oficio, empleo, arte, industria, comer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ción de indem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 al condenado a un régimen de libertad a prueba que tenderá a su tratamiento intensivo e individualizado, bajo la vigilancia y orientación permanente de un deleg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de 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 superior a 2 años y que no exceda los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s que concluyan que un tratamiento en libertad será eficaz y neces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benefic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ción de la vigila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lazo no menor a la p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ínimo de tres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áximo de 6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s prorrogable (pero nunca más allá de los límites anteri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si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igilancia y orientación permanentes por un dele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fesión oficio, empleo, arte o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ndem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Repa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erro en establecimientos especiales desde las 22 a las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edida alternativa, sino que una modalidad de cumpl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Día de reclusión nocturna equivale aun día de privación de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para que proc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 crimen o simple delito o si lo ha sido, que la privación de libertad no exceda de 2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nción de que la reclusión nocturna lo disuadirá de cometer nuevo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mnización civil: es prescin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cación de estas me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sión de un nuevo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én y de qué manera se conceden estas medi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hace el tribu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 fundamentar dicha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eneral, la ejecución corresponde al Derecho Administrativo y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9 CP y 468 CPP: Necesidad de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0 CP: legalidad en la ejecución de las p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Condic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o de cumplir en libertad la pena privativa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en penas privativas de más de un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calificado: 4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simple: 2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más de 20 años: a los 10 y eso fija la pena en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hurto o estafa a más de 6 años: a los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s de suma gravedad (homicidio calificado, Parricidio): dos ter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 intachable en el establec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prendido un of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sistido a la escuela del establecimiento: saber al menos leer y escrib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stos requisitos se pronuncia el tribunal de conducta, compuesto por funcionarios del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últimos requisitos los puede dar por cumplidos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o de conced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Decreto Supremo del Ministerio de Justicia se concede y se rev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tición de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l presidio perpetuo calificado se pronuncia la Corte Supr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s de Revo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beneficiario es condenado por ebriedad o cualquier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ausentarse sin razón del lugar que se le designó como resid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no presentarse por dos semanas consecutivas a la jefatura de policía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faltar tres días en un mes a la ocupación que tenga o escuela donde as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notas de mala conducta calificadas por el tribunal de condu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esporá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por razones calificadas: Por no más de 1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otorgar como estímulo o recompensa: debe haber cumplido un tercio de la con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debida custodia: Por 6 horas, para diligencias personales urg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lida dominical bajo pala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no más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d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12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ida es sin custodia y bajo palabra de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ximo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fines académicos o labo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6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ito cometido por el condenado con posterioridad a que la sentencia quede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contemplan en el artículo 90 y 91 del Libro primero del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ituyen tipos penales particulares, a pesar de su ub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1 CP: Qué pasa si el delincuente cae en estado de locura o demencia después de cometido el ilíc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antes de dictada la sentencia de térm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después de dictada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stinguen dos situ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rantamiento de condena (no cumplir la conde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misión de un crimen o simple delito durante el cumplimiento o después de su quebran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 contemplado en el artículo 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quiere una sentencia condenator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ien jurídico afectado: la administración de just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el sujeto no se presenta a cumplir la condena. (omis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ción del cumplimiento (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omisión de un del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fiere a ella el artículo 91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o procede la regla general: acumulación de p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usión o presidio perpetuos + reclusión o presidio perpetuos: puede imponerse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nuevo crimen o simple delito tuviera una pena menor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IÓN DE LA RESPONSABILIDAD 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ntempla el artículo 93 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plimiento de la cond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nis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ón del ofen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acción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La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52560"/>
            <a:ext cx="777528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s personales: siempre se exting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uniarias: hay que distinguir si es multa, comiso o caución y si está o no ejecutoriada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Cumplimi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19 nº 7 CPR: las penas privativas de libertad sólo pueden cumplirse en casa del condenado o en lugares públicos destinados a tal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 87 CP: Establecimientos separados para las mujeres y los menores de 21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umplim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xtinción o culmina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o de la deuda con la socie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constituyen cumplimiento las medidas alternativas (incluso la remisión condicional y la libertad vigil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erdón objetivo y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60 Nº 16 CPR: Requiere de quorum calificado. En delitos terroristas es de las dos tercer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consideraría “personas”, sino que “hech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limitación para la clase de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consideran que se tienen que reservar a  los militares y polí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mnistía extingue por completo la PENA y todos sus efec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ntijuridicidad no desapar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imología: 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egíti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 olviden el indulto gener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rmas relevantes: 93 Nº 4 CP, 32 Nº 16 CPR, 60 Nº 16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forma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er general o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: Ley de Quorum e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l: Decreto supremo (Presid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s: sól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ite o conmuta la p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per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quita al favorecido el carácter de conden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 los efectos de la reincidencia o nuevo delinquimiento o los demás que determinan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de la doctrina considera que los indultos generales podrían tener efecto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ulto particular o espe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cta por decreto supr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una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 delitos terroristas sólo se puede conmutar la muerte por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s de Establecimientos Penitenci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Cumpl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De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Reinser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de Men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Femen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 condenado puede pedi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la rechazan puede insistir un año despu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creto que resuelve la petición es confidencial (lo pueden conocer familiares, abogado y el conden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, remite o conmut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total o pa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dulto Gene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 través de una ley con los mismos quorums que para la amnist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necesaria la sentencia ejecutori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perdón del ofendido cuando la pena se haya impuesto por delitos respecto de los cuales la ley sólo conced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 privada o pública previa instancia particular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(arts.: 19 y 93 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 54 CPP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delitos de acción pública previa instancia particular no podrá procederse de oficio sin que, a lo menos, el ofendido por el delito hubiere denunciado el hecho a la justicia, al ministerio público o a la polic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les delito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lesiones previstas en los artículos 399 y 494, número 5º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domici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secretos prevista en los artículos 231 y 247, inciso segundo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menazas previstas en los artículos 296 y 297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evistos en la ley N° 19.039, que establece normas aplicables a los privilegios industriales y protección de los derechos de propiedad industr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unicación fraudulenta de secretos de la fábrica en que el imputado hubiere estado o estuviere empleado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otras leyes señalaren en forma ex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55 CPP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itos de acción 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o podrán ser ejercidas por otra persona que la víctima, las acciones que nacen de los siguientes del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lumnia y la inju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lta descrita en el número 11 del artículo 496 del Código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vocación a duelo y el denuesto o descrédito público por no haberlo aceptado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atrimonio del menor llevado a efecto sin el consentimiento de las personas designadas por la ley y celebrado de acuerdo con el funcionario llamado a autoriz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del ofendido sólo extingue la responsabilidad penal en las acciones penales públicas previa instancia particular ANTES de que se inicie el proceso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delitos de acción penal privada, la extingue antes, durante el proceso e incluso mientras dure el cumplimiento de la pena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PP habla de renuncia de la acción y no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no extingue la acción, sino que la respon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(renuncia) no procede si la víctima es menor de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uo sist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landés o Progre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Otorgar premios y recompensas a cambio de buena conducta y dedicación a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ompone de etapas que parten de un régimen celular estricto hasta una de mayor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siempre extingue la responsabilidad civil, incluso en los delitos de acción penal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La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P en su artículo 93 Nºs 6 y 7 contempla dos clases de prescrip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as difieren en cuanto a sus efectos, pero no en cuanto a su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que se extingue es la responsabilidad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la naturaleza jurídica de la prescrip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procesal, material o mix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su fund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4 CP. La acción penal pr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crímenes a que la ley impone pena de presidio, reclusión o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demás crímenes, en diez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simples delitos, en cinco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a faltas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asignada al delito está compuesta de grados, nos atendremos al mayor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es compuesta, nos atendremos a las privativas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restrictivas de libertad deben asimilarse a las priv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empo empieza a correr desde el día en que se ha cometido el delito (art. 9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quiere decir que es desde que se pone fin a la actividad del au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consideran que es desde que el delito está consumado (se olvida el delito, no la conduc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lito continuado y habitual, se cuentan los plazos desde la última act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 sucede con el delito perman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corto tiempo: Existen en el CP y en divers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P encontr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431: 1 año, injuria y calumnia (que no son lo mism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385: 2 meses para el matrimonio ileg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7 CP. Las penas impuestas por sentencia ejecutoria prescri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e presidio, reclusión y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más penas de crímenes, en diez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enas de simple delito, en cinco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 falta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DE 199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 a cargo de gendarm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nción y Custodia de los de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ón educativa para la reinserción de los senten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íbe la tortura y los tratos crueles o in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 garantiza la libertad ideológica y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mos que la condena se puede quebrantar por conducta activa u omis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conducta omisiva (no concurrir al cumplimiento), se cuenta desde que la sentencia de término (art. 98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tiende que es desde la notificación de dich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activa (escaparse) desde el quebrantamiento de condena (art. 98 C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ción de la prescrip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sólo durante su curso (debe haber empezado a corr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: se pierde el tiempo transcurrido (art. 96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: Cometer un nuevo crimen o simple delito (art. 99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ere sentencia ejecutoriada en este nuevo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para ambas clases de pre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ón de la prescripción (Art. 96 C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sólo para la prescripción de la 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 dura la suspensión, el plazo no se compu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: Por dirigirse el proceso en contra del delincu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si se paraliza por tres años sin condenarle, como si no se hubiera interrum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de cuando se dirige el proceso contra el delincu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º CPP: Desde la primera actuación en el proceso dirigida en su con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233 CPP: Con la formalización de la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ado ausente del territorio nacional (Art 100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dos días le cuentan como uno para la prescripción, para el cómputo de los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pera para las fa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entienden ausentes los sujetos a prohibición o impedimento de volver (exilia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n a favor y en contra de toda clase de personas (art. 101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gradual (art. 103 CP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ha transcurrido la mitad del plazo, se considera como dos o más atenuantes muy calificadas y ninguna agra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no se aplica a las faltas y prescripciones de co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sentencia ya está dictada, se debe mod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reincidencia (art. 104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gravante de reincidencia no se toma en cuenta después de 10 años en los crímenes y 5 años en los simple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uentan desde la comisión del h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s inhabilidades, en el caso de los derechos políticos, se somete a las reglas especiales ya vista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cción civil se somete a las reglas civile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recluidos cumplirán sus penas de preferencia en lugares cerca de su lugar de resi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busca lograr la reinserción.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s esporádicas del establec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domin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AS A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a condi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Con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Ocasional o Temporal (Sali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58:07Z</dcterms:created>
  <dc:creator>JWE</dc:creator>
  <dc:description/>
  <dc:language>en-US</dc:language>
  <cp:lastModifiedBy>JWE</cp:lastModifiedBy>
  <dcterms:modified xsi:type="dcterms:W3CDTF">2006-11-02T11:49:38Z</dcterms:modified>
  <cp:revision>14</cp:revision>
  <dc:subject/>
  <dc:title>EJECUCIÓN DE LAS PENAS</dc:title>
</cp:coreProperties>
</file>