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1390-F94C-4EA7-8887-47C147522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47CF-E8FE-4505-84B5-CBBBD7789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2C91-524F-4344-838F-5D146DEE5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C857-B729-40C3-BBD7-C1A27EC9E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EC56-D2EF-420C-8017-D66482295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9C5A-D06C-47DB-B8E4-2642A059D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EE0E-CDCD-4BB7-9F23-6117F72E0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F168-B20B-459B-BD1E-547C71407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B8DF-11C0-4172-8A77-18C97F790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0FF1-D0F7-48CF-AFB8-F9811124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B446-5E46-48DC-B4AF-96B666DD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A183-5656-4D82-AEEF-1CCB43CC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D5F0D-FA5A-48CD-9C57-CCD631CF6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ACIÓN DE LAS PE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las 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9608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la Número 2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0200" indent="-4431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 penalidad establecida para el delito no es suficien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0200" indent="-4431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lmente se establece una amplitud de tiempo, a menos que la pena sea indivisible. Así, presidio mayor en su grado máximo puede ir de 15 años y un día a 20 añ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0200" indent="-4431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tros factores: la etapa de desarrollo, la participación criminal, las modificatorias, la extensión del m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0200" indent="-4431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o se traduce en penas superiores o inferiores en gra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0200" indent="-4431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ómo sabemos cuál es la pena superior y la inferior? Hay tres principios fundamental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las 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er princip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o de contar las pen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Cada pena es un grado y cada grado es una pena (Etcheberry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. 57: Cada grado de una pena divisible constituye una pena disti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las 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da grado sea una p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iere decir que dentro de las escalas graduales que señala el artículo 59, cada grado de una pena divisible se cuenta como una pe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í, el presidio mayor en su grado máximo, se considera una pena distinta del presidio mayor en su grado mínimo o med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gualmente, no se contempla la pena de presidio mayor “a secas”, sino que se contemplan la de PM en su grado máximo, la de PM en su grado medio y la de PM en su grado mínimo: Cada grado es una pena disti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las 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Que cada pena sea un grado, se refiere también a las escalas graduales del artículo 59 C.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as escalas están divididas en grados, donde cada pena representa un grado disti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sí, el presidio perpetuo es el segundo grado  de la primera esca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las 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gundo princip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calas gradua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. 59  establece las escala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Privativas de liberta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y 3 restrictivas de liberta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y 5 privativas de derech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CALA NUMERO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° Presidio perpetuo calific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° Presidio o reclusión perpetu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° Presidio o reclusión mayores en sus grados máxi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° Presidio o reclusión mayores en sus grados med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° Presidio o reclusión mayores en sus grados míni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° Presidio o reclusión menores en sus grados máxi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° Presidio o reclusión menores en sus grados med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° Presidio o reclusión menores en sus grados míni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° Prisión en su grado máxim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. Prisión en su grado med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. Prisión en su grado mínim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CALA NUMERO 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° Relegación perpetu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° Relegación mayor en su grado máx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° Relegación en su grado med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° Relegación mayor en su grado mín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° Relegación menor en su grado máx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° Relegación menor en su grado med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° Relegación menor en su grado mín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° Destierro en su grado máx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° Destierro en su grado med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 Destierro en su grado mín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CALA NÚMERO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° Confinamiento o extrañamiento mayores en sus grados máxi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° Confinamiento o extrañamiento mayores en sus grados med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° Confinamiento o extrañamiento mayores en sus grados míni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° Confinamiento o extrañamiento menores en sus grados máxi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° Confinamiento o extrañamiento menores en sus grados med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° Confinamiento o extrañamiento menores en sus grados míni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° Destierro en su grado máxim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° Destierro en su grado med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° Destierro en su grado mínim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CALA NUMERO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° Inhabilitación absoluta perpetu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° Inhabilitación absoluta temporal en su grado máx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° Inhabilitación absoluta temporal en su grado med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° Inhabilitación absoluta temporal en su grado mín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° Suspensión en su grado máx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° Suspensión en su grado med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° Suspensión en su grado mín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CALA NUMERO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° Inhabilitación especial perpetu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° Inhabilitación especial temporal en su grado máx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° Inhabilitación especial temporal en su grado med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° Inhabilitación especial temporal en su grado mín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° Suspensión en su grado máx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° Suspensión en su grado med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° Suspensión en su grado mín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85680" y="987480"/>
            <a:ext cx="733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écnicas para determinar la pe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2637000"/>
            <a:ext cx="7315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tema anterior al S.XV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tema clásico lib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a absolutamente indetermi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a legalmente determinada: Absolutamente y relativa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las 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da escala parte de la pena más grave a la más benig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ando se aumenta o reduce la pena, se hace recorriendo la escala respec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e mezclan las escal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í, si la pena de presidio mayor en su grado máximo se debe aumentar en un grado, se aumenta a presidio perpetu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las 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cer princip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ta de grados superiores o inferi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ede suceder que el presidio perpetuo calificado deba ser aumentado o que la suspensión en su grado mínimo deba ser reduci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y que distinguir si falta grado superior o inferi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las 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i no hay pena superi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to lo resuelve el artículo 77 C.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ay distintas respuestas para las distintas escal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cala 1: presidio perpetuo califica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cala 2 y 3 Presidio perpetu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cala 4 y 5 la pena superior de la respectiva escala más reclusión menor en su grado med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las 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 no existe pena inferi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o lo resuelve el artículo 60 C.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mult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se considera como la pena inmediatamente inferior a la última en todas las escalas gradu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las 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la número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fijación definitiva de la pena se hace en atención a los siguientes facto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a asignada por la ley al deli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o de desarrollo del deli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ción crimi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nstancias modificatorias de responsab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or o menor extensión del mal causado y situación económica del conden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tículo 391 numeral 2º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micidio si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. 391. El que mate a otro y no esté comprendido en el artículo anterior, será pena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° Con presidio mayor en su grado medio a presidio perpetuo, si ejecutare el homicidio con alguna de las circunstancias sigui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era. Con alevos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unda. Por premio o promesa remunerato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cera. Por medio de vene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arta. Con ensañamiento, aumentando deliberada e inhumanamente el dolor al ofend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nta. Con premeditación conoc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° Con presidio mayor en sus grados mínimo a medio en cualquier otro ca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PENA ASIGNADA AL DELI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ley les asigna penalidades a los delitos. Cada disposición que señala un delito, también señala su san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cumple con la estructura básica de la norma penal: conducta + san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penalidad señalada al delito es para el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l deli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uma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este punto entran las figura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ificad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vilegiad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tículo 391 1º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micidio Calific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. 391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l que mate a otro y no esté comprendido en el artículo anterior, será pena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° Con presidio mayor en su grado medio a presidio perpetuo, si ejecutare el homicidio con alguna de las circunstancias sigui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imera. Con alevos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gunda. Por premio o promesa remunerato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ercera. Por medio de vene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uarta. Con ensañamiento, aumentando deliberada e inhumanamente el dolor al ofend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Quinta. Con premeditación conoc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° Con presidio mayor en sus grados mínimo a medio en cualquier otro ca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PENA ASIGNADA AL DELI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las penas s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pulativ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odas se imponen a todos los responsa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ternativas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ede imponer diferentes penas a cada respons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cultativas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ede imponerse a uno o más de los responsables y no a ot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esorias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ben imponerse expresamente al conden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Grado de Desarrollo del Deli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lito Consuma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enalidad básica (la asignada por la le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lito Frustra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-1 gr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ntativa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2 gr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lt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ólo se castigan cuando han sido consum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Situación anterior al S. XV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es del S. XVII, la justicia se impartía en nombre del rey que recibía su poder de la divin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se ámbito, el juez tenía la más amplias libertades y por lo tanto no existían garantías para el imput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Grado de Desarrollo del Deli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rebaja se hace a partir de la pena inferior asignada al deli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as reglas no se aplican cuando la ley contempla normas especiales de punibilidad de la tentativa y el delito frustr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ículo 391: Homicid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. 391. El que mate a otro y no esté comprendido en el artículo anterior, será pena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°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 presidio mayor en su grado medio a presidio perpetu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i ejecutare el homicidio con alguna de las circunstancias sigui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era. Con alevos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unda. Por premio o promesa remunerato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cera. Por medio de vene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arta. Con ensañamiento, aumentando deliberada e inhumanamente el dolor al ofend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nta. Con premeditación conoc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° Co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sidio mayor en sus grados mínimo a med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 cualquier otro ca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Reglas Fudamentales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3. Particip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enalidad básica (la asignada por la ley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ómpli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-1 gr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cubrid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-2 gr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Particip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rebaja se hace a partir de la pena inferior asignada al deli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s reglas no se aplican cuando la ley da normas especi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ículo 391: Homicid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. 391. El que mate a otro y no esté comprendido en el artículo anterior, será pena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°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 presidio mayor en su grado medio a presidio perpetu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i ejecutare el homicidio con alguna de las circunstancias sigui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era. Con alevos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unda. Por premio o promesa remunerato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cera. Por medio de vene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arta. Con ensañamiento, aumentando deliberada e inhumanamente el dolor al ofend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nta. Con premeditación conoc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° Co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sidio mayor en sus grados mínimo a med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 cualquier otro ca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Particip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tuación de las Falt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encubrimiento no es pun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ómplice: Pena no determinada que no puede ser superior a la mitad de la pena del au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Circunstancias Modificator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tenuante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tán enumeradas en el artículo 11 C.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ermiten rebajar la pe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n más intensas que las agravantes: permiten rebajar hasta 3 gr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Circunstancias Modificator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2. Agravan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án enumeradas en el artículo 12 C.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ermiten aumentar la pena hasta en un gr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Circunstancias Modificator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os en que las agravantes no agrav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ando constituye por si misma un deli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ando la ley ha expresado la circunstancia al describir y penar un deli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ando agravante es de tal manera inherente al delito que sin su concurrencia éste no puede cometer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ículo 391: Homicid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. 391. El que mate a otro y no esté comprendido en el artículo anterior, será pena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° Con presidio mayor en su grado medio a presidio perpetuo, si ejecutare el homicidio con alguna de las circunstancias sigui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imera. Con alevos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gunda. Por premio o promesa remunerato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ercera. Por medio de vene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uarta. Con ensañamiento, aumentando deliberada e inhumanamente el dolor al ofendido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Quinta. Con premeditación conoci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° Con presidio mayor en sus grados mínimo a medio en cualquier otro ca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Sistema clásico libe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1025640"/>
            <a:ext cx="8713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las revoluciones libertarias se impone la visión liberal, como reacción a la anteri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esfuerza por desterrar el arbitrio judicial. Encierra al tribunal en formulas casi matemát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jación de marcos penales muy rígi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sión de la pena en grados es estric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uística exuberante de circunstancias que pueden concurrir, y prolija reglamentación de las consecuencias de cada una de ell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bien se resguarda seguridad jurídica, pero se afecta noción de retribución justa y efica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juez se convierte en un simple brazo de la l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rava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. 12. Son circunstancias agrava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a. Cometer el delito contra las personas co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levosí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entendiéndose que la hay cuando se obra a traición o sobre segu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a. Cometerlo mediant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cio, recompensa o prome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a. Ejecutar el delito por medio de inundación, incendio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enen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 otro artificio que pueda ocasionar grandes estragos o dañar a otras person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a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umentar deliberadamente el m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l del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ando otros males innecesarios para su ejecu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a. En los delitos contra las personas, obrar 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meditac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ocida o emplear astucia, fraude o disfr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anticid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. 394. Cometen infanticidio el padre, la madre o los demás ascendientes legítimos o ilegítimos que dentro de las cuarenta y ocho horas después del parto, matan al hijo o descendiente, y serán penados con presidio mayor en sus grados mínimo a med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a. Abusar el delincuente de la superioridad de su sexo o de sus fuerzas , en términos que el ofendido no pudiera defenderse con probabilidades de repeler la ofen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uso de Confian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 nº 7a. Cometer el delito con abuso de confian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. 470. Las penas del artículo 467 se aplicarán tambié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° A los que en perjuicio de otro se apropiaren o distrajeren dinero, efectos o cualquiera otra cosa mueble que hubieren recibido en depósito, comisión o administración, o por otro título que produzca obligación de entregarla o devolver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Circunstancias Modificator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unicabilid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onal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e comunica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osición m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ras causas pers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 comunican, sólo si hubo conocimien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jecución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Circunstancias Modificator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ómo operan las circunstancias modificatoria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y que distinguir si la ley señala una pena compuesta 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 sola indivi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s Indivisi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solo grado de una Divi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s o más gr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a sola pena indivisi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ículo 109 inciso fin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los casos de este artículo si el delincuente fuere funcionario público, agente o comisionado del Gobierno de la República, que hubiere abusado de la autoridad, documentos o noticias que tuviere por razón de su cargo, la pena será la d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idio perpetu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Circunstancias Modificator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Una sola pena Indivisi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avantes: No se consider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s o más Atenuantes sin agravantes: Puede aplicarse la pena inmediatamente inferior en uno o dos gr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s penas indivisi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ículo 372 bis.- El que, con ocasión de violación, cometiere además homicidio en la persona de víctima, será castigado con presidio perpetuo a presidio perpetuo calific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Circunstancias Modificator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Dos penas Indivisib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 modificatorias: El tribunal impone cualqui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enuantes + agravantes: El tribunal realiza una compensación rac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 atenuante: Se aplica el grado míni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o + Atenuantes: -1 o 2 gr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agravante: Grado máxim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 grado de una divisib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tículo 391: Homicidio (en el caso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. 391. El que mate a otro y no esté comprendido en el artículo anterior, será pena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°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 presidio mayor en su grado medio a presidio perpetu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i ejecutare el homicidio con alguna de las circunstancias sigui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era. Con alevos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unda. Por premio o promesa remunerato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cera. Por medio de vene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arta. Con ensañamiento, aumentando deliberada e inhumanamente el dolor al ofend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nta. Con premeditación conoc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° Co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sidio mayor en sus grados mínimo a med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 cualquier otro ca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 Pena absolutamente indetermin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1052640"/>
            <a:ext cx="8496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una reacción a las injusticias del sistema anterior, que surge del positivismo en los S. XIX y principios del X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e de la premisa que no es posible jurídicamente precisar las penas con antelación al hecho concr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en de la visión de del delito com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fermedad soci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Delincuente es un enfermo que hay que tratar, y el tratamiento es l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cción pe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ello legislador no puede precisar naturaleza y extensión de la pena. Duración de la pena queda sujeta al progreso personal que se alcance al aplicar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e sistema se contrapone con estado de derecho, pues no respeta principio de lega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Circunstancias Modificator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3. Un grado de una pena divisi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 hay modificatorias: Tribunal recorre toda la extens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mbas: Compensación rac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1 atenuante: Mínim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 o + atenuantes: -1 o 2 gr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1 agravante: Máxim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 o + Agravantes: + 1 gr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s o más grado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tículo 391: Homicid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. 391. El que mate a otro y no esté comprendido en el artículo anterior, será pena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°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 presidio mayor en su grado medio a presidio perpetu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i ejecutare el homicidio con alguna de las circunstancias sigui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era. Con alevos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unda. Por premio o promesa remunerato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cera. Por medio de vene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arta. Con ensañamiento, aumentando deliberada e inhumanamente el dolor al ofend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nta. Con premeditación conoc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° Co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sidio mayor en sus grados mínimo a med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 cualquier otro ca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Circunstancias Modificator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Dos o más grad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hay modificatorias: Tribunal recorre toda la extens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bas: Compensación rac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atenuante: No se puede imponer el grado máxi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o + atenuantes: -1, 2  o 3 gr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agravante: No se puede imponer el grado máxi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o + agravantes: +1 g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Circunstancias Modificator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la común a todos los cas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 sola atenuante muy calificada: -1 gr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. 73 CP: Eximentes del artículo 10 incompletas: -1, 2 o 3 gr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Circunstancias Modificator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OBLEM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alificación” y “entida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al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drá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álculo del Mínimum y Máximum en penas cuyos extremos se expresan en distintas unidades de tiempo. (días-añ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odificatorias fuera de los arts. 11 y 12 C.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xtensión del mal causad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y facultades económi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sión del mal causa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ólo se aplica cuando la pena conste de gr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tribunal para determinar la pena volverá a revisar las modificatori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ará en cuenta la mayor o menor extensión del mal caus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Extensión del mal causado y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acultades económi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facultades económicas sólo son relevantes para la pena de mul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RMINACIÓN DE LA PENA: IMPORTANCIA EL PROCE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sión Preven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idas Alternati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1 Principio de Oportun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2 Archivo Provis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3 Suspensión Condicional del Proced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Procedimientos Espe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1 Simplifi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2 Abrevi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 Pena absolutamente determin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1844640"/>
            <a:ext cx="8351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cciona contra el sistema de pena absolutamente indetermin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oma el sistema anterior, liberal clás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uelve a encuadrarse en marcos rígidos parala determinación de la p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Pena relativamente determina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endencia moder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njuga la labor del juez con la del Legislad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 señalan marcos amplios para que le juez realice su lab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7124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rmas reguladoras de la pena en el C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1730520"/>
            <a:ext cx="8136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e posee un sistema reglado, cercano al liberal clás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establece un detallado cuadro de penas y sus diversos grados, al cual ha de atenerse el sentenci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facilitar operación de modelo matemático CP contiene disposiciones que permiten establecer una relación cuantitativa entre las pe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glas gener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gla número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ley les asigna penalidades a los delitos. Cada disposicón que señala un delito, tambiénseñala su san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cumple con la estructura básica de la norma penal: conducta + san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pena está asignada por dos criterios: la gravedad del ilícito y la naturaleza del mis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sí los delitos funcionarios se castigan con inhabilidades y los políticos con restricti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n embargo, hay una preferencia por las penas privativas de libert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3T16:55:03Z</dcterms:created>
  <dc:creator>JWE</dc:creator>
  <dc:description/>
  <dc:language>en-US</dc:language>
  <cp:lastModifiedBy>JWE</cp:lastModifiedBy>
  <dcterms:modified xsi:type="dcterms:W3CDTF">2006-10-13T02:26:17Z</dcterms:modified>
  <cp:revision>12</cp:revision>
  <dc:subject/>
  <dc:title>DETERMINACIÓN DE LAS PENAS</dc:title>
</cp:coreProperties>
</file>