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D17-25DE-49F3-898C-83865069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3E2-C39F-4D25-A313-DB9A4595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D8B-B9D4-4F5B-9FA6-13523BE3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F01-CEDE-40B4-BE65-2ECF9ED7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6FA-E622-443E-8B59-99B23D93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C44-24C5-48D7-9AAB-10695D12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A13-ECFE-4B36-80C1-F11C615B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A66-2AFC-4E85-8D24-B75CB2F6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E09-5CA1-48E0-AF7C-83EC41A3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621-A275-4C32-8D92-3BEEA57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EDC-85C1-4504-926E-708E92BA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DE0-4AC0-4F8B-9763-36B79C8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F4D-C197-4857-8B9B-BE4F1CBC8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la Número 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enalidad establecida para el delito no es sufic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mente se establece una amplitud de tiempo, a menos que la pena sea indivisible. Así, presidio mayor en su grado máximo puede ir de 15 años y un día a 2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ros factores: la etapa de desarrollo, la participación criminal, las modificatorias, la extensión del m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o se traduce en penas superiores o inferiores en gr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sabemos cuál es la pena superior y la inferior? Hay tres principios fundament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o de contar las pe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da pena es un grado y cada grado es una pena (Etcheberr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7: Cada grado de una pena divisible constituye una pena dist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grado sea una p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iere decir que dentro de las escalas graduales que señala el artículo 59, cada grado de una pena divisible se cuenta como una p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í, el presidio mayor en su grado máximo, se considera una pena distinta del presidio mayor en su grado mínimo 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ualmente, no se contempla la pena de presidio mayor “a secas”, sino que se contemplan la de PM en su grado máximo, la de PM en su grado medio y la de PM en su grado mínimo: Cada grado es una pen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cada pena sea un grado, se refiere también a las escalas graduales del artículo 59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as escalas están divididas en grados, donde cada pena representa un grado dist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, el presidio perpetuo es el segundo grado  de la primera esc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o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calas gradu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9  establece las escal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riva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y 3 restric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 5 privativas de derec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Presidio perpetuo cal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Presidio o reclusión perpetu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Presidio o reclusión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Presidio o reclusión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Presidio o reclusión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Presidio o reclusión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Presidio o reclusión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Presidio o reclusión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Prisión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Prisión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Prisión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Relegación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Relegación may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Relegac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Relegación may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Relegación men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Relegación menor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Relegación men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° Destierro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° Destierro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Destierro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ÚMER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Confinamiento o extrañamiento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Confinamiento o extrañamiento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Confinamiento o extrañamiento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Confinamiento o extrañamiento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Confinamiento o extrañamiento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Confinamiento o extrañamiento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Destierro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Destierro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Destierro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absoluta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absoluta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absoluta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absoluta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especial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especial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especial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especial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85680" y="987480"/>
            <a:ext cx="73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s para determinar la p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63700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anterior al S.X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clásico lib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absolutamente indeterm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legalmente determinada: Absolutamente y relati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escala parte de la pena más grave a la más benig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se aumenta o reduce la pena, se hace recorriendo la escala resp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mezclan las esca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í, si la pena de presidio mayor en su grado máximo se debe aumentar en un grado, se aumenta a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grados superiores o inf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uceder que el presidio perpetuo calificado deba ser aumentado o que la suspensión en su grado mínimo deba ser reduc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falta grado superior o inf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no hay pena sup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 lo resuelve el artículo 77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y distintas respuestas para las distintas esca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1: presidio perpetuo califi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2 y 3 Presidio perpetu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4 y 5 la pena superior de la respectiva escala más reclusión menor en su grado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no existe pena inf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 lo resuelve el artículo 60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l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considera como la pena inmediatamente inferior a la última en todas las escalas gra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 númer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jación definitiva de la pena se hace en atención a los siguiente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a asignada por la ley a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desarrollo de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cri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nstancias modificatoria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o menor extensión del mal causado y situación económica del con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numeral 2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ión que señala un delito, también señala su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enalidad señalada al delito es para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 deli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punto entran las figur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fic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ilegi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1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Cal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s pen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ulativ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das se imponen a todos los respons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 diferentes penas a cada respon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ult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se a uno o más de los responsables y no a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ori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n imponerse expresamente al conde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nalidad básica (la asignada por la l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Frust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-1 g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ativ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ólo se castigan cuando han sido consu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ituación anterior al S. X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s del S. XVII, la justicia se impartía en nombre del rey que recibía su poder de la divi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e ámbito, el juez tenía la más amplias libertades y por lo tanto no existían garantías para el impu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s reglas no se aplican cuando la ley contempla normas especiales de punibilidad de la tentativa y el delito frust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las Fudamenta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nalidad básica (la asignada por la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pl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ubri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s reglas no se aplican cuando la ley da normas espe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ón de las Fal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ncubrimiento no es pu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plice: Pena no determinada que no puede ser superior a la mitad de la pena del a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tenuant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n enumeradas en el artículo 11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n rebajar la p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más intensas que las agravantes: permiten rebajar hasta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Agrav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n enumeradas en el artículo 12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n aumentar la pena hasta en un g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s en que las agravantes no agra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constituye por si misma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la ley ha expresado la circunstancia al describir y penar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agravante es de tal manera inherente al delito que sin su concurrencia éste no puede comet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istema clásico lib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25640"/>
            <a:ext cx="871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revoluciones libertarias se impone la visión liberal, como reacción a la an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fuerza por desterrar el arbitrio judicial. Encierra al tribunal en formulas casi matem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jación de marcos penales muy ríg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de la pena en grados es estri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uística exuberante de circunstancias que pueden concurrir, y prolija reglamentación de las consecuencias de cada una d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bien se resguarda seguridad jurídica, pero se afecta noción de retribución justa y efic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ez se convierte en un simple brazo de la 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a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2. Son circunstancias agrav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. Cometer el delito contra las personas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evos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tendiéndose que la hay cuando se obra a traición o sobre seg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. Cometerlo median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o, recompensa o prom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. Ejecutar el delito por medio de inundación, incendi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n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otro artificio que pueda ocasionar grandes estragos o dañar a otr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mentar deliberadamente el 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de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ndo otros males innecesarios para su ejec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a. En los delitos contra las personas, obrar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edi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a o emplear astucia, fraude o disf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ant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394. Cometen infanticidio el padre, la madre o los demás ascendientes legítimos o ilegítimos que dentro de las cuarenta y ocho horas después del parto, matan al hijo o descendiente, y serán penados con presidio mayor en sus grados mínimo a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. Abusar el delincuente de la superioridad de su sexo o de sus fuerzas , en términos que el ofendido no pudiera defenderse con probabilidades de repeler la ofen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o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nº 7a. Cometer el delito con abuso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470. Las penas del artículo 467 se aplicarán tambi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° A los que en perjuicio de otro se apropiaren o distrajeren dinero, efectos o cualquiera otra cosa mueble que hubieren recibido en depósito, comisión o administración, o por otro título que produzca obligación de entregarla o devolve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comunic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as causa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comunican, sólo si hubo conoci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ució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operan las circunstancias modificatori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la ley señala una pena compues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in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Indivi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olo grado de una 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sola pena indivi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109 inciso fi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casos de este artículo si el delincuente fuere funcionario público, agente o comisionado del Gobierno de la República, que hubiere abusado de la autoridad, documentos o noticias que tuviere por razón de su cargo, la pena será la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io perpetu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na sola pena In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avantes: No se conside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Atenuantes sin agravantes: Puede aplicarse la pena inmediatamente inferior en uno o do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penas indivis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372 bis.- El que, con ocasión de violación, cometiere además homicidio en la persona de víctima, será castigado con presidio perpetuo a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os penas Indivi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modificatorias: El tribunal impone cualqui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uantes + agravantes: El tribunal realiza una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tenuante: Se aplica el grado mín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 + Atenuantes: -1 o 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gravante: Grado máx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grado de una divisib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 (en el cas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Pena absolutamente in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a reacción a las injusticias del sistema anterior, que surge del positivismo en los S. XIX y principios del X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de la premisa que no es posible jurídicamente precisar las penas con antelación al hecho concr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n de la visión de del delito com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ermedad so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elincuente es un enfermo que hay que tratar, y el tratamiento es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llo legislador no puede precisar naturaleza y extensión de la pena. Duración de la pena queda sujeta al progreso personal que se alcance al aplic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sistema se contrapone con estado de derecho, pues no respeta principio de leg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Un grado de una pena 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tenuante: Mí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tenuantes: -1 o 2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gravante: Má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gravantes: + 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 o más gr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os o más g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tenuante: No se puede imponer el grado máx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tenuantes: -1, 2  o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gravante: No se puede imponer el grado má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gravantes: +1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 común a todos los c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atenuante muy calificada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3 CP: Eximentes del artículo 10 incompletas: -1, 2 o 3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ficación” y “ent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dr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álculo del Mínimum y Máximum en penas cuyos extremos se expresan en distintas unidades de tiempo. (días-añ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ificatorias fuera de los arts. 11 y 12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ensión del mal causa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ón del mal ca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se aplica cuando la pena conste de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ribunal para determinar la pena volverá a revisar las modificato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á en cuenta la mayor o menor extensión del mal cau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Extensión del mal causado 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facultades económicas sólo son relevantes para la pena de mu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CIÓN DE LA PENA: IMPORTANCIA EL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ión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das Altern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Principio de Oport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Archivo Provi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 Suspensión Condicional d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cedimiento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 Simpl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Abrev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Pena absolutamente 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84464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a contra el sistema de pena absolutamente in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oma el sistema anterior,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elve a encuadrarse en marcos rígidos parala determinación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Pena relativamente determi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 mode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juga la labor del juez con la del Legisl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ñalan marcos amplios para que le juez realice su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s reguladoras de la pena en el 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7305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posee un sistema reglado, cercano al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ablece un detallado cuadro de penas y sus diversos grados, al cual ha de atenerse el sentenci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acilitar operación de modelo matemático CP contiene disposiciones que permiten establecer una relación cuantitativa entre las pe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 número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ón que señala un delito, tambiénseñala su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ena está asignada por dos criterios: la gravedad del ilícito y la naturalez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los delitos funcionarios se castigan con inhabilidades y los políticos con restri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hay una preferencia por las penas privativas de libert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6:55:03Z</dcterms:created>
  <dc:creator>JWE</dc:creator>
  <dc:description/>
  <dc:language>en-US</dc:language>
  <cp:lastModifiedBy>JWE</cp:lastModifiedBy>
  <dcterms:modified xsi:type="dcterms:W3CDTF">2006-10-13T02:26:17Z</dcterms:modified>
  <cp:revision>12</cp:revision>
  <dc:subject/>
  <dc:title>DETERMINACIÓN DE LAS PENAS</dc:title>
</cp:coreProperties>
</file>