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2A424-1ED4-4E19-AF10-5179F32B2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B27AF-CFB7-4C42-9097-F939FB5FA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33B91-8788-4D0B-8F15-7F3DE0A78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F62DF-D6D4-4C18-8A6E-F60B5A5BD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31C05-9530-4BAA-9249-B3AF5551A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33D5C-17CF-4CE1-9D4A-61D524195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02702-FAB9-4B12-9938-5DE3D4BD6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B494A-7599-411B-B97F-515952800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04BB2-FAB3-4206-B72C-E4FBBFD92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0EEA5-329F-4349-8818-E98E97117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20A73-20BB-4ACA-8D44-A34320E2F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0C429-3C28-44CA-B97E-C3ACF72CE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12F95-3A1B-40E3-AB5A-B9E9E976A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A3A34-CFDB-4E4E-A813-BD02E8D45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ABDDA-38C8-416B-8F90-DDD29A0DD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EBB41-975F-4852-A8D0-FAD4E493B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23D4C-C2A7-43C1-AEC0-77DDA60E8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13F00-DEA5-41A8-A326-2F34965E1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D021B-2668-47D2-9349-C8E2C1201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142C0-0E38-43DC-9112-11E4F7035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3D2CD-B4C9-475C-9AEC-844DD918E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81F29-1CDB-466F-AB67-1BF5CE386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F1E6E-102E-477E-90CC-A23E75FBA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2D9A1-9C3C-41CA-BC25-EB44D519F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7FFA-34AC-4EC4-8BF6-7AF05A24570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8D85-ACD2-4B7A-A9A2-47EBBA6B004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INTERPRETACION DE LA LEY PENAL</a:t>
            </a:r>
            <a:endParaRPr b="0" lang="en-US" sz="48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 Gabriel Zaliasni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2" name="PlaceHolder 2"/>
          <p:cNvSpPr>
            <a:spLocks noGrp="1"/>
          </p:cNvSpPr>
          <p:nvPr>
            <p:ph/>
          </p:nvPr>
        </p:nvSpPr>
        <p:spPr>
          <a:xfrm>
            <a:off x="0" y="765000"/>
            <a:ext cx="8964720" cy="5545440"/>
          </a:xfrm>
          <a:prstGeom prst="rect">
            <a:avLst/>
          </a:prstGeom>
          <a:noFill/>
          <a:ln w="0">
            <a:noFill/>
          </a:ln>
        </p:spPr>
        <p:txBody>
          <a:bodyPr lIns="90000" rIns="90000" tIns="46800" bIns="46800" anchor="t">
            <a:normAutofit fontScale="96000"/>
          </a:bodyPr>
          <a:p>
            <a:pPr marL="32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600" spc="-1" strike="noStrike">
                <a:solidFill>
                  <a:srgbClr val="000000"/>
                </a:solidFill>
                <a:latin typeface="Tahoma"/>
              </a:rPr>
              <a:t>Código Civil (título preliminar, párrafo 4) establece reglas obligatorias para el interprete judicial, que le permiten realizar una interpretación avanzada, centrada en el sentido de la Ley y no en el tenor literal de ésta.</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No todas las reglas son aplicables a la Ley penal, por la particular naturaleza de está y la primacía del principio de reserva legal.</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os elementos que se señalan en estas normas son los siguientes: elemento gramatical, histórico, teleológico, sistemático, es importante destacar</a:t>
            </a:r>
            <a:r>
              <a:rPr b="0" lang="es-ES_tradnl" sz="2400" spc="-1" strike="noStrike">
                <a:solidFill>
                  <a:srgbClr val="000000"/>
                </a:solidFill>
                <a:latin typeface="Tahoma"/>
              </a:rPr>
              <a:t> </a:t>
            </a:r>
            <a:r>
              <a:rPr b="0" lang="es-ES_tradnl" sz="2600" spc="-1" strike="noStrike">
                <a:solidFill>
                  <a:srgbClr val="000000"/>
                </a:solidFill>
                <a:latin typeface="Tahoma"/>
              </a:rPr>
              <a:t>que no existe entre ellos un orden de precedencia.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4" name="PlaceHolder 2"/>
          <p:cNvSpPr>
            <a:spLocks noGrp="1"/>
          </p:cNvSpPr>
          <p:nvPr>
            <p:ph/>
          </p:nvPr>
        </p:nvSpPr>
        <p:spPr>
          <a:xfrm>
            <a:off x="468360" y="765000"/>
            <a:ext cx="8229600" cy="5545440"/>
          </a:xfrm>
          <a:prstGeom prst="rect">
            <a:avLst/>
          </a:prstGeom>
          <a:noFill/>
          <a:ln w="0">
            <a:noFill/>
          </a:ln>
        </p:spPr>
        <p:txBody>
          <a:bodyPr lIns="90000" rIns="90000" tIns="46800" bIns="4680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 profesora de derecho Internacional Cecilia Medina agrega como regla de interpretación de los tratados incorporados a la legislación interna de acuerdo a lo establecido en el artículo 5 de nuestra Constitución Política el </a:t>
            </a:r>
            <a:r>
              <a:rPr b="1" lang="es-ES_tradnl" sz="2600" spc="-1" strike="noStrike">
                <a:solidFill>
                  <a:srgbClr val="000000"/>
                </a:solidFill>
                <a:latin typeface="Tahoma"/>
              </a:rPr>
              <a:t>Artículo 31 de la Convención de Viena</a:t>
            </a:r>
            <a:r>
              <a:rPr b="0" lang="es-ES_tradnl" sz="2600" spc="-1" strike="noStrike">
                <a:solidFill>
                  <a:srgbClr val="000000"/>
                </a:solidFill>
                <a:latin typeface="Tahoma"/>
              </a:rPr>
              <a:t> sobre Tratados Internacionales:</a:t>
            </a:r>
            <a:endParaRPr b="0" lang="en-US" sz="2600" spc="-1" strike="noStrike">
              <a:solidFill>
                <a:srgbClr val="000000"/>
              </a:solidFill>
              <a:latin typeface="Tahoma"/>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1" i="1" lang="es-ES_tradnl" sz="2600" spc="-1" strike="noStrike">
                <a:solidFill>
                  <a:srgbClr val="000000"/>
                </a:solidFill>
                <a:latin typeface="Tahoma"/>
              </a:rPr>
              <a:t>Un tratado deberá interpretarse de buena fe conforme al sentido corriente que haya de atribuirse a los términos del tratado en el contexto de éstos y teniendo en cuenta su objetivo y fi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 </a:t>
            </a:r>
            <a:r>
              <a:rPr b="1" lang="es-ES_tradnl" sz="2800" spc="-1" strike="noStrike" u="sng">
                <a:solidFill>
                  <a:srgbClr val="000000"/>
                </a:solidFill>
                <a:uFillTx/>
                <a:latin typeface="Arial"/>
              </a:rPr>
              <a:t>Elemento Gramatical:</a:t>
            </a:r>
            <a:r>
              <a:rPr b="0" lang="es-ES_tradnl"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76"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y entrega reglas para entender las expresiones que la Ley emplea.</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a:t>
            </a:r>
            <a:r>
              <a:rPr b="1" i="1" lang="es-ES_tradnl" sz="2400" spc="-1" strike="noStrike">
                <a:solidFill>
                  <a:srgbClr val="000000"/>
                </a:solidFill>
                <a:latin typeface="Tahoma"/>
              </a:rPr>
              <a:t>Si el legislador las ha definido expresamente para ciertas materias, se les dará a estas su significado legal</a:t>
            </a: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s importante destacar que cuando la definición aparece dada para “ciertas materias”, tienen solamente en éstas, su significación legal y en las demás seguirá imperando, el significado determinado por la tercera regla de interpretación.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 </a:t>
            </a:r>
            <a:r>
              <a:rPr b="1" i="1" lang="es-ES_tradnl" sz="2400" spc="-1" strike="noStrike">
                <a:solidFill>
                  <a:srgbClr val="000000"/>
                </a:solidFill>
                <a:latin typeface="Tahoma"/>
              </a:rPr>
              <a:t>La palabras técnicas de toda ciencia o arte se tomarán en el sentido que les den los que profesan la misma ciencia o arte, a menos que aparezca claramente que se han tomado en un sentido divers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 </a:t>
            </a:r>
            <a:r>
              <a:rPr b="1" lang="es-ES_tradnl" sz="3200" spc="-1" strike="noStrike" u="sng">
                <a:solidFill>
                  <a:srgbClr val="000000"/>
                </a:solidFill>
                <a:uFillTx/>
                <a:latin typeface="Arial"/>
              </a:rPr>
              <a:t>Elemento Gramatical:</a:t>
            </a:r>
            <a:r>
              <a:rPr b="0" lang="es-ES_tradnl"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78"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 En los demás casos, </a:t>
            </a:r>
            <a:r>
              <a:rPr b="1" i="1" lang="es-ES_tradnl" sz="2600" spc="-1" strike="noStrike">
                <a:solidFill>
                  <a:srgbClr val="000000"/>
                </a:solidFill>
                <a:latin typeface="Tahoma"/>
              </a:rPr>
              <a:t>debe darse a las expresiones legales su sentido natural y obvio, </a:t>
            </a:r>
            <a:r>
              <a:rPr b="1" i="1" lang="es-ES_tradnl" sz="2600" spc="-1" strike="noStrike" u="sng">
                <a:solidFill>
                  <a:srgbClr val="000000"/>
                </a:solidFill>
                <a:uFillTx/>
                <a:latin typeface="Tahoma"/>
              </a:rPr>
              <a:t>según el uso general de las mismas</a:t>
            </a:r>
            <a:r>
              <a:rPr b="1" i="1" lang="es-ES_tradnl" sz="2600" spc="-1" strike="noStrike">
                <a:solidFill>
                  <a:srgbClr val="000000"/>
                </a:solidFill>
                <a:latin typeface="Tahoma"/>
              </a:rPr>
              <a:t>.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rróneamente se ha pensado que el sentido natural y obvio de las palabras se encuentra en el Diccionario de la Lengua Española, esta interpretación contradice abiertamente, el mismo texto del artículo 20 que se remite más lógicamente, al </a:t>
            </a:r>
            <a:r>
              <a:rPr b="0" lang="es-ES_tradnl" sz="2600" spc="-1" strike="noStrike" u="sng">
                <a:solidFill>
                  <a:srgbClr val="000000"/>
                </a:solidFill>
                <a:uFillTx/>
                <a:latin typeface="Tahoma"/>
              </a:rPr>
              <a:t>uso general</a:t>
            </a:r>
            <a:r>
              <a:rPr b="0" lang="es-ES_tradnl" sz="2600" spc="-1" strike="noStrike">
                <a:solidFill>
                  <a:srgbClr val="000000"/>
                </a:solidFill>
                <a:latin typeface="Tahoma"/>
              </a:rPr>
              <a:t> y no a los diccionarios.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l juez deberá apreciar muchas otras valoraciones culturales y que no son cuestiones de hecho sometidas a la prueba, sino circunstancias de pública notoriedad.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 </a:t>
            </a:r>
            <a:r>
              <a:rPr b="1" lang="es-ES_tradnl" sz="2800" spc="-1" strike="noStrike" u="sng">
                <a:solidFill>
                  <a:srgbClr val="000000"/>
                </a:solidFill>
                <a:uFillTx/>
                <a:latin typeface="Arial"/>
              </a:rPr>
              <a:t>Elemento sistemático</a:t>
            </a:r>
            <a:r>
              <a:rPr b="1" i="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0"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que complementa a todos los principios de interpretación, ya que parte de la base que </a:t>
            </a:r>
            <a:r>
              <a:rPr b="1" lang="es-ES_tradnl" sz="2800" spc="-1" strike="noStrike">
                <a:solidFill>
                  <a:srgbClr val="000000"/>
                </a:solidFill>
                <a:latin typeface="Tahoma"/>
              </a:rPr>
              <a:t>un precepto legal no debe considerarse aisladamente</a:t>
            </a:r>
            <a:r>
              <a:rPr b="0" lang="es-ES_tradnl" sz="2800" spc="-1" strike="noStrike">
                <a:solidFill>
                  <a:srgbClr val="000000"/>
                </a:solidFill>
                <a:latin typeface="Tahoma"/>
              </a:rPr>
              <a:t> y de que el derecho penal no es el único sino que se encuentra inserto dentro de un ordenamiento jurídico.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2 del Código Civil inc. 2°: “</a:t>
            </a:r>
            <a:r>
              <a:rPr b="1" i="1" lang="es-ES_tradnl" sz="2800" spc="-1" strike="noStrike">
                <a:solidFill>
                  <a:srgbClr val="000000"/>
                </a:solidFill>
                <a:latin typeface="Tahoma"/>
              </a:rPr>
              <a:t> Los pasajes oscuros de una Ley pueden ser ilustrados por medio de otras leyes, particularmente si versan sobre el mismo asunto”.</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a:t>
            </a:r>
            <a:r>
              <a:rPr b="1" lang="es-ES_tradnl" sz="2400" spc="-1" strike="noStrike" u="sng">
                <a:solidFill>
                  <a:srgbClr val="000000"/>
                </a:solidFill>
                <a:uFillTx/>
                <a:latin typeface="Arial"/>
              </a:rPr>
              <a:t>Elemento Etico social</a:t>
            </a:r>
            <a:r>
              <a:rPr b="1" lang="es-ES_tradnl" sz="2400" spc="-1" strike="noStrike">
                <a:solidFill>
                  <a:srgbClr val="000000"/>
                </a:solidFill>
                <a:latin typeface="Arial"/>
              </a:rPr>
              <a:t>:</a:t>
            </a:r>
            <a:br>
              <a:rPr sz="2400"/>
            </a:br>
            <a:endParaRPr b="0" lang="en-US" sz="2400" spc="-1" strike="noStrike">
              <a:solidFill>
                <a:srgbClr val="000000"/>
              </a:solidFill>
              <a:latin typeface="Arial"/>
            </a:endParaRPr>
          </a:p>
        </p:txBody>
      </p:sp>
      <p:sp>
        <p:nvSpPr>
          <p:cNvPr id="182"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a:t>
            </a:r>
            <a:r>
              <a:rPr b="1" lang="es-ES_tradnl" sz="2800" spc="-1" strike="noStrike" u="sng">
                <a:solidFill>
                  <a:srgbClr val="000000"/>
                </a:solidFill>
                <a:uFillTx/>
                <a:latin typeface="Tahoma"/>
              </a:rPr>
              <a:t>supletorio</a:t>
            </a:r>
            <a:r>
              <a:rPr b="0" lang="es-ES_tradnl" sz="2800" spc="-1" strike="noStrike">
                <a:solidFill>
                  <a:srgbClr val="000000"/>
                </a:solidFill>
                <a:latin typeface="Tahoma"/>
              </a:rPr>
              <a:t> de los demás y sólo puede acudirse a él cuando no ha podido determinarse el sentido de la Ley de conformidad a las reglas anterior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4”</a:t>
            </a:r>
            <a:r>
              <a:rPr b="1" i="1" lang="es-ES_tradnl" sz="2800" spc="-1" strike="noStrike">
                <a:solidFill>
                  <a:srgbClr val="000000"/>
                </a:solidFill>
                <a:latin typeface="Tahoma"/>
              </a:rPr>
              <a:t> En los casos a que no pudieren aplicarse las reglas de interpretación precedentes, se interpretarán los pasajes obscuros o contradictorios del modo que más conforme parezca al espíritu general de la Legislación y a la equidad natural</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 </a:t>
            </a:r>
            <a:r>
              <a:rPr b="1" lang="es-ES_tradnl" sz="2800" spc="-1" strike="noStrike" u="sng">
                <a:solidFill>
                  <a:srgbClr val="000000"/>
                </a:solidFill>
                <a:uFillTx/>
                <a:latin typeface="Arial"/>
              </a:rPr>
              <a:t>Elemento histórico</a:t>
            </a:r>
            <a:r>
              <a:rPr b="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4"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istoria fidedigna del establecimiento de la le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rt. 19 inciso 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tecedentes que motivaron su dictación, condiciones socio culturales de la época, opinión de sus redactores, et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orías modernas de interpretación insisten en las necesidad de realizar una interpretación cada vez más teleológica de la Ley penal, esto es, </a:t>
            </a:r>
            <a:r>
              <a:rPr b="1" lang="es-ES_tradnl" sz="2800" spc="-1" strike="noStrike">
                <a:solidFill>
                  <a:srgbClr val="000000"/>
                </a:solidFill>
                <a:latin typeface="Tahoma"/>
              </a:rPr>
              <a:t>hecha tomando en cuenta la razón y la finalidad de la norma</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stienen que la Ley en si misma (en el caso que nos ocupa el derecho penal positivo), no proporciona normalmente criterios suficientes de interpretación, debiendo por lo tanto recurrirse a otros ámbitos que están más allá de ell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8"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ha enfatizado un sólo aspecto de la misma, a saber la necesidad de tener presente los bienes jurídicos protegidos, como núcleo del ámbito de significación y de los límites de dichas normas, en especial de los tipos legale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fesor Jorge Mera extiende la tradicional interpretación teleológica que ha efectuado la doctrina y jurisprudencia, ya que un su opinión esta interpretación sólo considera  uno de los fines del derecho penal, el </a:t>
            </a:r>
            <a:r>
              <a:rPr b="1" lang="es-ES_tradnl" sz="2800" spc="-1" strike="noStrike">
                <a:solidFill>
                  <a:srgbClr val="000000"/>
                </a:solidFill>
                <a:latin typeface="Tahoma"/>
              </a:rPr>
              <a:t>carácter protector preventivo, esto es la protección de los Bienes Jurídicos Vit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90"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 esta forma una autentica interpretación teleológica debe considerar, tb. el otro fin del derecho penal -de </a:t>
            </a:r>
            <a:r>
              <a:rPr b="1" i="1" lang="es-ES_tradnl" sz="2800" spc="-1" strike="noStrike">
                <a:solidFill>
                  <a:srgbClr val="000000"/>
                </a:solidFill>
                <a:latin typeface="Tahoma"/>
              </a:rPr>
              <a:t>carácter garantista-</a:t>
            </a:r>
            <a:r>
              <a:rPr b="0" lang="es-ES_tradnl" sz="2800" spc="-1" strike="noStrike">
                <a:solidFill>
                  <a:srgbClr val="000000"/>
                </a:solidFill>
                <a:latin typeface="Tahoma"/>
              </a:rPr>
              <a:t> referido al respeto a los derechos humanos de los inculpados (reales o potenciales) y de la libertad de todos, eventualmente afectada de manera arbitraria cuando las prohibiciones penales infringen las garantías propias del Estado de Derecho.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n utilizar los </a:t>
            </a:r>
            <a:r>
              <a:rPr b="1" lang="es-ES_tradnl" sz="2800" spc="-1" strike="noStrike">
                <a:solidFill>
                  <a:srgbClr val="000000"/>
                </a:solidFill>
                <a:latin typeface="Tahoma"/>
              </a:rPr>
              <a:t>derechos humanos como criterio orientador directo de la interpretación</a:t>
            </a:r>
            <a:r>
              <a:rPr b="0" lang="es-ES_tradnl" sz="2800" spc="-1" strike="noStrike">
                <a:solidFill>
                  <a:srgbClr val="000000"/>
                </a:solidFill>
                <a:latin typeface="Tahoma"/>
              </a:rPr>
              <a:t> de las normas penal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5" name="" descr=""/>
          <p:cNvPicPr/>
          <p:nvPr/>
        </p:nvPicPr>
        <p:blipFill>
          <a:blip r:embed="rId1"/>
          <a:stretch/>
        </p:blipFill>
        <p:spPr>
          <a:xfrm>
            <a:off x="1042920" y="1413000"/>
            <a:ext cx="6408720" cy="4789440"/>
          </a:xfrm>
          <a:prstGeom prst="rect">
            <a:avLst/>
          </a:prstGeom>
          <a:ln w="0">
            <a:noFill/>
          </a:ln>
        </p:spPr>
      </p:pic>
      <p:sp>
        <p:nvSpPr>
          <p:cNvPr id="156" name=""/>
          <p:cNvSpPr/>
          <p:nvPr/>
        </p:nvSpPr>
        <p:spPr>
          <a:xfrm>
            <a:off x="1149480" y="635040"/>
            <a:ext cx="55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ODO ES COSA DE INTERPRETAC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Elemento teleológico</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ctrinas modernas de interpretación recurren a los derechos humanos, al elemento sistemático y a las normas internacionales de derechos humanos. para la interpretación de las normas penales.</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irigen la interpretación a una conciliación entre el derecho interno y las normas internacionales. Debe realizarse un esfuerzo en el sentido que el derecho interno parezca más conforme con las normas internacionales debidamente ratificadas por Chile.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nuestra legislación un claro ejemplo de esta incompatibilidad entre el derecho interno y las normas internacionales, era el antiguo texto de la Ley de Cheque que tipifica el delito de giro doloso de cheques.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octrina unánimemente determina que se trata de una prisión por deudas, claramente proscrito por las normas internacionales. Lo que correspondería teóricamente sería o una modificación de la Ley de modo de excluir dichas hipótesis, o bien mientras subsista la Ley, la interposición de un recurso de inaplicabilidad por inconstitucionalidad., con el fin que se declare inconstitucional la Ley en la parte en que se sanciona la prisión por deud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Otras clasificaciones</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4"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egún su resultad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declara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delprecepto es exactamente el mismo que fluye de su tenor liter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restric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es más restringido que aquel que aparentemente emana de su tenor gramatic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extens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si sucede lo contrario. Su alcance es más ampli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 art. 23 teoricamente proscribe este tipo de interpretaciones. “lo favorable u odioso de una disposición no debe tomarse enc uenta para ampliar o restringir su interpretación”.</a:t>
            </a:r>
            <a:endParaRPr b="0" lang="en-US" sz="2400" spc="-1" strike="noStrike">
              <a:solidFill>
                <a:srgbClr val="000000"/>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viene Legalidad o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6" name="PlaceHolder 2"/>
          <p:cNvSpPr>
            <a:spLocks noGrp="1"/>
          </p:cNvSpPr>
          <p:nvPr>
            <p:ph/>
          </p:nvPr>
        </p:nvSpPr>
        <p:spPr>
          <a:xfrm>
            <a:off x="250920" y="1196640"/>
            <a:ext cx="86868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analogía </a:t>
            </a:r>
            <a:r>
              <a:rPr b="1" lang="es-ES_tradnl" sz="2800" spc="-1" strike="noStrike">
                <a:solidFill>
                  <a:srgbClr val="000000"/>
                </a:solidFill>
                <a:latin typeface="Tahoma"/>
              </a:rPr>
              <a:t>“es la aplicación de un principio jurídico que establece la Ley para un hecho determinado, a otro hecho no regulado, pero jurídicamente semejante al primer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octrinariamente se distingue entre la </a:t>
            </a:r>
            <a:r>
              <a:rPr b="1" i="1" lang="es-ES_tradnl" sz="2800" spc="-1" strike="noStrike">
                <a:solidFill>
                  <a:srgbClr val="000000"/>
                </a:solidFill>
                <a:latin typeface="Tahoma"/>
              </a:rPr>
              <a:t>analogía legis y la analogía juris</a:t>
            </a:r>
            <a:r>
              <a:rPr b="0" lang="es-ES_tradnl" sz="2800" spc="-1" strike="noStrike">
                <a:solidFill>
                  <a:srgbClr val="000000"/>
                </a:solidFill>
                <a:latin typeface="Tahoma"/>
              </a:rPr>
              <a:t>. En el primer caso el asunto se resuelve de conformidad con la regla establecida por una ley para un caso semejante; en el segundo, según principio extraído del “ espíritu general de la Legislación” o de la “equidad natur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8"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materia penal se impide la aplicación de la analogía. Artículo 19 Nº 3 inciso 8.</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Ninguna ley podrá establecer penas sin que la conducta que la sanciona este expresamente descrita en ell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do. no existe Ley, no se puede condenar. Lo mismo sucederá cuando exista Ley, pero no sea aplicable al caso particular. La analogía en materia penal es la creación por el juez de una figura delictiva nueva, sin ley preexistente a la infracción, con lo cual la </a:t>
            </a:r>
            <a:r>
              <a:rPr b="1" lang="es-ES_tradnl" sz="2400" spc="-1" strike="noStrike">
                <a:solidFill>
                  <a:srgbClr val="000000"/>
                </a:solidFill>
                <a:latin typeface="Tahoma"/>
              </a:rPr>
              <a:t>decisión judicial, pasa a ser fuente del derecho penal</a:t>
            </a:r>
            <a:r>
              <a:rPr b="0" lang="es-ES_tradnl" sz="2400" spc="-1" strike="noStrike">
                <a:solidFill>
                  <a:srgbClr val="000000"/>
                </a:solidFill>
                <a:latin typeface="Tahoma"/>
              </a:rPr>
              <a:t>, en contravención al principio de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0"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blema interesante: </a:t>
            </a:r>
            <a:r>
              <a:rPr b="0" i="1" lang="es-ES_tradnl" sz="2800" spc="-1" strike="noStrike">
                <a:solidFill>
                  <a:srgbClr val="000000"/>
                </a:solidFill>
                <a:latin typeface="Tahoma"/>
              </a:rPr>
              <a:t>¿Se podría absolver a una persona, o disminuirle la pena por analogía?</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 es lo que se llama </a:t>
            </a:r>
            <a:r>
              <a:rPr b="1" lang="es-ES_tradnl" sz="2800" spc="-1" strike="noStrike">
                <a:solidFill>
                  <a:srgbClr val="000000"/>
                </a:solidFill>
                <a:latin typeface="Tahoma"/>
              </a:rPr>
              <a:t>analogía in bonam parte</a:t>
            </a:r>
            <a:r>
              <a:rPr b="0" lang="es-ES_tradnl" sz="2800" spc="-1" strike="noStrike">
                <a:solidFill>
                  <a:srgbClr val="000000"/>
                </a:solidFill>
                <a:latin typeface="Tahoma"/>
              </a:rPr>
              <a:t>, defendida por autores como Carrara, Labatut, Cury, Novoa.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800" spc="-1" strike="noStrike">
                <a:solidFill>
                  <a:srgbClr val="000000"/>
                </a:solidFill>
                <a:latin typeface="Tahoma"/>
              </a:rPr>
              <a:t>sería aceptable la analogía in bonam parte, por el cáracter de ultima ratio del derecho penal y aplicación del </a:t>
            </a:r>
            <a:r>
              <a:rPr b="1" lang="es-ES_tradnl" sz="2800" spc="-1" strike="noStrike">
                <a:solidFill>
                  <a:srgbClr val="000000"/>
                </a:solidFill>
                <a:latin typeface="Tahoma"/>
              </a:rPr>
              <a:t>principio pro reo</a:t>
            </a:r>
            <a:r>
              <a:rPr b="0" lang="es-ES_tradnl" sz="2800" spc="-1" strike="noStrike">
                <a:solidFill>
                  <a:srgbClr val="000000"/>
                </a:solidFill>
                <a:latin typeface="Tahoma"/>
              </a:rPr>
              <a:t>.</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ontra de esta interpretación Alfredo Etcheberry argumenta que es incompatible con la naturaleza de la Ley penal, al menos en un sistema fundamentado en el principio de reserv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bien volveremos a esto con ocasión de los “concursos de delitos”, se trata de un problema de interpretació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vinculado a existencia de diversos tipos penal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concurso aparente cuando un hecho determinado lógica y formalmente aparece contenido en varios tipos penales pero sólo puede  (desde perspectiva del injusto) tipificar uno de ellos (Busto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ducta aparece subsumida al mismo tiempo en más de una figura pen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609480" indent="-60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determinar cual se aplica doctrina ha establecido ciertos P°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a:t>
            </a:r>
            <a:r>
              <a:rPr b="0" lang="es-CL" sz="2400" spc="-1" strike="noStrike">
                <a:solidFill>
                  <a:srgbClr val="000000"/>
                </a:solidFill>
                <a:latin typeface="Tahoma"/>
              </a:rPr>
              <a:t>	</a:t>
            </a:r>
            <a:r>
              <a:rPr b="0" lang="es-CL" sz="2400" spc="-1" strike="noStrike">
                <a:solidFill>
                  <a:srgbClr val="000000"/>
                </a:solidFill>
                <a:latin typeface="Tahoma"/>
              </a:rPr>
              <a:t>P° de especialidad : Ver si normas se encuentran en relación de genero a especie. Prima ley especial.</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a:t>
            </a:r>
            <a:r>
              <a:rPr b="0" lang="es-CL" sz="2400" spc="-1" strike="noStrike">
                <a:solidFill>
                  <a:srgbClr val="000000"/>
                </a:solidFill>
                <a:latin typeface="Tahoma"/>
              </a:rPr>
              <a:t>	</a:t>
            </a:r>
            <a:r>
              <a:rPr b="0" lang="es-CL" sz="2400" spc="-1" strike="noStrike">
                <a:solidFill>
                  <a:srgbClr val="000000"/>
                </a:solidFill>
                <a:latin typeface="Tahoma"/>
              </a:rPr>
              <a:t>P° de consunción o absorción : atiende al disvalor delictivo de la conducta. Cuando una contiene el disvalor de la otra prima aquella. Ej. Disvalor de tipo robo consumado absorbe tentativa de robo.</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3)</a:t>
            </a:r>
            <a:r>
              <a:rPr b="0" lang="es-CL" sz="2400" spc="-1" strike="noStrike">
                <a:solidFill>
                  <a:srgbClr val="000000"/>
                </a:solidFill>
                <a:latin typeface="Tahoma"/>
              </a:rPr>
              <a:t>	</a:t>
            </a:r>
            <a:r>
              <a:rPr b="0" lang="es-CL" sz="2400" spc="-1" strike="noStrike">
                <a:solidFill>
                  <a:srgbClr val="000000"/>
                </a:solidFill>
                <a:latin typeface="Tahoma"/>
              </a:rPr>
              <a:t>P° de subsidiariedad:  Cdo expreso texto legal exige que no concurra otro tipo.</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4)</a:t>
            </a:r>
            <a:r>
              <a:rPr b="0" lang="es-CL" sz="2400" spc="-1" strike="noStrike">
                <a:solidFill>
                  <a:srgbClr val="000000"/>
                </a:solidFill>
                <a:latin typeface="Tahoma"/>
              </a:rPr>
              <a:t>	</a:t>
            </a:r>
            <a:r>
              <a:rPr b="0" lang="es-CL" sz="2400" spc="-1" strike="noStrike">
                <a:solidFill>
                  <a:srgbClr val="000000"/>
                </a:solidFill>
                <a:latin typeface="Tahoma"/>
              </a:rPr>
              <a:t>P° de accesoriedad . Cury cree que no es más que derivado del P° de consun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58" name="PlaceHolder 2"/>
          <p:cNvSpPr>
            <a:spLocks noGrp="1"/>
          </p:cNvSpPr>
          <p:nvPr>
            <p:ph/>
          </p:nvPr>
        </p:nvSpPr>
        <p:spPr>
          <a:xfrm>
            <a:off x="468360" y="836280"/>
            <a:ext cx="8362800" cy="5327640"/>
          </a:xfrm>
          <a:prstGeom prst="rect">
            <a:avLst/>
          </a:prstGeom>
          <a:noFill/>
          <a:ln w="0">
            <a:noFill/>
          </a:ln>
        </p:spPr>
        <p:txBody>
          <a:bodyPr lIns="90000" rIns="90000" tIns="46800" bIns="46800"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Wingdings"/>
                <a:ea typeface="Wingdings"/>
              </a:rPr>
              <a:t></a:t>
            </a:r>
            <a:r>
              <a:rPr b="1" lang="es-ES_tradnl" sz="2800" spc="-1" strike="noStrike" u="sng">
                <a:solidFill>
                  <a:srgbClr val="000000"/>
                </a:solidFill>
                <a:uFillTx/>
                <a:latin typeface="Tahoma"/>
              </a:rPr>
              <a:t>“</a:t>
            </a:r>
            <a:r>
              <a:rPr b="1" lang="es-ES_tradnl" sz="2800" spc="-1" strike="noStrike" u="sng">
                <a:solidFill>
                  <a:srgbClr val="000000"/>
                </a:solidFill>
                <a:uFillTx/>
                <a:latin typeface="Tahoma"/>
              </a:rPr>
              <a:t>operación mental cuyo objeto es la captación íntegra, exacta y fiel de un juicio a través de la proposición que lo enuncia.”</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bor de aplicación de Normas Jurídicas.</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ahoma"/>
              </a:rPr>
              <a:t>siempre el juez realiza una interpretación. (claridad u obscuridad es indiferente)</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las de interpretación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C. P. no contempla normas especiales. Debe recurrirse a normas generales d el título preliminar del Código Civil</a:t>
            </a:r>
            <a:r>
              <a:rPr b="0" lang="es-ES"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empre restrictiva x carácter D° Pen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0" name="PlaceHolder 2"/>
          <p:cNvSpPr>
            <a:spLocks noGrp="1"/>
          </p:cNvSpPr>
          <p:nvPr>
            <p:ph/>
          </p:nvPr>
        </p:nvSpPr>
        <p:spPr>
          <a:xfrm>
            <a:off x="457200" y="1196640"/>
            <a:ext cx="8362800" cy="5327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glas de interpretación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 P. no contempla normas especiales. Debe recurrirse a normas generales d el título preliminar del Código Civil</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son reglas impuestas por la lógica jurídica, sino que responden a un criterio propio de la llamada Escuela de la Exégesis, en el origen del movimiento codificador de fines del Siglo XVIII y del siglo XIX.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tículo 3 del Código Civil establece que el único que puede interpretar de manera general es el legislador y rechaza como fuente de precedente la interpretación judici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TIPOS DE 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pretación puede se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autentic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judicial;y,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doctrina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1.- Interpretación autentica</a:t>
            </a:r>
            <a:endParaRPr b="0" lang="en-US" sz="3200" spc="-1" strike="noStrike">
              <a:solidFill>
                <a:srgbClr val="000000"/>
              </a:solidFill>
              <a:latin typeface="Arial"/>
            </a:endParaRPr>
          </a:p>
        </p:txBody>
      </p:sp>
      <p:sp>
        <p:nvSpPr>
          <p:cNvPr id="164"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la interpretación de la Ley hecha también por medio de la Ley, sea una ley diferente de la interpretada, sea por otro pasaje de la misma ley.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Interpretación auténtica puede ser </a:t>
            </a:r>
            <a:r>
              <a:rPr b="1" i="1" lang="es-ES_tradnl" sz="2800" spc="-1" strike="noStrike">
                <a:solidFill>
                  <a:srgbClr val="000000"/>
                </a:solidFill>
                <a:latin typeface="Tahoma"/>
              </a:rPr>
              <a:t>contextual</a:t>
            </a:r>
            <a:r>
              <a:rPr b="0" lang="es-ES_tradnl" sz="2800" spc="-1" strike="noStrike">
                <a:solidFill>
                  <a:srgbClr val="000000"/>
                </a:solidFill>
                <a:latin typeface="Tahoma"/>
              </a:rPr>
              <a:t> o </a:t>
            </a:r>
            <a:r>
              <a:rPr b="1" i="1" lang="es-ES_tradnl" sz="2800" spc="-1" strike="noStrike">
                <a:solidFill>
                  <a:srgbClr val="000000"/>
                </a:solidFill>
                <a:latin typeface="Tahoma"/>
              </a:rPr>
              <a:t>posterior</a:t>
            </a:r>
            <a:r>
              <a:rPr b="0" lang="es-ES_tradnl"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interpretación </a:t>
            </a:r>
            <a:r>
              <a:rPr b="1" lang="es-ES_tradnl" sz="2800" spc="-1" strike="noStrike" u="sng">
                <a:solidFill>
                  <a:srgbClr val="000000"/>
                </a:solidFill>
                <a:uFillTx/>
                <a:latin typeface="Tahoma"/>
              </a:rPr>
              <a:t>contextual</a:t>
            </a:r>
            <a:r>
              <a:rPr b="0" lang="es-ES_tradnl" sz="2800" spc="-1" strike="noStrike">
                <a:solidFill>
                  <a:srgbClr val="000000"/>
                </a:solidFill>
                <a:latin typeface="Tahoma"/>
              </a:rPr>
              <a:t> es el propio legislador en el mismo texto de la Ley, él que realiza una interpretación de la misma. (ej. 12 N°1 CP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levosía)</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ahoma"/>
              </a:rPr>
              <a:t>Posterior</a:t>
            </a: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el legislador con posterioridad a la dictación de la Ley dicta una ley que interpreta la Ley anterior fijando un sentido obligatorio.</a:t>
            </a:r>
            <a:r>
              <a:rPr b="0" lang="es-E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1.- Interpretación auténtica</a:t>
            </a:r>
            <a:endParaRPr b="0" lang="en-US" sz="2800" spc="-1" strike="noStrike">
              <a:solidFill>
                <a:srgbClr val="000000"/>
              </a:solidFill>
              <a:latin typeface="Arial"/>
            </a:endParaRPr>
          </a:p>
        </p:txBody>
      </p:sp>
      <p:sp>
        <p:nvSpPr>
          <p:cNvPr id="166" name="PlaceHolder 2"/>
          <p:cNvSpPr>
            <a:spLocks noGrp="1"/>
          </p:cNvSpPr>
          <p:nvPr>
            <p:ph/>
          </p:nvPr>
        </p:nvSpPr>
        <p:spPr>
          <a:xfrm>
            <a:off x="468360" y="620280"/>
            <a:ext cx="8424720" cy="6048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blema : El efecto normal de una Ley interpretativa, en virtud de una ficción jurídica es que se entiende incorporada a la Ley que ha interpretado. (art. 9 c.c)</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 Puede tener entonces efecto retroactivo?</a:t>
            </a:r>
            <a:r>
              <a:rPr b="0" lang="es-ES_tradnl" sz="2400" spc="-1" strike="noStrike">
                <a:solidFill>
                  <a:srgbClr val="000000"/>
                </a:solidFill>
                <a:latin typeface="Tahoma"/>
              </a:rPr>
              <a:t> Si Ley interpretativa se entiende por ficción formar parte de la Ley interpretada, tendría efecto retroactivo.</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doctrina mayoritaria considera que no puede dársele efecto retroactivo a la ley interpretativa, salvo que la nueva ley favorezca al afectado.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damentos:  Si  Ley interpretativa fija sentido de una norma susceptible de interpretaciones distintas,  si el legislador posteriormente opta por una de las posibles interpretaciones, se impediría que al afectado que se le aplique interpretación más favorable. Por lo que no rige la ficción por incorporación hacia el pasado sino que simplemente hacia el futur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_tradnl" sz="2800" spc="-1" strike="noStrike" u="sng">
                <a:solidFill>
                  <a:srgbClr val="000000"/>
                </a:solidFill>
                <a:uFillTx/>
                <a:latin typeface="Arial"/>
              </a:rPr>
              <a:t>2.- Interpretación Judicial</a:t>
            </a:r>
            <a:r>
              <a:rPr b="0"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68"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fontScale="63000"/>
          </a:bodyPr>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hacen los tribunales al fallar los casos concretos de que conocen</a:t>
            </a:r>
            <a:r>
              <a:rPr b="0" lang="es-ES_tradnl" sz="2800" spc="-1" strike="noStrike">
                <a:solidFill>
                  <a:srgbClr val="000000"/>
                </a:solidFill>
                <a:latin typeface="Tahoma"/>
              </a:rPr>
              <a:t>. </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interpretación sólo tiene efecto obligatorio respecto de los casos en que actualmente se pronunciaren las sentencias de acuerdo a lo que prescribe el artículo 3 del Código Civil.</a:t>
            </a:r>
            <a:endParaRPr b="0" lang="en-US" sz="2800" spc="-1" strike="noStrike">
              <a:solidFill>
                <a:srgbClr val="000000"/>
              </a:solidFill>
              <a:latin typeface="Tahoma"/>
            </a:endParaRPr>
          </a:p>
          <a:p>
            <a:pPr marL="216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cepcinalemente se asienta : ej. Expresión malhechores art. 456 bis N°3 CP</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2800" spc="-1" strike="noStrike" u="sng">
                <a:solidFill>
                  <a:srgbClr val="000000"/>
                </a:solidFill>
                <a:uFillTx/>
                <a:latin typeface="Arial"/>
              </a:rPr>
              <a:t>3.- Interpretación Doctrinal</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0"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se hace privadamente por los juristas y estudiosos de la Ley y el derecho.</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 libertad es máxima, pero su fuerza obligatoria es nula.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Gabriel</cp:lastModifiedBy>
  <dcterms:modified xsi:type="dcterms:W3CDTF">2006-09-08T12:39:47Z</dcterms:modified>
  <cp:revision>27</cp:revision>
  <dc:subject/>
  <dc:title>FUENTES E INTERPRETACION DE LA LEY PENAL</dc:title>
</cp:coreProperties>
</file>