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BCC73-274E-4C1D-8F9C-903586E1B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F8D14-CD10-41E5-A1A4-CB8BEF73A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9F553-41D6-4991-B0C5-C84B76D2A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5DEC9-5D27-444E-8D2D-D0B021938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A6A4D-A132-403B-A21B-ABC861266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C2F38-FF96-4A5B-ACF7-2C888F87A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BAB1D-F369-4682-A297-D3D3B33E3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E5538-ABFA-41D1-A28D-9F2A49E34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D2F51-2B75-4D5E-AD2E-58020D520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EEC67-A6F2-497C-91E7-5311B2B66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28E04-C389-4C76-B61F-FFBE5D7A1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75EA-2754-4371-8E42-B9205C5AE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E71D1-9468-4BB6-8402-3DD2F6E07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1DC14-E5E8-4314-B3B0-79EA68619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D6B17-6BEE-462A-A268-435431120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36D09-10E2-44C2-932C-8E9241287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0F610-1C8F-44EB-A274-709CABED2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65B2-68A7-400E-81B1-B6CD310ED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B99D-07D4-4417-A097-DEF79CBAA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E2FF5-FF24-4B30-BCC1-09656EA05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2B74F-31C9-4B23-95EE-33B6834F1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F6F73-17D2-4DFC-9656-7D6213BE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0A52-165A-4F86-A5D3-F22500C3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D01B-B644-435F-BCF9-4F19E0EF9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2B4E-084B-42D4-91B9-B60B43B18A64}"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AF01-84B2-4FF2-80DE-0E7580135EC8}"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10-02T13:57:10Z</dcterms:modified>
  <cp:revision>15</cp:revision>
  <dc:subject/>
  <dc:title>FUENTES E INTERPRETACION DE LA LEY PENAL</dc:title>
</cp:coreProperties>
</file>