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EE2-2673-46AD-83D1-EDC21FD30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5803-9376-4CF3-8FCE-DC0651F5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5F26-3E7F-4412-A177-08AC3FE8A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25D-F4AF-4779-8E27-F151F0CD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0B4E-1414-4C07-93AB-EC9158DA1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917A-5FA1-420F-B001-83F10E8D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790-460A-4FC6-850D-38A57EA68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999E-6431-4DF3-9A88-A21D9081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A25D-6B81-47E6-89C0-5CE367B68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DE8-D355-4537-89ED-EC86BB1DE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1470-2029-47BF-BD22-8074C09C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86ED-14EE-4923-B1E3-4C568B32B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E865-7247-4D89-A7BE-A946D37B3C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 MEDIDAS DE SEGUR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a posición predominante hoy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idera la coexistencia de ambas reacciones: Pena y Medida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para las nociones de retribución (culpabilidad) y peligrosidad (probabilidad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uplo Binario o Doble V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rítica porque podría permitir un doble casti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nción sobrepasaría los límites de la culp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ropone que se cumpla primero la medida de seguridad y su tiempo de duración se impute 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posible, se podrían cumplir de forma coet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edidas Predelictuales y Posdelictua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delictuales: No necesitan la comisión de un ilícito para impone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osdelictuales: Necesitan de la comisión de un delito para impone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re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onden a la peligrosidad del individ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genera inseguridad en los miembros de la soci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n una intromisión en la vida privada y una inaceptable discrimin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defienden dadas las amenazas globales que existen hoy en d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octrina las acepta como una necesidad inevi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comisión de un crimen o simple delito el juicio de peligrosidad tiene un fundamento fáct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las consideran administr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 embargo, la mayoría considera que son parte del Derecho Penal, por restringir seriamente los derechos individ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n regirse por los principios de intervención mínima y leg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aplicar o pena o medida de seguridad, no ambas en conju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medida de seguridad debe también seguir el principio de proporciona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das Posdelictu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general: Protección de la sociedad de la comisión de hechos delic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idad específic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gurar que un sujeto determinado no cometerá nuevos delitos (asegurador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ducar para la reinserción social (corrector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uestro Código Penal, por la época de su dictación no las contemp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hay disposiciones que no tienen sentido sancionato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menores de 16 y los mayores de 16 pero menores de 18 que han actuado sin discernimiento quedan a disposición del juez de men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el juez, entre ot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olverlo a los padres con una amonest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lo a libertad vigil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arlo a un establecimiento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os dementes son inimputa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n embargo, el tribunal pue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rlo en un establecimiento siquiátr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eterlo a custodia y trat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be haber realizado un hecho típico y antijuríd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demás debe presumirse que atentará contra su vida o la de terc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istóricamente el Derecho Penal no sólo ha buscado castigar, sino que prevenir hechos delictuales en el futu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med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gilancia poli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rnación de enfermos ment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xpulsión de personas indese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edida de Seguridad en Ch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intento fallido: Ley de estados antisociales. (4.10.195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s antisociales: Vagancia, Mendicidad, Alcohol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dían ser sometidos a medidas personales y patrimoni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nca fue aplic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nociones de peligrosidad y medida de seguridad no son modernas, aunque si lo es su tratamiento por el Derecho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, en buena medida, es consecuencia del positivismo de finales del S. XI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ena retributiva se reemplaza con la medida prevent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pect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deja de estudiar al delito y se estudia al delincuente (sujeto peligros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meritorio, en cuanto el delincuente es considerado como algo más que un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y se discute el lími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n ser predelictuales o son sólo posdelictua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ción de bienes Jurídicos, que tiene como fin evitar la comisión de delitos y que se aplica en función del sujeto peligroso y se orienta a la prevención espe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sos en que son necesar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imputables con inclinación delictiva (dementes, meno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s que comprenden la amenaza penal, pero por factores sicológicos se ven compelidos a delinquir (toxicómanos, alcohólico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sonas indiferentes a la amenaza penal (delincuentes habituales, reincidentes) o que por el medio y naturaleza de sus actividades son más proclives al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unitario y dual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ay dos grandes tend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nista o Unit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alista o Duplo Binari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distingue entre penas y medidas de segur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contraria a los principios garantistas del Derecho Penal Moder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nis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ienes sostienen que hay una tendencia al monism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culpabilidad (elemento diferenciador de penas y medidas de seguridad) no sería re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libre albedrío es tan indemostrable como la peligrosidad determinista (Bust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03:51Z</dcterms:created>
  <dc:creator>JWE</dc:creator>
  <dc:description/>
  <dc:language>en-US</dc:language>
  <cp:lastModifiedBy>JWE</cp:lastModifiedBy>
  <dcterms:modified xsi:type="dcterms:W3CDTF">2006-11-09T11:57:17Z</dcterms:modified>
  <cp:revision>5</cp:revision>
  <dc:subject/>
  <dc:title>LAS MEDIDAS DE SEGURIDAD</dc:title>
</cp:coreProperties>
</file>