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FBF-4F3A-46D6-880A-DC740462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BEFE-CD09-49F5-9485-18808166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E2CC-17C8-41CB-BDE8-BF3EC238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6CD-FFB0-4AD8-B26C-E0C22CB7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95FE-0E16-4C90-96D2-B127C2C8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663-518E-4F3B-BFFF-6BC527CA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2282-CBCB-40D3-B01D-8CF0AC50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048-0790-4202-8374-EB1DEE7E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AAFC-5EFA-4DEC-826D-F96D1219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193-3E70-4747-A090-57B27B58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2B4-67C3-4BA2-A901-D33685D3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208-2D55-4F0D-9D02-95CB4482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9CFC-8F0D-4D44-BF2E-8BC627613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CUCIÓN DE LAS P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ISIÓN CONDICIONAL DE LA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 en la suspensión de su cumplimiento y en la discreta observancia  y en la discreta observancia y asistencia el condenado por la autoridad administrativa durante cierto 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a pena no exceda de 3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ber sido condenado anteriormente por crimen o simple del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cedentes que hagan presumir que no volverá a delinqu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sea innecesaria la ejecución de la p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gaciones del  favorec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screto) Control y asis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ión, oficio, empleo, arte, industria, comer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acción de indem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tad vigil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er al condenado a un régimen de libertad a prueba que tenderá a su tratamiento intensivo e individualizado, bajo la vigilancia y orientación permanente de un deleg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ciones de proced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a superior a 2 años y que no exceda los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ber sido condenado anteriormente por crimen o simple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es que concluyan que un tratamiento en libertad será eficaz y neces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gaciones del benefici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ción de la vigilanc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lazo no menor a la p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Mínimo de tres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Máximo de 6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s prorrogable (pero nunca más allá de los límites anterior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Resi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Vigilancia y orientación permanentes por un dele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rofesión oficio, empleo, arte o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Indem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Repa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lusión Noctu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ierro en establecimientos especiales desde las 22 a las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s una medida alternativa, sino que una modalidad de cumpli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Día de reclusión nocturna equivale aun día de privación de libert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ciones para que proce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a pena no exceda de 3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ber sido condenado a crimen o simple delito o si lo ha sido, que la privación de libertad no exceda de 2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unción de que la reclusión nocturna lo disuadirá de cometer nuevos del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mnización civil: es prescind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ocación de estas med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umpl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sión de un nuevo crimen o simple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én y de qué manera se conceden estas medid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 hace el tribu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sentencia condenat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e fundamentar dicha deci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IOS GENERA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general, la ejecución corresponde al Derecho Administrativo y Penitenc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79 CP y 468 CPP: Necesidad de sentencia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80 CP: legalidad en la ejecución de las p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tad Condicion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o de cumplir en libertad la pena privativa de libert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e en penas privativas de más de un a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ebe haber cumplido la mitad de la p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 debe haber cumplido la mitad de la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io perpetuo calificado: 40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io perpetuo simple: 20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enados por más de 20 años: a los 10 y eso fija la pena en 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enados por hurto o estafa a más de 6 años: a los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tos de suma gravedad (homicidio calificado, Parricidio): dos ter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ros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a intachable en el establecimiento penitenc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er aprendido un ofi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er asistido a la escuela del establecimiento: saber al menos leer y escrib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ros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re estos requisitos se pronuncia el tribunal de conducta, compuesto por funcionarios del pe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dos últimos requisitos los puede dar por cumplidos la Comisión de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o de conced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te Decreto Supremo del Ministerio de Justicia se concede y se revo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tición de la Comisión de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caso del presidio perpetuo calificado se pronuncia la Corte Supr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s de Revo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el beneficiario es condenado por ebriedad o cualquier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ausentarse sin razón del lugar que se le designó como resid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no presentarse por dos semanas consecutivas a la jefatura de policía correspond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faltar tres días en un mes a la ocupación que tenga o escuela donde as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notas de mala conducta calificadas por el tribunal de condu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ERTAD OCASIONAL O TEMP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 esporád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e por razones calificadas: Por no más de 10 h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otorgar como estímulo o recompensa: debe haber cumplido un tercio de la cond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la debida custodia: Por 6 horas, para diligencias personales urg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ERTAD OCASIONAL O TEMP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alida dominical bajo pala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no más de 15 horas cada ve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ere de informe favorable del consejo téc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e queden máximo 12 meses para optar a la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alida es sin custodia y bajo palabra de ho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ERTAD OCASIONAL O TEMP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alida controlada al medio li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áximo de 15 horas cada ve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fines académicos o labo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ere informe favorable del Consejo téc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e queden máximo 6 meses para optar a la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BRANTAMIENTO DE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lito cometido por el condenado con posterioridad a que la sentencia quede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contemplan en el artículo 90 y 91 del Libro primero del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tituyen tipos penales particulares, a pesar de su ub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I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81 CP: Qué pasa si el delincuente cae en estado de locura o demencia después de cometido el ilíci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distingu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s antes de dictada la sentencia de térmi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s después de dictada la sentencia condenat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BRANTAMIENTO DE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istinguen dos situ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rantamiento de condena (no cumplir la conde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Comisión de un crimen o simple delito durante el cumplimiento o después de su quebrant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Quebrantamiento de Cond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to contemplado en el artículo 9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requiere una sentencia condenatoria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bien jurídico afectado: la administración de justi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Quebrantamiento de Cond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ciones posi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el sujeto no se presenta a cumplir la condena. (omis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ción del cumplimiento (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Comisión de un deli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refiere a ella el artículo 91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o procede la regla general: acumulación de pe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lusión o presidio perpetuos + reclusión o presidio perpetuos: puede imponerse presidio perpetuo calif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l nuevo crimen o simple delito tuviera una pena menor: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INCIÓN DE LA RESPONSABILIDAD PE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ontempla el artículo 93 C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mplimiento de la cond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nist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dón del ofend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la acción p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la p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La muerte del respons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4360" y="52560"/>
            <a:ext cx="777528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Muerte del respons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as personales: siempre se extingu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uniarias: hay que distinguir si es multa, comiso o caución y si está o no ejecutoriada la sen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Cumplimiento de la Cond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CUCIÓN DE LAS PENAS PRIVATIVAS DE LIBER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t. 19 nº 7 CPR: las penas privativas de libertad sólo pueden cumplirse en casa del condenado o en lugares públicos destinados a tal obj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t 87 CP: Establecimientos separados para las mujeres y los menores de 21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Cumplimento de la cond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xtinción o culminació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o de la deuda con la socie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bién constituyen cumplimiento las medidas alternativas (incluso la remisión condicional y la libertad vigila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La Amnist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La amnist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perdón objetivo y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t. 60 Nº 16 CPR: Requiere de quorum calificado. En delitos terroristas es de las dos terceras pa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consideraría “personas”, sino que “hecho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limitación para la clase de del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gunos consideran que se tienen que reservar a  los militares y polít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La amnist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mnistía extingue por completo la PENA y todos sus efec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ntijuridicidad no desapar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timología: Am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legíti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194000" y="0"/>
            <a:ext cx="4950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0920" y="18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 olviden el indulto gener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rmas relevantes: 93 Nº 4 CP, 32 Nº 16 CPR, 60 Nº 16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a forma de perd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 ser general o parti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l: Ley de Quorum espe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sonal: Decreto supremo (Presid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ectos: sól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mite o conmuta la pe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per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 quita al favorecido el carácter de conden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a los efectos de la reincidencia o nuevo delinquimiento o los demás que determinan las le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e de la doctrina considera que los indultos generales podrían tener efecto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ulto particular o espe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icta por decreto supr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ere una sentencia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caso de delitos terroristas sólo se puede conmutar la muerte por presidio perpet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CUCIÓN DE LAS PENAS PRIVATIVAS DE LIBER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s de Establecimientos Penitenci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De Cumplimiento Penitenc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de De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de Reinserc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Penitenciarios de Men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Penitenciarios Femen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 condenado puede pedir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la rechazan puede insistir un año despu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decreto que resuelve la petición es confidencial (lo pueden conocer familiares, abogado y el condena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, remite o conmuta la p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ser total o par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Indulto Gener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a través de una ley con los mismos quorums que para la amnistí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necesaria la sentencia ejecutori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el perdón del ofendido cuando la pena se haya impuesto por delitos respecto de los cuales la ley sólo concede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cción penal privada o pública previa instancia particular.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(arts.: 19 y 93 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. 54 CPP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delitos de acción pública previa instancia particular no podrá procederse de oficio sin que, a lo menos, el ofendido por el delito hubiere denunciado el hecho a la justicia, al ministerio público o a la polic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les delito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lesiones previstas en los artículos 399 y 494, número 5º, del Código Pe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violación de domicil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violación de secretos prevista en los artículos 231 y 247, inciso segundo, del Código Pe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amenazas previstas en los artículos 296 y 297 del Código Pe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revistos en la ley N° 19.039, que establece normas aplicables a los privilegios industriales y protección de los derechos de propiedad industri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omunicación fraudulenta de secretos de la fábrica en que el imputado hubiere estado o estuviere empleado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que otras leyes señalaren en forma ex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. 55 CPP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litos de acción priv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No podrán ser ejercidas por otra persona que la víctima, las acciones que nacen de los siguientes del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alumnia y la injur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alta descrita en el número 11 del artículo 496 del Código Pe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ovocación a duelo y el denuesto o descrédito público por no haberlo aceptado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atrimonio del menor llevado a efecto sin el consentimiento de las personas designadas por la ley y celebrado de acuerdo con el funcionario llamado a autoriz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del ofendido sólo extingue la responsabilidad penal en las acciones penales públicas previa instancia particular ANTES de que se inicie el proceso. (art. 56 C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os delitos de acción penal privada, la extingue antes, durante el proceso e incluso mientras dure el cumplimiento de la pena. (Art. 56 C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PP habla de renuncia de la acción y no de perd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no extingue la acción, sino que la respons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(renuncia) no procede si la víctima es menor de 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uo sist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landés o Progres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 en Otorgar premios y recompensas a cambio de buena conducta y dedicación al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ompone de etapas que parten de un régimen celular estricto hasta una de mayor libert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siempre extingue la responsabilidad civil, incluso en los delitos de acción penal púb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La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CP en su artículo 93 Nºs 6 y 7 contempla dos clases de prescrip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cripción de la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cción pen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cripción de la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as difieren en cuanto a sus efectos, pero no en cuanto a su natural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 que se extingue es la responsabilidad pe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l es la naturaleza jurídica de la prescripció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ser procesal, material o mix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l es su funda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94 CP. La acción penal prescri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os crímenes a que la ley impone pena de presidio, reclusión o relegación perpetuos, en quinc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os demás crímenes, en diez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os simples delitos, en cinco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a faltas, en seis me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la pena asignada al delito está compuesta de grados, nos atendremos al mayor de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la pena es compuesta, nos atendremos a las privativas de libert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restrictivas de libertad deben asimilarse a las priva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iempo empieza a correr desde el día en que se ha cometido el delito (art. 95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 quiere decir que es desde que se pone fin a la actividad del au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os consideran que es desde que el delito está consumado (se olvida el delito, no la conduct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delito continuado y habitual, se cuentan los plazos desde la última activ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é sucede con el delito perman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corto tiempo: Existen en el CP y en diversas l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CP encontra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431: 1 año, injuria y calumnia (que no son lo mism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385: 2 meses para el matrimonio ileg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2 Prescripción de la P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97 CP. Las penas impuestas por sentencia ejecutoria prescrib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de presidio, reclusión y relegación perpetuos, en quinc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demás penas de crímenes, en diez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enas de simple delito, en cinco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de falta, en seis me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DE 199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á a cargo de gendarm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d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ención y Custodia de los de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ión educativa para la reinserción de los sentenci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híbe la tortura y los tratos crueles o in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 garantiza la libertad ideológica y religi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2 Prescripción de la P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mos que la condena se puede quebrantar por conducta activa u omis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s conducta omisiva (no concurrir al cumplimiento), se cuenta desde que la sentencia de término (art. 98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entiende que es desde la notificación de dicha sen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s activa (escaparse) desde el quebrantamiento de condena (art. 98 CP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ción de la prescrip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duce sólo durante su curso (debe haber empezado a corr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ecto: se pierde el tiempo transcurrido (art. 96 C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a: Cometer un nuevo crimen o simple delito (art. 99 C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ere sentencia ejecutoriada en este nuevo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 para ambas clases de prescrip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nsión de la prescripción (Art. 96 CP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 sólo para la prescripción de la acción pe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entras dura la suspensión, el plazo no se compu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al: Por dirigirse el proceso en contra del delincu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o si se paraliza por tres años sin condenarle, como si no se hubiera interrum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de cuando se dirige el proceso contra el delincu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7º CPP: Desde la primera actuación en el proceso dirigida en su con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233 CPP: Con la formalización de la investig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cesado ausente del territorio nacional (Art 100 C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da dos días le cuentan como uno para la prescripción, para el cómputo de los a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opera para las fal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se entienden ausentes los sujetos a prohibición o impedimento de volver (exilia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n a favor y en contra de toda clase de personas (art. 101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gradual (art. 103 CP.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ha transcurrido la mitad del plazo, se considera como dos o más atenuantes muy calificadas y ninguna agrav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 no se aplica a las faltas y prescripciones de corto 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la sentencia ya está dictada, se debe modifi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la reincidencia (art. 104 C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agravante de reincidencia no se toma en cuenta después de 10 años en los crímenes y 5 años en los simples del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uentan desde la comisión del he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cripción de las inhabilidades, en el caso de los derechos políticos, se somete a las reglas especiales ya vistas (105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cción civil se somete a las reglas civiles (105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recluidos cumplirán sus penas de preferencia en lugares cerca de su lugar de resid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busca lograr la reinserción. 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s esporádicas del estableci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 domin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 controlada al medio li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AS A LA P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a condi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sión condicional de la p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d Vigi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lusión Noctu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d Con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d Ocasional o Temporal (Sali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58:07Z</dcterms:created>
  <dc:creator>JWE</dc:creator>
  <dc:description/>
  <dc:language>en-US</dc:language>
  <cp:lastModifiedBy>JWE</cp:lastModifiedBy>
  <dcterms:modified xsi:type="dcterms:W3CDTF">2006-11-02T11:49:38Z</dcterms:modified>
  <cp:revision>14</cp:revision>
  <dc:subject/>
  <dc:title>EJECUCIÓN DE LAS PENAS</dc:title>
</cp:coreProperties>
</file>