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25.xml.rels" ContentType="application/vnd.openxmlformats-package.relationships+xml"/>
  <Override PartName="/ppt/slides/_rels/slide78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6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  <p:sldId id="321" r:id="rId68"/>
    <p:sldId id="322" r:id="rId69"/>
    <p:sldId id="323" r:id="rId70"/>
    <p:sldId id="324" r:id="rId71"/>
    <p:sldId id="325" r:id="rId72"/>
    <p:sldId id="326" r:id="rId73"/>
    <p:sldId id="327" r:id="rId74"/>
    <p:sldId id="328" r:id="rId75"/>
    <p:sldId id="329" r:id="rId76"/>
    <p:sldId id="330" r:id="rId77"/>
    <p:sldId id="331" r:id="rId78"/>
    <p:sldId id="332" r:id="rId79"/>
    <p:sldId id="333" r:id="rId8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slide" Target="slides/slide66.xml"/><Relationship Id="rId69" Type="http://schemas.openxmlformats.org/officeDocument/2006/relationships/slide" Target="slides/slide67.xml"/><Relationship Id="rId70" Type="http://schemas.openxmlformats.org/officeDocument/2006/relationships/slide" Target="slides/slide68.xml"/><Relationship Id="rId71" Type="http://schemas.openxmlformats.org/officeDocument/2006/relationships/slide" Target="slides/slide69.xml"/><Relationship Id="rId72" Type="http://schemas.openxmlformats.org/officeDocument/2006/relationships/slide" Target="slides/slide70.xml"/><Relationship Id="rId73" Type="http://schemas.openxmlformats.org/officeDocument/2006/relationships/slide" Target="slides/slide71.xml"/><Relationship Id="rId74" Type="http://schemas.openxmlformats.org/officeDocument/2006/relationships/slide" Target="slides/slide72.xml"/><Relationship Id="rId75" Type="http://schemas.openxmlformats.org/officeDocument/2006/relationships/slide" Target="slides/slide73.xml"/><Relationship Id="rId76" Type="http://schemas.openxmlformats.org/officeDocument/2006/relationships/slide" Target="slides/slide74.xml"/><Relationship Id="rId77" Type="http://schemas.openxmlformats.org/officeDocument/2006/relationships/slide" Target="slides/slide75.xml"/><Relationship Id="rId78" Type="http://schemas.openxmlformats.org/officeDocument/2006/relationships/slide" Target="slides/slide76.xml"/><Relationship Id="rId79" Type="http://schemas.openxmlformats.org/officeDocument/2006/relationships/slide" Target="slides/slide77.xml"/><Relationship Id="rId80" Type="http://schemas.openxmlformats.org/officeDocument/2006/relationships/slide" Target="slides/slide78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183F0-3FCA-4F32-BABF-368DB0408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B1DC2-ECD3-461F-A20F-569188AC6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BD2B6A-25E0-4DEF-B35E-DDF24A190A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CF59D-FD18-42F5-B457-E1D153CBFE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D57A3-DF01-4FF4-B9C3-DB90D2739C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89937-4272-4CD2-9810-7C276324E5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7FFC43-F6B7-4428-8726-6120AAFE2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1503-A62D-4E63-AE6C-52564D98D8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DAAC9-8A71-4989-8675-4ECE2230DC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B3ACB-1668-4EE0-995A-BB60EF1D05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C5F6D-6B59-46E4-BD89-793E56E47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5D285-6503-4B4E-B0BE-D8304AB05F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22EAB9-5514-4EE0-BC7A-32A633CEA8F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jpeg"/><Relationship Id="rId3" Type="http://schemas.openxmlformats.org/officeDocument/2006/relationships/image" Target="../media/image4.jpeg"/><Relationship Id="rId4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JECUCIÓN DE LAS PEN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la suspensión de su cumplimiento y en la discreta observancia  y en la discreta observancia y asistencia el condenado por la autoridad administrativa durante cie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ecedentes que hagan presumir que no volverá a delinqu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sea innecesaria la ejecución de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 favorec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id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(discreto) Control y asis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fesión, oficio, empleo, arte, industria, comer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tisfacción de indemniz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meter al condenado a un régimen de libertad a prueba que tenderá a su tratamiento intensivo e individualizado, bajo la vigilancia y orientación permanente de un deleg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de procedenci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 superior a 2 años y que no exceda los 5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nteriormente por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formes que concluyan que un tratamiento en libertad será eficaz y necesar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bligaciones del beneficiari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uración de la vigilancia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. Plazo no menor a la pe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. Mínimo de tres año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. Máximo de 6 año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2. Es prorrogable (pero nunca más allá de los límites anteriores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3. Residenc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4. Vigilancia y orientación permanentes por un delegad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5. Profesión oficio, empleo, arte o industri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6. Indemniz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7.Reparació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cierro en establecimientos especiales desde las 22 a las 6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es una medida alternativa, sino que una modalidad de cumpl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1 Día de reclusión nocturna equivale aun día de privación de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diciones para que proced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a pena no exceda de 3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No haber sido condenado a crimen o simple delito o si lo ha sido, que la privación de libertad no exceda de 2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unción de que la reclusión nocturna lo disuadirá de cometer nuevo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emnización civil: es prescindibl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Revocación de estas medida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cumpli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isión de un nuevo crimen o simple deli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ién y de qué manera se conceden estas medida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hace el tribu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be fundamentar dicha decis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68360" y="1628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general, la ejecución corresponde al Derecho Administrativo y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9 CP y 468 CPP: Necesidad de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0 CP: legalidad en la ejecución de las pen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ibertad Condicional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odo de cumplir en libertad la pena privativa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en penas privativas de más de un añ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e debe haber cumplido la mitad de la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calificado: 4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idio perpetuo simple: 20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más de 20 años: a los 10 y eso fija la pena en 2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enados por hurto o estafa a más de 6 años: a los 3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s de suma gravedad (homicidio calificado, Parricidio): dos terci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ducta intachable en el establec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prendido un ofici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ber asistido a la escuela del establecimiento: saber al menos leer y escribi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Otros requisit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bre estos requisitos se pronuncia el tribunal de conducta, compuesto por funcionarios del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dos últimos requisitos los puede dar por cumplidos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Modo de conceders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ediante Decreto Supremo del Ministerio de Justicia se concede y se revo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 petición de la Comisión de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l presidio perpetuo calificado se pronuncia la Corte Suprem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s de Revo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 el beneficiario es condenado por ebriedad o cualquier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ausentarse sin razón del lugar que se le designó como residenci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no presentarse por dos semanas consecutivas a la jefatura de policía correspondi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or faltar tres días en un mes a la ocupación que tenga o escuela donde asis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res notas de mala conducta calificadas por el tribunal de conduc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esporádic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ocede por razones calificadas: Por no más de 10 hor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puede otorgar como estímulo o recompensa: debe haber cumplido un tercio de la cond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la debida custodia: Por 6 horas, para diligencias personales urgen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Salida dominical bajo palabr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or no más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d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12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3360" indent="-60336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salida es sin custodia y bajo palabra de hon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LIBERTAD OCASIONAL O TEMPOR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3. 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áximo de 15 horas cada vez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 fines académicos o laboral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informe favorable del Consejo téc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le queden máximo 6 meses para optar a la 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lito cometido por el condenado con posterioridad a que la sentencia quede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contemplan en el artículo 90 y 91 del Libro primero del C.P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onstituyen tipos penales particulares, a pesar de su ubic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INCIPIOS GENER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81 CP: Qué pasa si el delincuente cae en estado de locura o demencia después de cometido el ilíci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Hay que distinguir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antes de dictada la sentencia de términ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s después de dictada la sentencia condenator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QUEBRANTAMIENTO DE P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stinguen dos situacion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brantamiento de condena (no cumplir la conden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2.  Comisión de un crimen o simple delito durante el cumplimiento o después de su quebrantamien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lito contemplado en el artículo 90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quiere una sentencia condenator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bien jurídico afectado: la administración de justi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1. Quebrantamiento de Conden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tuaciones posible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e el sujeto no se presenta a cumplir la condena. (omis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terrupción del cumplimiento (acción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omisión de un delito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refiere a ella el artículo 91 CP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imero procede la regla general: acumulación de pen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clusión o presidio perpetuos + reclusión o presidio perpetuos: puede imponerse presidio perpetuo calificad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el nuevo crimen o simple delito tuviera una pena menor: 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TINCIÓN DE LA RESPONSABILIDAD PE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AUSAL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Contempla el artículo 93 CP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Muer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mplimiento de la cond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nistí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ndult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rdón del ofendi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acción pen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La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684360" y="52560"/>
            <a:ext cx="7775280" cy="675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1. Muerte del responsab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nas personales: siempre se extingue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ecuniarias: hay que distinguir si es multa, comiso o caución y si está o no ejecutoriada l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Cumplimi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19 nº 7 CPR: las penas privativas de libertad sólo pueden cumplirse en casa del condenado o en lugares públicos destinados a tal obje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 87 CP: Establecimientos separados para las mujeres y los menores de 21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2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2. Cumplimento de la cond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 extinción o culmina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ago de la deuda con la sociedad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ambién constituyen cumplimiento las medidas alternativas (incluso la remisión condicional y la libertad vigilada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 perdón objetivo y gener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rt. 60 Nº 16 CPR: Requiere de quorum calificado. En delitos terroristas es de las dos terceras part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consideraría “personas”, sino que “hechos”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hay limitación para la clase de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lgunos consideran que se tienen que reservar a  los militares y polític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3. La amnistí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mnistía extingue por completo la PENA y todos sus efec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ntijuridicidad no desaparec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timología: Amnes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legítim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4194000" y="0"/>
            <a:ext cx="4950000" cy="685800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>
            <a:off x="0" y="0"/>
            <a:ext cx="4211640" cy="685800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250920" y="189000"/>
            <a:ext cx="352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0000"/>
                </a:solidFill>
                <a:uFillTx/>
                <a:latin typeface="Arial"/>
              </a:rPr>
              <a:t>No olviden el indulto general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rmas relevantes: 93 Nº 4 CP, 32 Nº 16 CPR, 60 Nº 16 CP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una forma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uede ser general o particul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General: Ley de Quorum espe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ersonal: Decreto supremo (Presidente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s: sól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remite o conmuta la pena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; pero </a:t>
            </a: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no quita al favorecido el carácter de condenado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ara los efectos de la reincidencia o nuevo delinquimiento o los demás que determinan las ley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arte de la doctrina considera que los indultos generales podrían tener efectos distint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00"/>
                </a:solidFill>
                <a:uFillTx/>
                <a:latin typeface="Arial"/>
              </a:rPr>
              <a:t>Indulto particular o especial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dicta por decreto suprem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quiere una sentencia ejecutoriad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aso de delitos terroristas sólo se puede conmutar la muerte por presidio perpetu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JECUCIÓN DE LAS PENAS PRIVATIVAS DE LIBERTAD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ases de Establecimientos Penitenciari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Cumplimiento Penitenciari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Deten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de Reinserción Soci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de Menor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entros Penitenciarios Femeni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odo condenado puede pedirl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se la rechazan puede insistir un año despué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creto que resuelve la petición es confidencial (lo pueden conocer familiares, abogado y el condenado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duce, remite o conmuta la pen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total o parci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4. Indult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Indulto Gener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a través de una ley con los mismos quorums que para la amnistía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necesaria la sentencia ejecutoriada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2"/>
          <a:stretch/>
        </p:blipFill>
        <p:spPr>
          <a:xfrm>
            <a:off x="0" y="4680"/>
            <a:ext cx="9144000" cy="6848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 el perdón del ofendido cuando la pena se haya impuesto por delitos respecto de los cuales la ley sólo concede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 privada o pública previa instancia particular. </a:t>
            </a:r>
            <a:r>
              <a:rPr b="0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(arts.: 19 y 93 C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Arial"/>
              </a:rPr>
              <a:t>Art. 54 CPP.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En los delitos de acción pública previa instancia particular no podrá procederse de oficio sin que, a lo menos, el ofendido por el delito hubiere denunciado el hecho a la justicia, al ministerio público o a la policí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Tales delitos son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lesiones previstas en los artículos 399 y 494, número 5º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domicilio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violación de secretos prevista en los artículos 231 y 247, inciso segundo,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s amenazas previstas en los artículos 296 y 297 del Código Pen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previstos en la ley N° 19.039, que establece normas aplicables a los privilegios industriales y protección de los derechos de propiedad industrial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a comunicación fraudulenta de secretos de la fábrica en que el imputado hubiere estado o estuviere empleado, 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0000"/>
                </a:solidFill>
                <a:latin typeface="Arial"/>
              </a:rPr>
              <a:t>Los que otras leyes señalaren en forma expres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rt. 55 CPP.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elitos de acción privad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 No podrán ser ejercidas por otra persona que la víctima, las acciones que nacen de los siguientes delito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calumnia y la injuria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falta descrita en el número 11 del artículo 496 del Código Penal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 provocación a duelo y el denuesto o descrédito público por no haberlo aceptado, 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AutoNum type="alphaL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 matrimonio del menor llevado a efecto sin el consentimiento de las personas designadas por la ley y celebrado de acuerdo con el funcionario llamado a autorizarlo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4572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del ofendido sólo extingue la responsabilidad penal en las acciones penales públicas previa instancia particular ANTES de que se inicie el proceso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los delitos de acción penal privada, la extingue antes, durante el proceso e incluso mientras dure el cumplimiento de la pena. (Art. 56 CPP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CPP habla de renuncia de la acción y no de perd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no extingue la acción, sino que la responsabil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(renuncia) no procede si la víctima es menor de e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ntiguo siste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rlandés o Progresiv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nsiste en Otorgar premios y recompensas a cambio de buena conducta y dedicación al trabaj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ompone de etapas que parten de un régimen celular estricto hasta una de mayor libert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5. Perdón del Ofendido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perdón siempre extingue la responsabilidad civil, incluso en los delitos de acción penal públic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La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l CP en su artículo 93 Nºs 6 y 7 contempla dos clases de prescripció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acción penal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 </a:t>
            </a:r>
            <a:r>
              <a:rPr b="1" lang="es-ES" sz="3200" spc="-1" strike="noStrike" u="sng">
                <a:solidFill>
                  <a:srgbClr val="000000"/>
                </a:solidFill>
                <a:uFillTx/>
                <a:latin typeface="Arial"/>
              </a:rPr>
              <a:t>pe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mbas difieren en cuanto a sus efectos, pero no en cuanto a su naturalez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 que se extingue es la responsabilidad pe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la naturaleza jurídica de la prescripción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uede ser procesal, material o mixt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uál es su fundamento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4 CP. La acción penal prescribe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crímenes a que la ley impone pena de presidio, reclusión o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demás crímenes, en diez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os simples delitos, en cinco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Respecto de la faltas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asignada al delito está compuesta de grados, nos atendremos al mayor de ell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pena es compuesta, nos atendremos a las privativas de libert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restrictivas de libertad deben asimilarse a las privativa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tiempo empieza a correr desde el día en que se ha cometido el delito (art. 9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quiere decir que es desde que se pone fin a la actividad del au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lgunos consideran que es desde que el delito está consumado (se olvida el delito, no la conducta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l delito continuado y habitual, se cuentan los plazos desde la última activida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Qué sucede con el delito perman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1 Prescripción de la acción Penal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corto tiempo: Existen en el CP y en diversas ley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n el CP encontramos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431: 1 año, injuria y calumnia (que no son lo mismo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385: 2 meses para el matrimonio ilegal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97 CP. Las penas impuestas por sentencia ejecutoria prescriben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de presidio, reclusión y relegación perpetuos, en quince añ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más penas de crímenes, en diez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penas de simple delito, en cinco añ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s de falta, en seis mes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ESDE 1992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stá a cargo de gendarmerí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nalidad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tención y Custodia de los detenid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cción educativa para la reinserción de los sentenciad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híbe la tortura y los tratos crueles o inhumano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 garantiza la libertad ideológica y religios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2 Prescripción de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Vimos que la condena se puede quebrantar por conducta activa u omisiv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conducta omisiva (no concurrir al cumplimiento), se cuenta desde que la sentencia de término (art. 98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e entiende que es desde la notificación de dicha sent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Si es activa (escaparse) desde el quebrantamiento de condena (art. 98 CP)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terrupción de la prescripción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 produce sólo durante su curso (debe haber empezado a correr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fecto: se pierde el tiempo transcurrido (art. 96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: Cometer un nuevo crimen o simple delito (art. 99 CP)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quiere sentencia ejecutoriada en este nuevo delit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para ambas clases de prescripció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uspensión de la prescripción (Art. 96 CP)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pera sólo para la prescripción de la acción pe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ientras dura la suspensión, el plazo no se computa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ausal: Por dirigirse el proceso en contra del delincuent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Pero si se paraliza por tres años sin condenarle, como si no se hubiera interrumpid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6. Prescrip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esde cuando se dirige el proceso contra el delincuente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7º CPP: Desde la primera actuación en el proceso dirigida en su cont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Art. 233 CPP: Con la formalización de la investigació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ocesado ausente del territorio nacional (Art 100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Cada dos días le cuentan como uno para la prescripción, para el cómputo de los año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opera para las falt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No se entienden ausentes los sujetos a prohibición o impedimento de volver (exiliados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rren a favor y en contra de toda clase de personas (art. 101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gradual (art. 103 CP.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ha transcurrido la mitad del plazo, se considera como dos o más atenuantes muy calificadas y ninguna agravant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sto no se aplica a las faltas y prescripciones de corto tiemp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 la sentencia ya está dictada, se debe modifica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Prescripción de la reincidencia (art. 104 CP)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 agravante de reincidencia no se toma en cuenta después de 10 años en los crímenes y 5 años en los simples delit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cuentan desde la comisión del hech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6. Prescripción: Reglas Comune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Prescripción de las inhabilidades, en el caso de los derechos políticos, se somete a las reglas especiales ya vista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La acción civil se somete a las reglas civiles (105 CP)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SISTEMA EN CHI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os recluidos cumplirán sus penas de preferencia en lugares cerca de su lugar de residenci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 busca lograr la reinserción. Forma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s esporádicas del establecimient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dominic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alida controlada al medio lib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ibertad condicional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LTERNATIVAS A LA PE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ondena condicional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misión condicional de la pe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Vigilad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lusión Nocturn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Condiciona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bertad Ocasional o Temporal (Salidas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5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17T13:58:07Z</dcterms:created>
  <dc:creator>JWE</dc:creator>
  <dc:description/>
  <dc:language>en-US</dc:language>
  <cp:lastModifiedBy>JWE</cp:lastModifiedBy>
  <dcterms:modified xsi:type="dcterms:W3CDTF">2006-11-02T11:49:38Z</dcterms:modified>
  <cp:revision>14</cp:revision>
  <dc:subject/>
  <dc:title>EJECUCIÓN DE LAS PENAS</dc:title>
</cp:coreProperties>
</file>