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C64-BB24-4F00-BD45-AA47E684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1AE-3946-4851-B5DF-20341866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A50-780C-42C2-AF93-236D503E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2E6-DA0F-4081-A54C-BC593E9A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C71-0B4D-4022-BB16-B4E87DB3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3FB-E5EF-46DE-8177-4F505187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313-2054-4CDF-9117-672A040D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7FF-ED4D-47FA-BE92-1391012F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2A4-FBB1-411B-83C6-2C7CE8A6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B48-11DE-4F3A-9006-AACF4DDB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7E5-2699-48EF-B982-5328FA8A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455-5779-457A-BCC7-C001220A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4250-2D07-4093-89FE-5CC383B42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CIÓN DE LAS P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960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la Número 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enalidad establecida para el delito no es sufic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mente se establece una amplitud de tiempo, a menos que la pena sea indivisible. Así, presidio mayor en su grado máximo puede ir de 15 años y un día a 20 a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ros factores: la etapa de desarrollo, la participación criminal, las modificatorias, la extensión del m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o se traduce en penas superiores o inferiores en gr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443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ómo sabemos cuál es la pena superior y la inferior? Hay tres principios fundamenta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o de contar las pen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da pena es un grado y cada grado es una pena (Etcheberr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57: Cada grado de una pena divisible constituye una pena disti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a grado sea una p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iere decir que dentro de las escalas graduales que señala el artículo 59, cada grado de una pena divisible se cuenta como una p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í, el presidio mayor en su grado máximo, se considera una pena distinta del presidio mayor en su grado mínimo 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ualmente, no se contempla la pena de presidio mayor “a secas”, sino que se contemplan la de PM en su grado máximo, la de PM en su grado medio y la de PM en su grado mínimo: Cada grado es una pen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cada pena sea un grado, se refiere también a las escalas graduales del artículo 59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as escalas están divididas en grados, donde cada pena representa un grado disti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í, el presidio perpetuo es el segundo grado  de la primera esc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o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calas gradu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59  establece las escal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rivativas de libert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y 3 restrictivas de libert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y 5 privativas de derech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° Presidio perpetuo calif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° Presidio o reclusión perpetu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° Presidio o reclusión may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° Presidio o reclusión may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° Presidio o reclusión may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° Presidio o reclusión men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° Presidio o reclusión men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° Presidio o reclusión men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° Prisión en su grado máx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Prisión en su grado m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Prisión en su grado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Relegación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Relegación mayor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Relegac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Relegación mayor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Relegación menor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Relegación menor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Relegación menor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° Destierro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° Destierro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Destierro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ÚMER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° Confinamiento o extrañamiento may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° Confinamiento o extrañamiento may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° Confinamiento o extrañamiento may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° Confinamiento o extrañamiento menores en sus grados máx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° Confinamiento o extrañamiento menores en sus grados me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° Confinamiento o extrañamiento menores en sus grados mín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° Destierro en su grado máx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° Destierro en su grado m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° Destierro en su grado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Inhabilitación absoluta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Inhabilitación absoluta temporal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Inhabilitación absoluta temporal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Inhabilitación absoluta temporal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Suspensión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Suspens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Suspensión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 NUMERO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Inhabilitación especial perpe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Inhabilitación especial temporal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° Inhabilitación especial temporal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° Inhabilitación especial temporal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° Suspensión en su grad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° Suspensión en su grado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° Suspensión en su gra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85680" y="987480"/>
            <a:ext cx="73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cnicas para determinar la p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637000"/>
            <a:ext cx="73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anterior al S.X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clásico lib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a absolutamente indetermi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a legalmente determinada: Absolutamente y relativ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escala parte de la pena más grave a la más benig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se aumenta o reduce la pena, se hace recorriendo la escala respe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mezclan las esca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í, si la pena de presidio mayor en su grado máximo se debe aumentar en un grado, se aumenta a presidio perpet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 princip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de grados superiores o inf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uceder que el presidio perpetuo calificado deba ser aumentado o que la suspensión en su grado mínimo deba ser reduc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 si falta grado superior o inf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no hay pena sup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o lo resuelve el artículo 77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y distintas respuestas para las distintas esca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1: presidio perpetuo calific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2 y 3 Presidio perpetu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4 y 5 la pena superior de la respectiva escala más reclusión menor en su grado me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no existe pena inf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o lo resuelve el artículo 60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ult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considera como la pena inmediatamente inferior a la última en todas las escalas gra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 númer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ijación definitiva de la pena se hace en atención a los siguientes fact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a asignada por la ley al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o de desarrollo del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 cri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nstancias modificatorias de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o menor extensión del mal causado y situación económica del conde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 numeral 2º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icidio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PENA ASIGNADA A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ey les asigna penalidades a los delitos. Cada disposición que señala un delito, también señala su s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cumple con la estructura básica de la norma penal: conducta + s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enalidad señalada al delito es para 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 deli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ste punto entran las figur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ific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ilegi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 1º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icidio Califi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PENA ASIGNADA A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s pena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ulativ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odas se imponen a todos los respons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imponer diferentes penas a cada respons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ultativ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imponerse a uno o más de los responsables y no a o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oria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en imponerse expresamente al conde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Grado de Desarrollo de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to Consum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nalidad básica (la asignada por la l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to Frustr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-1 g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tativ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 g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l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ólo se castigan cuando han sido consu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ituación anterior al S. XV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s del S. XVII, la justicia se impartía en nombre del rey que recibía su poder de la divi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se ámbito, el juez tenía la más amplias libertades y por lo tanto no existían garantías para el impu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Grado de Desarrollo del Del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rebaja se hace a partir de la pena inferior asignada al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s reglas no se aplican cuando la ley contempla normas especiales de punibilidad de la tentativa y el delito frustr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glas Fudamenta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nalidad básica (la asignada por la l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pl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-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ubri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-2 g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rebaja se hace a partir de la pena inferior asignada al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s reglas no se aplican cuando la ley da normas espe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ción de las Fal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ncubrimiento no es pu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plice: Pena no determinada que no puede ser superior a la mitad de la pena del a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tenuant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án enumeradas en el artículo 11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miten rebajar la p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más intensas que las agravantes: permiten rebajar hasta 3 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. Agrav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án enumeradas en el artículo 12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miten aumentar la pena hasta en un gr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s en que las agravantes no agra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constituye por si misma un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la ley ha expresado la circunstancia al describir y penar un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do agravante es de tal manera inherente al delito que sin su concurrencia éste no puede comet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Con presidio mayor en su grado medio a presidio perpetuo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arta. Con ensañamiento, aumentando deliberada e inhumanamente el dolor al ofendid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inta. Con premeditación conoc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presidio mayor en sus grados mínimo a medio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Sistema clásico lib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025640"/>
            <a:ext cx="871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revoluciones libertarias se impone la visión liberal, como reacción a la anter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fuerza por desterrar el arbitrio judicial. Encierra al tribunal en formulas casi matemá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jación de marcos penales muy ríg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de la pena en grados es estri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uística exuberante de circunstancias que pueden concurrir, y prolija reglamentación de las consecuencias de cada una de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bien se resguarda seguridad jurídica, pero se afecta noción de retribución justa y efic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juez se convierte en un simple brazo de la l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av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2. Son circunstancias agrav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a. Cometer el delito contra las personas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evosí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ntendiéndose que la hay cuando se obra a traición o sobre seg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. Cometerlo median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cio, recompensa o prome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a. Ejecutar el delito por medio de inundación, incendio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ne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otro artificio que pueda ocasionar grandes estragos o dañar a otr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a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umentar deliberadamente el 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 del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ndo otros males innecesarios para su ejec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a. En los delitos contra las personas, obrar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medit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ocida o emplear astucia, fraude o disf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antici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394. Cometen infanticidio el padre, la madre o los demás ascendientes legítimos o ilegítimos que dentro de las cuarenta y ocho horas después del parto, matan al hijo o descendiente, y serán penados con presidio mayor en sus grados mínimo a me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. Abusar el delincuente de la superioridad de su sexo o de sus fuerzas , en términos que el ofendido no pudiera defenderse con probabilidades de repeler la ofen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uso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nº 7a. Cometer el delito con abuso de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470. Las penas del artículo 467 se aplicarán tambié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° A los que en perjuicio de otro se apropiaren o distrajeren dinero, efectos o cualquiera otra cosa mueble que hubieren recibido en depósito, comisión o administración, o por otro título que produzca obligación de entregarla o devolve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comunic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ción m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ras causas pers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comunican, sólo si hubo conoci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cución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operan las circunstancias modificatori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 si la ley señala una pena compuest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ola indi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Indivi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solo grado de una Di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o más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sola pena indivi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109 inciso fi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os casos de este artículo si el delincuente fuere funcionario público, agente o comisionado del Gobierno de la República, que hubiere abusado de la autoridad, documentos o noticias que tuviere por razón de su cargo, la pena será la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idio perpetu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Una sola pena Indivisi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avantes: No se conside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o más Atenuantes sin agravantes: Puede aplicarse la pena inmediatamente inferior en uno o dos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 penas indivisi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372 bis.- El que, con ocasión de violación, cometiere además homicidio en la persona de víctima, será castigado con presidio perpetuo a presidio perpetuo cal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os penas Indivis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modificatorias: El tribunal impone cualqui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nuantes + agravantes: El tribunal realiza una compensación r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atenuante: Se aplica el grado mín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o + Atenuantes: -1 o 2 g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gravante: Grado máx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grado de una divisib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: Homicidio (en el cas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Pena absolutamente indetermi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9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a reacción a las injusticias del sistema anterior, que surge del positivismo en los S. XIX y principios del X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de la premisa que no es posible jurídicamente precisar las penas con antelación al hecho concr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n de la visión de del delito com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ermedad so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elincuente es un enfermo que hay que tratar, y el tratamiento es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ón p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llo legislador no puede precisar naturaleza y extensión de la pena. Duración de la pena queda sujeta al progreso personal que se alcance al aplic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sistema se contrapone con estado de derecho, pues no respeta principio de leg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Un grado de una pena divisi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modificatorias: Tribunal recorre toda la exten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mbas: Compensación r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 atenuante: Mí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 o + atenuantes: -1 o 2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 agravante: Má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 o + Agravantes: + 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s o más grad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ículo 391: Homicid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391. El que mate a otro y no esté comprendido en el artículo anterior, será pen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 presidio mayor en su grado medio a presidio perpetu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 ejecutare el homicidio con alguna de las circunstanci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ra. Con alevos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nda. Por premio o promesa remune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a. Por medio de ven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rta. Con ensañamiento, aumentando deliberada e inhumanamente el dolor al of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ta. Con premeditación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°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io mayor en sus grados mínimo a me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cualquier otro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os o más gr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ay modificatorias: Tribunal recorre toda la exten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as: Compensación 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tenuante: No se puede imponer el grado máxi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o + atenuantes: -1, 2  o 3 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gravante: No se puede imponer el grado máx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o + agravantes: +1 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 común a todos los ca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ola atenuante muy calificada: -1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3 CP: Eximentes del artículo 10 incompletas: -1, 2 o 3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Circunstancias Modificato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ificación” y “entid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dr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álculo del Mínimum y Máximum en penas cuyos extremos se expresan en distintas unidades de tiempo. (días-añ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ificatorias fuera de los arts. 11 y 12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tensión del mal causa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facultades económ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ón del mal caus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lo se aplica cuando la pena conste de g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ribunal para determinar la pena volverá a revisar las modificato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rá en cuenta la mayor o menor extensión del mal cau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Fundamenta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Extensión del mal causado y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cultades económ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facultades económicas sólo son relevantes para la pena de mu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CIÓN DE LA PENA: IMPORTANCIA EL PRO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ión Preve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das Altern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 Principio de Oport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 Archivo Provi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 Suspensión Condicional del Proce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ocedimiento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 Simpl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 Abrev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Pena absolutamente determi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84464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ona contra el sistema de pena absolutamente indetermi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oma el sistema anterior, liberal clás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elve a encuadrarse en marcos rígidos parala determinación de la p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Pena relativamente determi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 mode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juga la labor del juez con la del Legisl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eñalan marcos amplios para que le juez realice su la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12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mas reguladoras de la pena en el 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730520"/>
            <a:ext cx="81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e posee un sistema reglado, cercano al liberal clás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tablece un detallado cuadro de penas y sus diversos grados, al cual ha de atenerse el sentenci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acilitar operación de modelo matemático CP contiene disposiciones que permiten establecer una relación cuantitativa entre las pe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las gener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la número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ley les asigna penalidades a los delitos. Cada disposicón que señala un delito, tambiénseñala su sa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umple con la estructura básica de la norma penal: conducta + sa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ena está asignada por dos criterios: la gravedad del ilícito y la naturaleza del m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los delitos funcionarios se castigan con inhabilidades y los políticos con restric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, hay una preferencia por las penas privativas de libert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6:55:03Z</dcterms:created>
  <dc:creator>JWE</dc:creator>
  <dc:description/>
  <dc:language>en-US</dc:language>
  <cp:lastModifiedBy>JWE</cp:lastModifiedBy>
  <dcterms:modified xsi:type="dcterms:W3CDTF">2006-10-13T02:26:17Z</dcterms:modified>
  <cp:revision>12</cp:revision>
  <dc:subject/>
  <dc:title>DETERMINACIÓN DE LAS PENAS</dc:title>
</cp:coreProperties>
</file>