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21D9-7099-40A0-8E36-C2B4056E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988E-1C8A-4971-9643-59F58394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55F1-BCAD-4FEF-9566-89BFAE5B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9AAA-9A85-46F0-B2FE-CCF7DC84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4D7D-22AF-44A2-A489-CEB1847E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63FB-07B2-4833-9066-6DD0DE4E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44C7-2E2A-439B-8602-7392A2A9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1AAB-BE9F-43F6-89C5-F42A92AF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AB62-5513-474E-901A-AD87EE1D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0849-FD51-4298-ABB1-15A009FA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C3ED-CBD3-4F32-AC83-6794E5E4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8812-EE3F-44A3-AD4F-D49B3A9E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3FA1-D0C3-4167-B6FD-345580393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CIÓN DE LAS P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960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la Número 2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penalidad establecida para el delito no es sufici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mente se establece una amplitud de tiempo, a menos que la pena sea indivisible. Así, presidio mayor en su grado máximo puede ir de 15 años y un día a 20 añ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ros factores: la etapa de desarrollo, la participación criminal, las modificatorias, la extensión del m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o se traduce en penas superiores o inferiores en gr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ómo sabemos cuál es la pena superior y la inferior? Hay tres principios fundamenta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 princip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o de contar las pen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ada pena es un grado y cada grado es una pena (Etcheberry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57: Cada grado de una pena divisible constituye una pena disti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da grado sea una p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iere decir que dentro de las escalas graduales que señala el artículo 59, cada grado de una pena divisible se cuenta como una p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í, el presidio mayor en su grado máximo, se considera una pena distinta del presidio mayor en su grado mínimo 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ualmente, no se contempla la pena de presidio mayor “a secas”, sino que se contemplan la de PM en su grado máximo, la de PM en su grado medio y la de PM en su grado mínimo: Cada grado es una pena disti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ue cada pena sea un grado, se refiere también a las escalas graduales del artículo 59 C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as escalas están divididas en grados, donde cada pena representa un grado disti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sí, el presidio perpetuo es el segundo grado  de la primera esca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undo princip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calas gradua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59  establece las escala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Privativas de libert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y 3 restrictivas de libert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y 5 privativas de derech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 NUMER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° Presidio perpetuo califi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° Presidio o reclusión perpetu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° Presidio o reclusión mayores en sus grados máx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° Presidio o reclusión mayores en sus grados me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° Presidio o reclusión mayores en sus grados mín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° Presidio o reclusión menores en sus grados máx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° Presidio o reclusión menores en sus grados me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° Presidio o reclusión menores en sus grados mín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° Prisión en su grado máx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Prisión en su grado me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 Prisión en su grado mín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 NUMERO 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Relegación perpet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Relegación mayor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° Relegación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° Relegación mayor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° Relegación menor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° Relegación menor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° Relegación menor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° Destierro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° Destierro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Destierro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 NÚMERO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° Confinamiento o extrañamiento mayores en sus grados máx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° Confinamiento o extrañamiento mayores en sus grados me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° Confinamiento o extrañamiento mayores en sus grados mín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° Confinamiento o extrañamiento menores en sus grados máx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° Confinamiento o extrañamiento menores en sus grados me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° Confinamiento o extrañamiento menores en sus grados mín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° Destierro en su grado máx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° Destierro en su grado me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° Destierro en su grado mín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 NUMERO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Inhabilitación absoluta perpet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Inhabilitación absoluta temporal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° Inhabilitación absoluta temporal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° Inhabilitación absoluta temporal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° Suspensión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° Suspensión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° Suspensión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 NUMERO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Inhabilitación especial perpet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Inhabilitación especial temporal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° Inhabilitación especial temporal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° Inhabilitación especial temporal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° Suspensión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° Suspensión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° Suspensión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85680" y="987480"/>
            <a:ext cx="733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écnicas para determinar la p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2637000"/>
            <a:ext cx="7315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anterior al S.XV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clásico lib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a absolutamente indetermi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a legalmente determinada: Absolutamente y relativ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a escala parte de la pena más grave a la más benig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do se aumenta o reduce la pena, se hace recorriendo la escala respec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 mezclan las esca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í, si la pena de presidio mayor en su grado máximo se debe aumentar en un grado, se aumenta a presidio perpetu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cer princip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ta de grados superiores o inferi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suceder que el presidio perpetuo calificado deba ser aumentado o que la suspensión en su grado mínimo deba ser reduc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e distinguir si falta grado superior o inferi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 no hay pena superi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o lo resuelve el artículo 77 C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y distintas respuestas para las distintas esca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ala 1: presidio perpetuo calific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ala 2 y 3 Presidio perpetu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ala 4 y 5 la pena superior de la respectiva escala más reclusión menor en su grado me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no existe pena infer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o lo resuelve el artículo 60 C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ult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e considera como la pena inmediatamente inferior a la última en todas las escalas gradu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la númer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ijación definitiva de la pena se hace en atención a los siguientes fact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a asignada por la ley al del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o de desarrollo del del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ción cri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nstancias modificatorias de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or o menor extensión del mal causado y situación económica del conde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ículo 391 numeral 2º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icidio si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Con presidio mayor en su grado medio a presidio perpetuo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° Con presidio mayor en sus grados mínimo a medio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PENA ASIGNADA AL DEL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ley les asigna penalidades a los delitos. Cada disposición que señala un delito, también señala su san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cumple con la estructura básica de la norma penal: conducta + san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enalidad señalada al delito es para e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 deli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um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ste punto entran las figur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ifica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vilegia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ículo 391 1º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icidio Califi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° Con presidio mayor en su grado medio a presidio perpetuo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presidio mayor en sus grados mínimo a medio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PENA ASIGNADA AL DEL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s pena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pulativ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odas se imponen a todos los respons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a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de imponer diferentes penas a cada respons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ultativa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de imponerse a uno o más de los responsables y no a o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oria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en imponerse expresamente al conden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Grado de Desarrollo del Del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ito Consum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enalidad básica (la asignada por la l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ito Frustr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-1 g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tativ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 gr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l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ólo se castigan cuando han sido consum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Situación anterior al S. XV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s del S. XVII, la justicia se impartía en nombre del rey que recibía su poder de la divin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se ámbito, el juez tenía la más amplias libertades y por lo tanto no existían garantías para el impu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Grado de Desarrollo del Del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rebaja se hace a partir de la pena inferior asignada al del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s reglas no se aplican cuando la ley contempla normas especiales de punibilidad de la tentativa y el delito frustr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ículo 391: Homici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 presidio mayor en su grado medio a presidio perpetu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sidio mayor en sus grados mínimo a med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eglas Fudamenta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3. Particip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enalidad básica (la asignada por la le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pl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-1 g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ubri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-2 g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Particip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rebaja se hace a partir de la pena inferior asignada al del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s reglas no se aplican cuando la ley da normas espe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ículo 391: Homici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 presidio mayor en su grado medio a presidio perpetu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sidio mayor en sus grados mínimo a med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Particip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uación de las Falt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encubrimiento no es pun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plice: Pena no determinada que no puede ser superior a la mitad de la pena del au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tenuant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án enumeradas en el artículo 11 C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miten rebajar la pe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n más intensas que las agravantes: permiten rebajar hasta 3 g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. Agrava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án enumeradas en el artículo 12 C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miten aumentar la pena hasta en un gr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os en que las agravantes no agrav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do constituye por si misma un del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do la ley ha expresado la circunstancia al describir y penar un del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do agravante es de tal manera inherente al delito que sin su concurrencia éste no puede comete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ículo 391: Homici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Con presidio mayor en su grado medio a presidio perpetuo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arta. Con ensañamiento, aumentando deliberada e inhumanamente el dolor al ofendid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inta. Con premeditación conoc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presidio mayor en sus grados mínimo a medio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Sistema clásico lib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025640"/>
            <a:ext cx="8713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revoluciones libertarias se impone la visión liberal, como reacción a la anteri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sfuerza por desterrar el arbitrio judicial. Encierra al tribunal en formulas casi matemá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jación de marcos penales muy ríg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ón de la pena en grados es estric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uística exuberante de circunstancias que pueden concurrir, y prolija reglamentación de las consecuencias de cada una de el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bien se resguarda seguridad jurídica, pero se afecta noción de retribución justa y efica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juez se convierte en un simple brazo de la l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av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12. Son circunstancias agrava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a. Cometer el delito contra las personas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evosí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ntendiéndose que la hay cuando se obra a traición o sobre seg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a. Cometerlo mediant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cio, recompensa o prome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a. Ejecutar el delito por medio de inundación, incendio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ne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 otro artificio que pueda ocasionar grandes estragos o dañar a otras pers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a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umentar deliberadamente el 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l del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ando otros males innecesarios para su ejec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a. En los delitos contra las personas, obrar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medit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ocida o emplear astucia, fraude o disf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antici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. 394. Cometen infanticidio el padre, la madre o los demás ascendientes legítimos o ilegítimos que dentro de las cuarenta y ocho horas después del parto, matan al hijo o descendiente, y serán penados con presidio mayor en sus grados mínimo a me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. Abusar el delincuente de la superioridad de su sexo o de sus fuerzas , en términos que el ofendido no pudiera defenderse con probabilidades de repeler la ofen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uso de Conf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nº 7a. Cometer el delito con abuso de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. 470. Las penas del artículo 467 se aplicarán tambié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° A los que en perjuicio de otro se apropiaren o distrajeren dinero, efectos o cualquiera otra cosa mueble que hubieren recibido en depósito, comisión o administración, o por otro título que produzca obligación de entregarla o devolver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unicabil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 comunica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osición m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ras causas pers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 comunican, sólo si hubo conocimi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cución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operan las circunstancias modificatoria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e distinguir si la ley señala una pena compuesta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ola indi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Indivi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solo grado de una Di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o más g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 sola pena indivis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ículo 109 inciso fi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os casos de este artículo si el delincuente fuere funcionario público, agente o comisionado del Gobierno de la República, que hubiere abusado de la autoridad, documentos o noticias que tuviere por razón de su cargo, la pena será la 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idio perpetu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Una sola pena Indivisi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avantes: No se consider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o más Atenuantes sin agravantes: Puede aplicarse la pena inmediatamente inferior en uno o dos g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s penas indivisi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ículo 372 bis.- El que, con ocasión de violación, cometiere además homicidio en la persona de víctima, será castigado con presidio perpetuo a presidio perpetuo califi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os penas Indivisi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modificatorias: El tribunal impone cualqui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enuantes + agravantes: El tribunal realiza una compensación r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atenuante: Se aplica el grado mín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o + Atenuantes: -1 o 2 g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agravante: Grado máxi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 grado de una divisib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ículo 391: Homicidio (en el cas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 presidio mayor en su grado medio a presidio perpetu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sidio mayor en sus grados mínimo a med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Pena absolutamente indetermi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052640"/>
            <a:ext cx="8496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a reacción a las injusticias del sistema anterior, que surge del positivismo en los S. XIX y principios del X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e de la premisa que no es posible jurídicamente precisar las penas con antelación al hecho concr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en de la visión de del delito com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ermedad so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Delincuente es un enfermo que hay que tratar, y el tratamiento es l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ción pe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ello legislador no puede precisar naturaleza y extensión de la pena. Duración de la pena queda sujeta al progreso personal que se alcance al aplicar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sistema se contrapone con estado de derecho, pues no respeta principio de leg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. Un grado de una pena divisi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hay modificatorias: Tribunal recorre toda la exten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mbas: Compensación r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 atenuante: Mín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 o + atenuantes: -1 o 2 g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 agravante: Máx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 o + Agravantes: + 1 g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s o más grado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ículo 391: Homicid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 presidio mayor en su grado medio a presidio perpetu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sidio mayor en sus grados mínimo a med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os o más gr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hay modificatorias: Tribunal recorre toda la exten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as: Compensación r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atenuante: No se puede imponer el grado máxi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o + atenuantes: -1, 2  o 3 g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agravante: No se puede imponer el grado máx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o + agravantes: +1 g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la común a todos los ca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ola atenuante muy calificada: -1 g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73 CP: Eximentes del artículo 10 incompletas: -1, 2 o 3 g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BLE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lificación” y “entid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l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drá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álculo del Mínimum y Máximum en penas cuyos extremos se expresan en distintas unidades de tiempo. (días-añ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ificatorias fuera de los arts. 11 y 12 C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tensión del mal causa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y facultades económ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ón del mal caus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ólo se aplica cuando la pena conste de g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tribunal para determinar la pena volverá a revisar las modificato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rá en cuenta la mayor o menor extensión del mal caus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Extensión del mal causado y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cultades económ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facultades económicas sólo son relevantes para la pena de mul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CIÓN DE LA PENA: IMPORTANCIA EL PROC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sión Preven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idas Altern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1 Principio de Oportun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2 Archivo Provi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3 Suspensión Condicional del Proced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rocedimiento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1 Simplifi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2 Abrevi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Pena absolutamente determi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84464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ciona contra el sistema de pena absolutamente indetermi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oma el sistema anterior, liberal clás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uelve a encuadrarse en marcos rígidos parala determinación de la p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Pena relativamente determin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ndencia moder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juga la labor del juez con la del Legisl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señalan marcos amplios para que le juez realice su lab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712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rmas reguladoras de la pena en el 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730520"/>
            <a:ext cx="813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e posee un sistema reglado, cercano al liberal clás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stablece un detallado cuadro de penas y sus diversos grados, al cual ha de atenerse el sentenci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acilitar operación de modelo matemático CP contiene disposiciones que permiten establecer una relación cuantitativa entre las pe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la número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ley les asigna penalidades a los delitos. Cada disposicón que señala un delito, tambiénseñala su san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umple con la estructura básica de la norma penal: conducta + san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ena está asignada por dos criterios: la gravedad del ilícito y la naturaleza del m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í los delitos funcionarios se castigan con inhabilidades y los políticos con restric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n embargo, hay una preferencia por las penas privativas de libert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6:55:03Z</dcterms:created>
  <dc:creator>JWE</dc:creator>
  <dc:description/>
  <dc:language>en-US</dc:language>
  <cp:lastModifiedBy>JWE</cp:lastModifiedBy>
  <dcterms:modified xsi:type="dcterms:W3CDTF">2006-10-13T02:26:17Z</dcterms:modified>
  <cp:revision>12</cp:revision>
  <dc:subject/>
  <dc:title>DETERMINACIÓN DE LAS PENAS</dc:title>
</cp:coreProperties>
</file>