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967C2-8E74-4490-997A-FBDD01EDD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A7B1-1828-486D-BC25-9DBA7C09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7831F-E9EE-4259-8FB9-487DAD667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F91DE-5674-4D7B-825D-BFA521094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B3252-DDDF-46D5-AC99-9587DA9AF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12E22-1D6C-43B6-A4B0-54B48E840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CFB08-9BEA-4D0D-A339-57452362F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A5D2F-81B1-4F2D-9150-9F91E5DCD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D3294-897E-4A69-995B-A78401D78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9ED7A-D03C-49F3-93EB-E5F4C73C7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0CB3D-8FDD-4756-8DBC-58C3D2263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33E99-76B7-4079-9E64-BB79B06DF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E6B1A-AF96-4DB5-9931-1F3438AA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F2657-BBF1-485E-A1C5-17E6618C0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5BE0A-5D4D-4322-91F1-93640F5EB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0002A-7DA8-41A5-9B06-71220282B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9C4B4-2A7A-482D-8E6C-FA5B85442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1FFBC-F41E-42FA-A44A-483367BAF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16859-2272-43DD-A936-CCEC50EF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493B-E26A-4F10-9372-720A0A9C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90E2E-ED1F-4D22-99E9-1348321B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C8898-A91D-470E-B360-BAC782C8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CCE2-1AE5-49A1-863C-AEEE26E5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727B5-BCD8-49D6-A050-637708102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2B65-A2F2-449F-B44F-68CB76298C20}"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4FF8-C79E-4E57-A29E-23733917084B}"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10-02T13:57:10Z</dcterms:modified>
  <cp:revision>15</cp:revision>
  <dc:subject/>
  <dc:title>FUENTES E INTERPRETACION DE LA LEY PENAL</dc:title>
</cp:coreProperties>
</file>