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B83E4-568E-461D-A59A-F491908E9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1C2D5-27A1-43D6-8763-D21B35C17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FDCC6-F37F-453C-9A24-BB740E8E5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3C545-414E-4350-A711-1A84A3791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B39BA-76B9-4517-8FBC-B6C72C4E0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40131-7851-4D5B-9A76-79112B819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DF535-28BB-4F2B-A043-E7E73AFE9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04CD2-87FF-455D-A902-CF0A99A65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39E97-D2BF-4625-9119-21E919C2A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91C8E-230A-44E6-8719-56F44C85F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2F89D-303C-40C9-91CA-834FA815D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A02DB-12D3-459F-B9A1-6CBF67BB6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E8129-5952-4F12-995D-F402E18B5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E0FF9-298E-4CD5-9E0D-6829B4D93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D0B44-036E-488A-A884-031BFF124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805A5-E77A-4049-A1B5-145A52C91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C4E70-0A97-4BA5-AF26-0FC01CD3B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E96F6-097E-4930-A3BF-A56AF6371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66356-1C73-4C81-BD8B-5A871203E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BC5BF-D260-4451-AA3C-7AF33FDE7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B6BF9-8153-4BD2-A00A-FEDF28C87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D63EE-3EAD-4C5A-9BCB-5240D8907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2EE2E-0FAF-40B9-8B19-3DF914A20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6202-9FC6-4DC6-AB03-916482528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AA21-FBED-4478-885A-9EB95BE75612}"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2E03-D685-4469-825F-A1761A2E797F}"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08-29T19:10:24Z</dcterms:modified>
  <cp:revision>15</cp:revision>
  <dc:subject/>
  <dc:title>FUENTES E INTERPRETACION DE LA LEY PENAL</dc:title>
</cp:coreProperties>
</file>