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86C94-B73E-4D9D-B9AE-3827201F4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4D099-71B2-400B-BD94-6843BC7CE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AC789-FB11-474F-9A52-D5AA4A390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3ADE7-0732-4468-BE9C-7D02E83AD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FCD63-A5B8-4437-A837-E80B96D9F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E444C-8D95-429D-A37E-EE91F73F5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2FF75-7911-4A4F-B53D-68AC5A609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364E9-A9A4-4ED6-B04F-132EF5C4F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6D71F-4D26-4464-B08F-726F35DA6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F5E3F-5734-4E02-888E-B5B2F1566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9C957-5BD3-4908-BA40-46934234E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11BB7-61F9-45EE-9635-1E6413E0E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46870-253D-488C-BBDB-539622FD1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CAF09-C4A3-4905-8397-F03B14426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1954D-5AAA-4EFB-928E-BAF6B6B7A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2F99B-751F-4418-BE7B-D481761AB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CB107-EB2E-439D-AB30-D4CEF3C69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630F3-FA9E-46B8-B58D-F6DF513E7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29BBF-31D6-461B-A95C-CFD9E17CD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0F761-3007-4109-9FCF-DA9FD762B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89DD3-104A-4599-BFB4-3C7D2F569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385E-7DDB-4138-80E8-E0DABC432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99061-A2A6-4AA2-ADFE-6F11996C7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18A58-9491-44E2-8520-52D1337D3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E553-212E-440C-A29A-2780B8E6B665}"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0117-91F7-4AD2-9380-5973AB8347F7}"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08-29T19:10:24Z</dcterms:modified>
  <cp:revision>15</cp:revision>
  <dc:subject/>
  <dc:title>FUENTES E INTERPRETACION DE LA LEY PENAL</dc:title>
</cp:coreProperties>
</file>