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670-2821-4E73-A304-FEB79A43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3C0-0A5A-4B96-BD56-5793204D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D43-85EB-4D43-B98A-1D8F674A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CE8-78B1-46F4-9FEF-9DB3C130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899A-A191-4824-9A1B-7040EA0A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D053-1442-417F-9B2D-7D21DB2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B977-4B9B-4BA5-9B68-F6D6808A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FB0D-C0B0-498E-A203-45FA0ECA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0462-1F49-46BB-9332-BD1E9FF6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9E4F-F83E-4FC5-856D-BD33021C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AF35-06ED-4DFF-AF36-5EDB11C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696-F4A4-4771-B20E-C1D68418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9199-7EA6-4424-956B-8BBC52BB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04E2-84AB-4438-8E1C-8C2EC89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23D2-C5A6-4F62-8A2C-E803C9E1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ABB5-ED6B-4838-9A49-583F19DF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1F18-F815-4209-8E23-069B2B56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1C5-ACE7-4DF5-AD90-91369A2C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849-39E7-479F-966E-3DB23C97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2E1-D84D-4D9B-88ED-61249D48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C82-3E93-4AC5-A4A2-16A8A976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EF1-F829-45C4-A08F-08F1E3A9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581-7363-40F3-9156-2F133ED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C87-13E8-485A-A632-280AA04C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8B07-E9FB-4DFE-A546-A8B4A9C503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6F91-146F-422E-8E4F-5ED2D17485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1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al menos, dos semestres de duración, impartida por alguna de las instituciones antes señal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02T19:38:07Z</dcterms:modified>
  <cp:revision>68</cp:revision>
  <dc:subject/>
  <dc:title>Diapositiva 1</dc:title>
</cp:coreProperties>
</file>