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121-E85A-4845-8785-6411E413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F0C-C832-4A50-9AF8-434F553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A47-3700-4BC1-904F-6D88DEF5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72A-CDD3-4E1A-9D92-37E712E8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E497-D562-40FC-A10E-7B71C817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6E48-961C-44FE-A0EE-87CB30D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2A2-67BA-4FD8-ADC3-A01683A6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6F6C-D823-4396-BB02-62F8F22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FBD9-94CE-48A1-A824-5335A064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F7E-A678-4114-8F3F-1476665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F2D4-89F7-4FDD-88EA-A2FC4DEE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731-C3E7-4127-8D70-C24453E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76F-AA31-449B-9A16-AC775A6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572B-BC90-4C94-8A72-7656601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B2C-A152-4562-BC4D-DE8E5B4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F5C8-3367-4AA6-B3CC-898B82C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F0B-7932-4909-9199-9E77BAA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4D2-3749-4D1D-9179-3EF48259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644-E437-4920-95C2-1CEFF55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BFF-2219-4986-A18F-D35F609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B79-49A0-4C4A-8756-B386639C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83B-278D-48DA-AC9E-B995132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6C9-6DCF-4177-9F28-F005D53E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20A-3DD1-4880-9FB7-19F4AFD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E5D-7570-4447-8987-FF6FEC97B65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FB77-1A41-48F0-8C5D-3723DD56D2C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2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10T20:32:57Z</dcterms:modified>
  <cp:revision>69</cp:revision>
  <dc:subject/>
  <dc:title>Diapositiva 1</dc:title>
</cp:coreProperties>
</file>