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079-A855-4034-8DCA-3F96B326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1BD-BD36-49C6-A47F-A40F460C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889-9179-4442-874B-84B20162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E9C-70F3-4BCD-BB1F-E5F30733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E311-3147-44C7-A83E-1D4A3CAB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1236-93D9-40E3-B1ED-781D04E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5F2B-443C-40CE-9BC0-B894A79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B1E1-0F30-4162-84AE-352298A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474D-CC8E-463D-ABFC-842462FA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AB14-E6F7-4E1C-89D7-526DB62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B1E8-ED19-410F-8D20-7B86B97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25A-B96B-41F5-A32B-90D6B899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D937-6B1B-4D5A-9C15-BCDD87B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A34-FEA9-4A70-95AC-5FDB7F84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8AE-8E68-4586-93C5-B7D673F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8BC-1B90-47F3-839A-17EC0339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475F-6E0B-422C-89A5-B55D9DFD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C28-DD73-4290-B1BF-2AC959E9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D35-FF8A-4020-A551-7803EE94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B4E-24B3-4763-B2CA-B4DD9A5D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627-DC21-4DFC-BB7A-B16448D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B4F-0055-439B-8527-3354A44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B9A-92D3-4F7F-8F50-D1A25EF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98A-D95B-456B-A46E-D3EFAF7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276-67BD-494C-90F0-07B9820B965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91A7-FB48-4554-AD5F-71047C26D45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32:57Z</dcterms:modified>
  <cp:revision>69</cp:revision>
  <dc:subject/>
  <dc:title>Diapositiva 1</dc:title>
</cp:coreProperties>
</file>