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8CD-29FE-48E0-9A74-DC874921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624-B9C6-4CDF-8473-09ADB94D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789-E7B4-4338-9FFF-0FC694E7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0EE-0668-415F-AAF8-8C2BE616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FFC7-24B1-4BEA-9CA4-0DADC345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4291-9807-419E-8C81-77D03A40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BD5D-2857-49AE-8A4E-69441299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507C-F4DA-4F2E-B07E-67113849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E405-FFDA-4850-8C28-B0899CDD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3D05-9BB0-4FCF-848C-DC54D50A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0ED1-DBA0-4988-97FD-1F8C2532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ECD-A478-48EA-88CF-EC7EA040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F46D-F605-407D-8A4E-C7029F1B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CB47-A60B-416F-8F2B-378A420A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0924-0447-4984-B51F-D6BA7D4D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818C-A54A-4842-BE02-DF50F977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98D9-BB70-4782-914E-EAC70C19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B1A-79EB-4F20-9F8A-F5385623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EB4-57E4-4903-8C37-9C3B06FA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3FA-A1E0-4CC6-938E-5A014C14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89F5-DA97-4DEE-BF6D-CC05E00B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9A2-4AFD-4CE2-B5AE-69B12C3B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C62-8DA3-4882-8113-BDA5E08E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2E0-C574-4339-A139-66506E37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5B7A-713D-4449-864E-524189BD23D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D192-C905-4038-9261-C7A38E96A32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2: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juez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dos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do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dos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re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tres miembros del consejo técnico, dos administrativos jefes, cuatro administrativos 1º, dos administrativos 2º, un administrativo 3º y un auxiliar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uatro jueces, un administrador, cuatro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nc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inco jueces, un administrador, cinco 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i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eis jueces, un administrador, seis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iet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iet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et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ch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ocho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cho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ueve juec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uev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uev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iez jueces, un administrador, diez miembros del consejo técnico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oce jueces, un administrador, doce miembros del consejo técnico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el primero, el segundo y el tercer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y el cuart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28600"/>
            <a:ext cx="79246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ordinario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r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u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lificar anualmente a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Sus miembros son auxiliares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l menos, dos semestres de duración, impartida por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guna universidad o instituto de reconocido prestigio que desarrollen docencia, capacitación o investigación en dichas materi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b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tria potest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uardas, con excepción de curaduría de herencia ya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562720" y="302436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019920" y="3429000"/>
            <a:ext cx="25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Violencia intrafamil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5562720" y="4114800"/>
            <a:ext cx="3352680" cy="995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27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da futura del niño, niña o adoles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racciones penales cometidas por niños, niñas y adolescentes exentos de responsabilidad crimi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 (3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ones judi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ón y desafectación de bienes familiares y constitución de derechos de usufructo, uso y habitación sobre los mism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ones de interdi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r último, y en forma genérica, toda otra cuestión personal derivada de las relaciones de famil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37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10T20:32:57Z</dcterms:modified>
  <cp:revision>69</cp:revision>
  <dc:subject/>
  <dc:title>Diapositiva 1</dc:title>
</cp:coreProperties>
</file>