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EC4-EB95-44EF-BD2C-D64628E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F1D-1D4A-4103-A9BF-00AF2DD9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47F-C35C-4EDD-AD80-DEE3E451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7E1-3850-44BC-BEFF-FE051379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71C6-6020-4B1C-898B-B0D6C748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13B-6666-4CF1-8BA4-8073697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DB56-74D2-4E34-A180-C3237ED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AB5-A0DD-40B8-A26D-D9A38A3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750E-AFD7-4250-946F-3F15218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ACC5-E2F0-4AE5-B29D-224360F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D4F5-C32F-4AFD-B912-0EEF714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B9D-F20E-4F70-A460-5E6B7910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4495-1C3E-4E9E-8213-6208C59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BEA-CAA1-4B0D-B1FE-213D075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E8F-C69B-4F4E-A30E-3F8ED3E7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2AC-6A80-441F-A58F-E810A6F0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118B-0300-46B5-AD36-13F07FD8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99C-4ECC-4C81-A3B1-2357455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40-4411-463D-96B0-E24887C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848-5F23-4ED2-8BA4-A853119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B02-20B1-4292-8D2B-FBD4CE3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95B-C4B3-446A-9A2A-8AF2F7B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6A6-FC44-46DF-B1BB-50B4D55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188-B84D-48BE-81F2-9AA1AAEF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68E-6697-4732-BFA7-8E4E094F4B4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AF6-E151-4110-82DE-6CC30533A39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32:57Z</dcterms:modified>
  <cp:revision>69</cp:revision>
  <dc:subject/>
  <dc:title>Diapositiva 1</dc:title>
</cp:coreProperties>
</file>