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EBAF0-FC52-49C7-A92C-01DEB198F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12057-7EE9-4E20-9332-813D84B9B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139D0-B48C-40F9-8724-089DE7B7E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7CD3E-CD81-4B6A-85F2-8484749CC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488490-017D-4025-8A00-40E1E0CE1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EC24C-C6D0-44A2-AE6E-CE94F1787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CA06F-FE0D-473B-BF5E-FA7E83AE7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3BD2C-A88A-4DB8-A89D-6BA0260B2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AD9C9-6EE9-4668-BDEF-9188B8DE6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F30CE-A631-4EE6-BD76-8F0559DAC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5055D-B6F3-4B8B-B559-F54932EF4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9FE92-4B26-4AC8-BAA3-A0DB0906A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A3152-C249-4F8F-9E8C-6B9E52928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0D844-D284-45B5-A3F0-3B6D65678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F3CDC-B0A9-4832-BFAB-60710F422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F8FCE-4B4E-4132-B81A-0F90B0E2E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50C32-52E5-4475-9CFF-3A0B848BD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8278F-9B57-466D-B406-ABCBB08EE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A6B5E-143A-4613-BC85-C93C7AA83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9BE24-60FD-49DB-A770-D76C421D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70241-291C-4385-A7D1-4D53ADD08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64A59-908A-421B-A397-16DD7455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5D67-18D6-492A-A49F-F3F729C06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74F3F-25DE-425A-B04B-769BA9EDA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3168-2498-4FE1-8432-ED1D02152BA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D77F-DC61-4172-9AE5-455FA0BFB01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familia conocerán conjuntamente, en un solo proceso, los distintos asuntos que una o ambas partes sometan a su consideración, siempre que se sustancien conforme al mismo procedimiento, salvo que se trate de la situación regulada por el inciso final del artículo 9º de la ley Nº 20.066, sobre Violencia Intrafamiliar. La sentencia deberá pronunciarse sobre todas las cuestiones debatidas en el proceso.</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6-08-10T20:27:05Z</dcterms:modified>
  <cp:revision>234</cp:revision>
  <dc:subject/>
  <dc:title>MECESUP PROJECT</dc:title>
</cp:coreProperties>
</file>