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2DC-033E-4BC1-88EA-A6B8EAC5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FA0-4BDB-45E1-B553-94B557B7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6E2-B7DE-4249-84F1-4432B309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433-5BAF-4F52-A89F-FE6565B1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FB5-E8F1-4FD4-8AA5-518099BC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390-BDEB-4CD8-BD8A-9F404C1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B3A5-74DE-475E-AA42-6AA9DF8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C831-703F-44C1-B835-FFCBB35F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6EFC-2550-4975-A7F4-14279F8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574A-CC45-4743-8C42-A440048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9A43-FC7C-40D9-868D-9D6A059E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280-E3DD-4B6D-B03F-D6B5390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CC28-711C-40EA-A777-15F9D0DA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0947-607A-4601-A944-0550664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BC2-BD59-4DA4-9528-973B63C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F7B4-4359-49C7-8AEB-1E653D82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8CA-A9E4-4E55-8DF1-FC7384AC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E11-DB3E-438A-9980-2B32845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4AA-4E5D-494E-A5AF-499862C6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3BB-FCBE-4553-8FE7-BD7AC400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FD7-78E8-4748-9A18-C1266E8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E9C-7C7D-4C76-BFC4-EFD5C7C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FAD-198B-4BA7-A0CC-03061E2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0FD-E218-4FF3-ACCC-4864F5E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662D-FC1C-41DF-946C-62E549399F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C1F-D3BA-43DB-B245-9580D62A6E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Principios del proced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nflictos que saldrán a colación durante estos procesos hacen aconsejables evitar la intromisión de terceros, por lo que el juez pue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hibir la difusión de datos o imágenes  referidos al proceso o a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er, por resolución fundada, que ciertas actuaciones se realicen reservad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, niña y adolescente, y derecho a ser oído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9320" y="198864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objetivo de la ley es garantizar el pleno goce y el efectivo goce de los derechos y garantías de los niños, niñas y adolescentes. (Art.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sideración principal del juez de familia debe ser el interés superior del niño, niña o adolescente y el derecho de estos a ser oí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s, niña y adolescente 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y derecho a ser oído 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ón de este princip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juez de designar un curador ad litem al niño, niña o adolescente, cuando se estime que sus intereses son independientes o contradictorios  con los de su representante legal (Art. 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los encargados de atención de público de otorgarles preferencia. (Art. 2 N°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considerar dicho interés como requisito para decretar medidas cautelares innovativas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tener particularmente en vista los intereses de los niños, niñas y adolescentes  involucrados en un conflicto para aprobar las convenciones probatorias propuestas por las partes (Art.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incipio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alidad. Art.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. Art. 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ntración. Art. 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mediación. Art.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uación de oficio. Art. 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laboración. Art. 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Protección de la intimidad. Art. 1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és superior del niño, niña o adolescente. Art.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Or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odas las actuaciones procesales serán orales, salvo las excepciones expresamente contenidas en l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identes promovidos fuera de la audiencia (Art. 2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apelación (Art. 67 N°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casación (Art. 67 N° 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orme pericial, y sin perjuicio de la obligación del perito de concurrir a declarar en forma oral (Art. 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formaliz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so debe evitar toda ritualidad innecesaria, para flexibilizar el procedimiento y acercar la justicia a las perso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 de la demanda. Arts. 56 y 5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l juez en la audiencia preparatoria de responder las dudas que surjan e informar a niños, niñas y adolescentes en lenguaje comprensible. Art. 7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cent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dimiento se desarrollará en audiencias continuas y podrá prolongarse en sesiones sucesivas hasta su conclusió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spensión de la audiencia hasta por dos veces en caso de absoluta necesidad 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ultad de las partes, de común acuerdo, de suspender la audiencia que se hubiere citado hasta por 60 días (Arts. 11 y 20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medi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as audiencias y diligencias de prueba deben realizarse siempre con la presencia del juez, quedando prohibida, bajo sanción de nulidad, la delegación de funcion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Art. 1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juez debe formar su convicción sobre la base de las alegaciones y pruebas que personalmente haya recib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tuación de of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juez debe adoptar, de oficio, y en cualquier estado del procedimiento, todas las medidas necesarias para llevar a término el proceso con la mayor celeridad. (Art. 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testad cautelar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denar pruebas no ofrecidos por las partes (Art. 2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lusión en el llamado a conciliación en juicio de separación, nulidad o divorcio, de otras materias relativas a relaciones de familia, aunque no se le hayan solicitado (Art. 90 L.M.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emás,  iniciar de oficio el procedimiento de protección de los derechos de niños, niñas y adolescentes y adoptar alguna de las medidas cautelares que contempla. (Arts. 70 y 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labo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urante el procedimiento y en la resolución del conflicto, deben buscarse alternativas destinadas a mitigar la confrontación entre las partes, privilegiando las soluciones acordadas por ellas. (Art. 14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rucción al actor sobre la alternativa de mediación (Art. 1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moción de la mediación o conciliación en la audiencia preparatoria (Art. 61 Nos 4 y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nción del Consejo Técnico de evaluar la pertinencia de derivar a mediación o  aconsejar conciliación entre las partes, y sugerir los términos en que esta última pudiere llevarse a cab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tección a la intim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obstante el carácter público del procedimiento,  consagrado en el artículo 9 del COT, el juez debe velar por el respeto a la intimidad de las partes, especialmente de los niños, niñas y adolesc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1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26:19Z</dcterms:modified>
  <cp:revision>71</cp:revision>
  <dc:subject/>
  <dc:title>Diapositiva 1</dc:title>
</cp:coreProperties>
</file>