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4E7-9729-44F0-A5C1-10E7E999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D96-ED87-455A-BC0D-0765EA7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E72-649D-4968-85DD-64EFC192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0CC-5CC8-46F0-B6AC-7875263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B172-8580-422E-B34F-A3F1E78E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B731-7D3B-4FFC-A0C1-76A8AD1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D394-408C-425A-946E-A11E4BE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FC1-E31D-44AD-9B67-A17B4DF7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83DD-6F5F-49FB-8E72-154B571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8739-A2E7-4C7A-BDF3-E1A5EA61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45E7-B34B-4101-9518-7817115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70C-46C0-478E-BFBC-E9AB222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D2F-E093-49EC-8154-D901664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F5A3-7B60-4B96-B907-AABA40B7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669-CCAB-4118-AE17-47F5230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2FC5-5D21-427B-B230-06A0EC57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A652-6214-4CD7-9065-C040DF2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AA6-7CC1-434A-91E7-AFDD29C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671-D18D-44B5-AC1C-20E66406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7A0-CA4A-4056-BA9D-E13349F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676-EF4B-44FB-ADD3-ACE1445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5F7-1B9E-400C-A781-8624481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B46-59C0-4C83-BB27-33229E7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982-5D65-4F21-AC37-F17DA82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DEE6-D7FA-4407-9D5F-FA6AFC3B12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9A2-F4E7-41FF-8510-A01B2C508E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Principios del proced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nflictos que saldrán a colación durante estos procesos hacen aconsejables evitar la intromisión de terceros, por lo que el juez pue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hibir la difusión de datos o imágenes  referidos al proceso o a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er, por resolución fundada, que ciertas actuaciones se realicen reservad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, niña y adolescente, y derecho a ser oído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9320" y="198864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objetivo de la ley es garantizar el pleno goce y el efectivo goce de los derechos y garantías de los niños, niñas y adolescentes. (Art.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sideración principal del juez de familia debe ser el interés superior del niño, niña o adolescente y el derecho de estos a ser oí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s, niña y adolescente 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y derecho a ser oído 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ón de este princip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juez de designar un curador ad litem al niño, niña o adolescente, cuando se estime que sus intereses son independientes o contradictorios  con los de su representante legal (Art. 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los encargados de atención de público de otorgarles preferencia. (Art. 2 N°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considerar dicho interés como requisito para decretar medidas cautelares innovativas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tener particularmente en vista los intereses de los niños, niñas y adolescentes  involucrados en un conflicto para aprobar las convenciones probatorias propuestas por las partes (Art.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incipio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alidad. Art.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. Art.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ntración. Art. 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mediación. Art.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uación de oficio. Art.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aboración. Art. 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rotección de la intimidad. Art. 1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és superior del niño, niña o adolescente. Art.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Or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odas las actuaciones procesales serán orales, salvo las excepciones expresamente contenidas en l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identes promovidos fuera de la audiencia (Art. 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apelación (Art. 67 N°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casación (Art. 67 N° 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orme pericial, y sin perjuicio de la obligación del perito de concurrir a declarar en forma oral (Art. 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formaliz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so debe evitar toda ritualidad innecesaria, para flexibilizar el procedimiento y acercar la justicia a las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 de la demanda. Arts. 56 y 5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l juez en la audiencia preparatoria de responder las dudas que surjan e informar a niños, niñas y adolescentes en lenguaje comprensible. Art. 7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cent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dimiento se desarrollará en audiencias continuas y podrá prolongarse en sesiones sucesivas hasta su conclusió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la audiencia hasta por dos veces en caso de absoluta necesidad 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ultad de las partes, de común acuerdo, de suspender la audiencia que se hubiere citado hasta por 60 días (Arts. 11 y 20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medi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as audiencias y diligencias de prueba deben realizarse siempre con la presencia del juez, quedando prohibida, bajo sanción de nulidad, la delegación de funcion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Art. 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juez debe formar su convicción sobre la base de las alegaciones y pruebas que personalmente haya recib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tuación de of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juez debe adoptar, de oficio, y en cualquier estado del procedimiento, todas las medidas necesarias para llevar a término el proceso con la mayor celeridad. (Art. 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testad cautelar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denar pruebas no ofrecidos por las partes (Art. 2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lusión en el llamado a conciliación en juicio de separación, nulidad o divorcio, de otras materias relativas a relaciones de familia, aunque no se le hayan solicitado (Art. 90 L.M.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emás,  iniciar de oficio el procedimiento de protección de los derechos de niños, niñas y adolescentes y adoptar alguna de las medidas cautelares que contempla. (Arts. 70 y 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labo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urante el procedimiento y en la resolución del conflicto, deben buscarse alternativas destinadas a mitigar la confrontación entre las partes, privilegiando las soluciones acordadas por ellas. (Art. 14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cción al actor sobre la alternativa de mediación (Art. 1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moción de la mediación o conciliación en la audiencia preparatoria (Art. 61 Nos 4 y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ón del Consejo Técnico de evaluar la pertinencia de derivar a mediación o  aconsejar conciliación entre las partes, y sugerir los términos en que esta última pudiere llevarse a cab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tección a la intim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obstante el carácter público del procedimiento,  consagrado en el artículo 9 del COT, el juez debe velar por el respeto a la intimidad de las partes, especialmente de los niños, niñas y adolesc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1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26:19Z</dcterms:modified>
  <cp:revision>71</cp:revision>
  <dc:subject/>
  <dc:title>Diapositiva 1</dc:title>
</cp:coreProperties>
</file>