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080-D966-4241-ABF0-3AE5444B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F22-30FC-429F-9C02-AD94DBB7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9C0-C822-43D0-9915-B89BF970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8DC-E288-40B7-ABCF-24E5DFAE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5EEE-1640-42FC-8D09-39273D56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2F55-9AC9-414E-8204-47E2924B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146E-E6CC-48D3-AACF-AF1AD1A1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B962-062C-477E-B28B-B419590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7F2-4CFD-4341-B416-D0121547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30B5-1C5E-436A-95EA-1AF7812A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E19A-037D-4672-815E-D8AEDF4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A3B-C287-498D-BEC1-7B3B5936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2DFA-7122-4FB9-8DA9-70261F1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3C63-AF4F-4303-B1B4-D249AE0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51E3-01B4-447C-AFCE-6301B37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599-1ACE-4475-85F9-8A6AA97E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80B1-7F94-4544-8BA5-88AE02DC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B28-618B-4BB2-8E66-83095140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2D5-4989-4F24-A23B-20A5E3E2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965-56E7-4A72-8497-E720AC5A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CE6-1C76-43B7-A1DE-8D586ECD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9C8-D3C1-4ED3-8FCE-F3B99517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734-4149-4729-916D-47C6AC1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215-37AA-420B-A084-80A4109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EDC2-5954-4351-A5FD-4F40641537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DD8-C7B9-4259-BAB7-9F324604F2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981080"/>
            <a:ext cx="281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Principios del proced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nflictos que saldrán a colación durante estos procesos hacen aconsejables evitar la intromisión de terceros, por lo que el juez pue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hibir la difusión de datos o imágenes  referidos al proceso o a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er, por resolución fundada, que ciertas actuaciones se realicen reservad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, niña y adolescente, y derecho a ser oído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9320" y="198864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objetivo de la ley es garantizar el pleno goce y el efectivo goce de los derechos y garantías de los niños, niñas y adolescentes. (Art. 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sideración principal del juez de familia debe ser el interés superior del niño, niña o adolescente y el derecho de estos a ser oí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terés superior del niños, niña y adolescente 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y derecho a ser oído 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ón de este princip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juez de designar un curador ad litem al niño, niña o adolescente, cuando se estime que sus intereses son independientes o contradictorios  con los de su representante legal (Art. 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 los encargados de atención de público de otorgarles preferencia. (Art. 2 N°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considerar dicho interés como requisito para decretar medidas cautelares innovativas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ecesidad de tener particularmente en vista los intereses de los niños, niñas y adolescentes  involucrados en un conflicto para aprobar las convenciones probatorias propuestas por las partes (Art.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543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incipios del Procedimi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alidad. Art.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. Art. 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ntración. Art. 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mediación. Art.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uación de oficio. Art. 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laboración. Art. 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Protección de la intimidad. Art. 1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és superior del niño, niña o adolescente. Art.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Or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odas las actuaciones procesales serán orales, salvo las excepciones expresamente contenidas en l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identes promovidos fuera de la audiencia (Art. 2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apelación (Art. 67 N°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de casación (Art. 67 N° 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orme pericial, y sin perjuicio de la obligación del perito de concurrir a declarar en forma oral (Art. 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formaliz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so debe evitar toda ritualidad innecesaria, para flexibilizar el procedimiento y acercar la justicia a las perso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formalización de la demanda. Arts. 56 y 5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ción del juez en la audiencia preparatoria de responder las dudas que surjan e informar a niños, niñas y adolescentes en lenguaje comprensible. Art. 7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cent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cedimiento se desarrollará en audiencias continuas y podrá prolongarse en sesiones sucesivas hasta su conclusió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spensión de la audiencia hasta por dos veces en caso de absoluta necesidad (Art. 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ultad de las partes, de común acuerdo, de suspender la audiencia que se hubiere citado hasta por 60 días (Arts. 11 y 20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medi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Las audiencias y diligencias de prueba deben realizarse siempre con la presencia del juez, quedando prohibida, bajo sanción de nulidad, la delegación de funcion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Art. 1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juez debe formar su convicción sobre la base de las alegaciones y pruebas que personalmente haya recib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tuación de of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juez debe adoptar, de oficio, y en cualquier estado del procedimiento, todas las medidas necesarias para llevar a término el proceso con la mayor celeridad. (Art. 1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testad cautelar (Art. 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rdenar pruebas no ofrecidos por las partes (Art. 2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clusión en el llamado a conciliación en juicio de separación, nulidad o divorcio, de otras materias relativas a relaciones de familia, aunque no se le hayan solicitado (Art. 90 L.M.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emás,  iniciar de oficio el procedimiento de protección de los derechos de niños, niñas y adolescentes y adoptar alguna de las medidas cautelares que contempla. (Arts. 70 y 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labo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urante el procedimiento y en la resolución del conflicto, deben buscarse alternativas destinadas a mitigar la confrontación entre las partes, privilegiando las soluciones acordadas por ellas. (Art. 14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res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rucción al actor sobre la alternativa de mediación (Art. 1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moción de la mediación o conciliación en la audiencia preparatoria (Art. 61 Nos 4 y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unción del Consejo Técnico de evaluar la pertinencia de derivar a mediación o  aconsejar conciliación entre las partes, y sugerir los términos en que esta última pudiere llevarse a cab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tección a la intim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obstante el carácter público del procedimiento,  consagrado en el artículo 9 del COT, el juez debe velar por el respeto a la intimidad de las partes, especialmente de los niños, niñas y adolesc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1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26:19Z</dcterms:modified>
  <cp:revision>71</cp:revision>
  <dc:subject/>
  <dc:title>Diapositiva 1</dc:title>
</cp:coreProperties>
</file>