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C88-7945-4C6B-AF13-19867DFF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22A-4032-4D34-8B81-8BB42DDA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3C7-41C7-4E6A-BA5A-20315A60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960-FAB4-49DF-BC1D-7A8367DC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3CA5-F7E7-4184-851F-B0060109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A0B0-9608-4533-B737-54A7E13A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F8D1-4FFD-4679-A1AD-61AC9AEA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9F06-3F95-486D-8AA8-7DB26CFD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6214-EFB2-4953-93BA-06B363F7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FDED-376F-4747-9F5E-C1E890C7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11E8-7368-4706-BC44-49807FA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A1A-E722-45CA-88FA-EEB16161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5899-CF27-4EED-A3CF-E607D47F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2486-41E8-428D-A4BF-2D1AC48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99C2-9665-43D6-973D-C1C5EADE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6068-8AFF-4C51-9A6E-DA2AEB9D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3339-1093-4847-A348-67F0273A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6A9-2F5D-47DC-8D1C-8F1CA263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8C9-34FC-4006-B279-C43BA9E8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F9E-F604-4C11-B84B-0597C0DF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654-2E3F-45C0-A7A5-BEB2C10E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563-18E9-4D1E-8817-7E703FAA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1EC-9918-4D5E-B14C-8101E65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CFC-1774-44B5-8C3A-6DCE1138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5CB7-C5EA-4E70-9E42-EF24A5BBC9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F5E0-DAA5-4D4B-BB2A-F080C651488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981080"/>
            <a:ext cx="281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2: Principios del procedi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nflictos que saldrán a colación durante estos procesos hacen aconsejables evitar la intromisión de terceros, por lo que el juez pued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hibir la difusión de datos o imágenes  referidos al proceso o a las par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er, por resolución fundada, que ciertas actuaciones se realicen reservad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terés superior del niño, niña y adolescente, y derecho a ser oído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9320" y="198864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objetivo de la ley es garantizar el pleno goce y el efectivo goce de los derechos y garantías de los niños, niñas y adolescentes. (Art. 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sideración principal del juez de familia debe ser el interés superior del niño, niña o adolescente y el derecho de estos a ser oíd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terés superior del niños, niña y adolescente 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y derecho a ser oído 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ón de este principi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 juez de designar un curador ad litem al niño, niña o adolescente, cuando se estime que sus intereses son independientes o contradictorios  con los de su representante legal (Art. 1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 los encargados de atención de público de otorgarles preferencia. (Art. 2 N° 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ecesidad de considerar dicho interés como requisito para decretar medidas cautelares innovativas (Art. 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ecesidad de tener particularmente en vista los intereses de los niños, niñas y adolescentes  involucrados en un conflicto para aprobar las convenciones probatorias propuestas por las partes (Art.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incipio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ralidad. Art.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sformalización. Art. 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ntración. Art. 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mediación. Art.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uación de oficio. Art. 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laboración. Art. 1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Protección de la intimidad. Art. 1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és superior del niño, niña o adolescente. Art. 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Or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odas las actuaciones procesales serán orales, salvo las excepciones expresamente contenidas en l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Art. 1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cidentes promovidos fuera de la audiencia (Art. 2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de apelación (Art. 67 N°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de casación (Art. 67 N° 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orme pericial, y sin perjuicio de la obligación del perito de concurrir a declarar en forma oral (Art. 4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sformaliz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proceso debe evitar toda ritualidad innecesaria, para flexibilizar el procedimiento y acercar la justicia a las person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sformalización de la demanda. Arts. 56 y 5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l juez en la audiencia preparatoria de responder las dudas que surjan e informar a niños, niñas y adolescentes en lenguaje comprensible. Art. 7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ncent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procedimiento se desarrollará en audiencias continuas y podrá prolongarse en sesiones sucesivas hasta su conclusió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Art. 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spensión de la audiencia hasta por dos veces en caso de absoluta necesidad (Art. 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cultad de las partes, de común acuerdo, de suspender la audiencia que se hubiere citado hasta por 60 días (Arts. 11 y 20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medi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Las audiencias y diligencias de prueba deben realizarse siempre con la presencia del juez, quedando prohibida, bajo sanción de nulidad, la delegación de funcion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(Art. 1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juez debe formar su convicción sobre la base de las alegaciones y pruebas que personalmente haya recib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ctuación de of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juez debe adoptar, de oficio, y en cualquier estado del procedimiento, todas las medidas necesarias para llevar a término el proceso con la mayor celeridad. (Art. 1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testad cautelar (Art. 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rdenar pruebas no ofrecidos por las partes (Art. 2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clusión en el llamado a conciliación en juicio de separación, nulidad o divorcio, de otras materias relativas a relaciones de familia, aunque no se le hayan solicitado (Art. 90 L.M.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emás,  iniciar de oficio el procedimiento de protección de los derechos de niños, niñas y adolescentes y adoptar alguna de las medidas cautelares que contempla. (Arts. 70 y 7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labo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urante el procedimiento y en la resolución del conflicto, deben buscarse alternativas destinadas a mitigar la confrontación entre las partes, privilegiando las soluciones acordadas por ellas. (Art. 14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strucción al actor sobre la alternativa de mediación (Art. 10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moción de la mediación o conciliación en la audiencia preparatoria (Art. 61 Nos 4 y 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unción del Consejo Técnico de evaluar la pertinencia de derivar a mediación o  aconsejar conciliación entre las partes, y sugerir los términos en que esta última pudiere llevarse a cab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tección a la intim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obstante el carácter público del procedimiento,  consagrado en el artículo 9 del COT, el juez debe velar por el respeto a la intimidad de las partes, especialmente de los niños, niñas y adolesc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Art. 1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10T20:26:19Z</dcterms:modified>
  <cp:revision>71</cp:revision>
  <dc:subject/>
  <dc:title>Diapositiva 1</dc:title>
</cp:coreProperties>
</file>