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7102475" cy="93884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60C9-61AE-42F4-AF2B-A426646A8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8386-A35A-47A8-9FFE-B1B6132CE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05E3-6109-46E1-9DA4-C0C08A3D7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6EEC-B04B-49E5-B6E3-3D51AA950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CDA10-D2F8-41DC-B030-F45C871E9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481EA-0C49-47C6-B02E-EB5CFA0AA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C07B7-EFF7-433A-8737-B949BAB40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094BC-5D8C-46FE-831E-C7B8E5F7E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6E251-CB80-43ED-BA9A-FED78C681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C0F19-325A-45E2-A701-B00E1A545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7F0D9-8446-4AD0-BDFB-8E3672CB6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A030-80FF-4B70-BBEA-7A70D1B12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B4F9D-2ADF-4461-A86E-D09C196FA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B4501-3335-4F63-91D9-472835E08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99B42-3A93-44EF-9664-46CC3B68B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12B22-E3AD-4087-8593-C8C11CD32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51371-FB93-484D-84BD-C33AF400F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C112-110E-4537-AA95-91C020800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A9E3-C6C1-42E6-A0B9-0E3E47EF2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938E-EA22-4338-B312-FB582A0BF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05F4-9EDA-4803-8C9D-1E22D60BF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A823-5881-4604-9A8F-A811A1B8D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9472-AA82-4649-95FD-ED9479CE1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33CF-77AC-43C2-A802-B7C6B77DF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024DF-3A52-40B5-8F64-E3778AF797B6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2DC51-EBEC-4E0F-B44D-566F7FD8A893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762120" y="228600"/>
            <a:ext cx="64008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Times New Roman"/>
              </a:rPr>
              <a:t>Universidad de Chile</a:t>
            </a:r>
            <a:br>
              <a:rPr sz="4000"/>
            </a:br>
            <a:r>
              <a:rPr b="1" lang="en-US" sz="3600" spc="-1" strike="noStrike">
                <a:solidFill>
                  <a:srgbClr val="0066ff"/>
                </a:solidFill>
                <a:latin typeface="Times New Roman"/>
              </a:rPr>
              <a:t>Facultad de Derech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477120" y="4797360"/>
            <a:ext cx="2514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66ff"/>
                </a:solidFill>
                <a:latin typeface="Arial"/>
              </a:rPr>
              <a:t>René Núñe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248520" y="1981080"/>
            <a:ext cx="2819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ffff00"/>
                </a:solidFill>
                <a:latin typeface="Monotype Corsiva"/>
              </a:rPr>
              <a:t>Módulo 1: Estructura, competencia y procedimiento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1344600" y="1870200"/>
            <a:ext cx="4903920" cy="4911120"/>
            <a:chOff x="1344600" y="1870200"/>
            <a:chExt cx="4903920" cy="4911120"/>
          </a:xfrm>
        </p:grpSpPr>
        <p:pic>
          <p:nvPicPr>
            <p:cNvPr id="113" name="" descr=""/>
            <p:cNvPicPr/>
            <p:nvPr/>
          </p:nvPicPr>
          <p:blipFill>
            <a:blip r:embed="rId1"/>
            <a:stretch/>
          </p:blipFill>
          <p:spPr>
            <a:xfrm>
              <a:off x="1352520" y="1873080"/>
              <a:ext cx="4869000" cy="487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1344600" y="6684840"/>
              <a:ext cx="4900680" cy="9648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347840" y="1870200"/>
              <a:ext cx="4900680" cy="9648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344600" y="1873080"/>
              <a:ext cx="74880" cy="488916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161040" y="1873080"/>
              <a:ext cx="74880" cy="488916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147600" y="260280"/>
            <a:ext cx="60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1066320" y="137160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Habrá juzgados unipersonales de composición múltipl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Significa: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Juzgados compuestos por un número variable de juec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Cada uno de los cuales detentará la plenitud jurisdiccional en forma independien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l número de jueces será variabl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Se determinará de acuerdo a la carga de trabajo estimada para cada jurisdicció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"/>
          <p:cNvSpPr/>
          <p:nvPr/>
        </p:nvSpPr>
        <p:spPr>
          <a:xfrm>
            <a:off x="990720" y="45720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aracterísticas de los tribuna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914040" y="1828440"/>
            <a:ext cx="80010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 algn="just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n lo no previsto en la Ley de Tribunales de Familia, quedarán sujetos a las disposiciones del Código Orgánico de Tribunales y demás leyes que lo complementa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just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Artículo 118 de la Ley Nº 19.968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just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Hace aplicable a los Tribunales de Familia, </a:t>
            </a:r>
            <a:r>
              <a:rPr b="1" lang="es-CL" sz="2000" spc="-1" strike="noStrike" u="sng">
                <a:solidFill>
                  <a:srgbClr val="ffffff"/>
                </a:solidFill>
                <a:uFillTx/>
                <a:latin typeface="Arial"/>
              </a:rPr>
              <a:t>en cuanto resulten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000" spc="-1" strike="noStrike" u="sng">
                <a:solidFill>
                  <a:srgbClr val="ffffff"/>
                </a:solidFill>
                <a:uFillTx/>
                <a:latin typeface="Arial"/>
              </a:rPr>
              <a:t>compatible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, las normas previstas en el Código Orgánico de Tribunales para los juzgados de garantía y tribunales de juicio oral en lo penal, en lo relativo al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1. Comité de jueces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2. Juez presidente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3. Administradores de tribunales y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4. Organización administrativa de los juzgados;</a:t>
            </a:r>
            <a:r>
              <a:rPr b="0" lang="es-CL" sz="20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990720" y="457200"/>
            <a:ext cx="792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Norma supletoria en relación a la organización de los Tribunales de Famil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914040" y="1828440"/>
            <a:ext cx="80010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1) Juzgados con </a:t>
            </a:r>
            <a:r>
              <a:rPr b="0" lang="es-ES" sz="2000" spc="-1" strike="noStrike" u="sng">
                <a:solidFill>
                  <a:srgbClr val="ffffff"/>
                </a:solidFill>
                <a:uFillTx/>
                <a:latin typeface="Tahoma"/>
                <a:ea typeface="Times New Roman"/>
              </a:rPr>
              <a:t>un juez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: un juez, un administrador, dos miembros del consejo técnico, dos administrativos jefes, dos administrativos 1º, un administrativo 2º y un auxilia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2) Juzgados con </a:t>
            </a:r>
            <a:r>
              <a:rPr b="0" lang="es-ES" sz="2000" spc="-1" strike="noStrike" u="sng">
                <a:solidFill>
                  <a:srgbClr val="ffffff"/>
                </a:solidFill>
                <a:uFillTx/>
                <a:latin typeface="Tahoma"/>
                <a:ea typeface="Times New Roman"/>
              </a:rPr>
              <a:t>dos jueces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: dos jueces, un administrador, dos miembros del consejo técnico, dos administrativos jefes, tres administrativos 1º, un administrativo 2º, un administrativo 3º y un auxilia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3) Juzgados con </a:t>
            </a:r>
            <a:r>
              <a:rPr b="0" lang="es-ES" sz="2000" spc="-1" strike="noStrike" u="sng">
                <a:solidFill>
                  <a:srgbClr val="ffffff"/>
                </a:solidFill>
                <a:uFillTx/>
                <a:latin typeface="Tahoma"/>
                <a:ea typeface="Times New Roman"/>
              </a:rPr>
              <a:t>tres jueces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: tres jueces, un administrador, tres miembros del consejo técnico, dos administrativos jefes, cuatro administrativos 1º, dos administrativos 2º, un administrativo 3º y un auxiliar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.</a:t>
            </a:r>
            <a:br>
              <a:rPr sz="2000"/>
            </a:b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838080" y="0"/>
            <a:ext cx="792504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Titulo V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I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Planta De Pers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Artículo 115.- Composición de la planta de los juzgados de famili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914040" y="1599840"/>
            <a:ext cx="80010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800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4)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Juzgados con 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cuatro juece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: cuatro jueces, un administrador, cuatro miembros del consejo técnico, dos administrativos jefes, cinco administrativos 1º, dos administrativos 2º, un administrativo 3º y un auxilia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800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5)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Juzgados con 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cinco juece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: cinco jueces, un administrador, cinco miembros del consejo técnico, dos administrativos jefes, seis administrativos 1º, dos administrativos 2º, un administrativo 3º y un auxilia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800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6)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Juzgados con 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seis juece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: seis jueces, un administrador, seis miembros del consejo técnico, dos administrativos jefes, un administrativo contable, siete administrativos 1º, dos administrativos 2º, dos administrativos 3º y un auxilia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800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838080" y="0"/>
            <a:ext cx="7925040" cy="254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rtículo 115.- Composición de la planta de los juzgados de</a:t>
            </a:r>
            <a:r>
              <a:rPr b="1" lang="es-MX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famili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914040" y="1980720"/>
            <a:ext cx="80010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Tahoma"/>
                <a:ea typeface="Times New Roman"/>
              </a:rPr>
              <a:t> 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7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)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Juzgados con 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siete juece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: siete jueces, un administrador,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iete miembros del consejo técnico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, tres administrativos jefes, un administrativo contable, ocho administrativos 1º, dos administrativos 2º, dos administrativos 3º y dos auxiliar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8)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Juzgados con 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ocho juece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: ocho jueces, un administrador,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ocho miembros del consejo técnico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, tres administrativos jefes, un administrativo contable, nueve administrativos 1º, tres administrativos 2º, dos administrativos 3º y dos auxiliar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9)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Juzgados con 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nueve jueces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: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nueve jueces, un administrador,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nueve miembros del consejo técnico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, tres administrativos jefes, un administrativo contable, diez administrativos 1º, tres administrativos 2º, tres administrativos 3º y dos auxiliar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just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s-ES" sz="1800" spc="-1" strike="noStrike">
                <a:solidFill>
                  <a:srgbClr val="ffff00"/>
                </a:solidFill>
                <a:latin typeface="Tahoma"/>
                <a:ea typeface="Times New Roman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just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Tahoma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"/>
          <p:cNvSpPr/>
          <p:nvPr/>
        </p:nvSpPr>
        <p:spPr>
          <a:xfrm>
            <a:off x="838080" y="228600"/>
            <a:ext cx="792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rtículo 115.- Composición de la planta de los juzgados de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familia.</a:t>
            </a:r>
            <a:r>
              <a:rPr b="1" lang="es-E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837720" y="2133720"/>
            <a:ext cx="80010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plicable a la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Región Metropolitana de Santiago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10)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Juzgados con 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diez juece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: diez jueces, un administrador, diez miembros del consejo técnico, cuatro administrativos jefes, un administrativo contable, once administrativos 1º, tres administrativos 2º, tres administrativos 3º y dos auxiliar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11)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Juzgados con 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doce juece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: doce jueces, un administrador, doce miembros del consejo técnico, cuatro administrativos jefes, un administrativo contable, trece administrativos 1º, cuatro administrativos 2º, tres administrativos 3º y dos auxiliar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"/>
          <p:cNvSpPr/>
          <p:nvPr/>
        </p:nvSpPr>
        <p:spPr>
          <a:xfrm>
            <a:off x="990720" y="30492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rtículo 115.- Composición de la planta de los juzgados de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famili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837720" y="1980720"/>
            <a:ext cx="80010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Cuatro juzgados de familia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: el primero, el segundo y el tercero, con </a:t>
            </a:r>
            <a:r>
              <a:rPr b="0" lang="es-E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diez jueces cada uno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, y el cuarto, con </a:t>
            </a:r>
            <a:r>
              <a:rPr b="0" lang="es-E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doce juece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, con competencia sobre las comunas de la provincia de Santiago..., con excepción de....lo que sigue..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os juzgado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, con diez jueces cada uno, con competencia sobre las comunas de San Miguel, San Joaquín, La Granja, La Pintana, San Ramón, Pedro Aguirre Cerda, La Cisterna, El Bosque y Lo Espej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Un juzgado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, con doce jueces, con competencia sobre las comunas de Pudahuel, Quinta Normal, Cerro Navia y Lo Prad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"/>
          <p:cNvSpPr/>
          <p:nvPr/>
        </p:nvSpPr>
        <p:spPr>
          <a:xfrm>
            <a:off x="914400" y="228600"/>
            <a:ext cx="7924680" cy="17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REACIÓN DE NUEVOS JUZG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REGIÓN METROPOLITANA DE SANTIAG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00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66320" y="230184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COMITÉ DE JUECE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295280" y="2362320"/>
            <a:ext cx="7391520" cy="29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3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n los juzgados de garantía en los que sirvan </a:t>
            </a:r>
            <a:r>
              <a:rPr b="0" lang="es-ES" sz="2000" spc="-1" strike="noStrike" u="sng">
                <a:solidFill>
                  <a:srgbClr val="ffffff"/>
                </a:solidFill>
                <a:uFillTx/>
                <a:latin typeface="Arial"/>
              </a:rPr>
              <a:t>tres o más juece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y en cada tribunal de juicio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oral en lo penal, habrá un comité de juece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990720" y="38088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Norma del Código Procesal Penal aplicable en materia de Tribunales de Famil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94920" y="2835000"/>
            <a:ext cx="70866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FUNCIONES DEL COMITÉ DE JUECE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47600" y="155520"/>
            <a:ext cx="60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115920"/>
            <a:ext cx="75438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cc"/>
                </a:solidFill>
                <a:latin typeface="Arial"/>
              </a:rPr>
              <a:t>Juzgados de Familia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320" y="1557000"/>
            <a:ext cx="75438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Concepto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Tribunales ordinarios, integrados por uno o más jueces unipersonales, que conocerán de los asuntos de familia que la ley les encomiend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Estos Juzgados formaran parte del Poder Judicia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Conformación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Numero de jueces que la ley determine (Art. 4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Consejo técnic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Un administrado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Empleados de secretaría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Unidades administrativa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2286000" y="-39196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914040" y="380880"/>
            <a:ext cx="792468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a)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probar el procedimiento objetivo y general a que se refieren los artículos 15 y 17, en su caso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b) Designar, de la terna que le presente el juez presidente, al administrador del tribunal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) 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Calificar anualmente al administrador del tribunal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) 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Resolver acerca de la remoción del administrador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) 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Designar al personal del juzgado o tribunal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, a propuesta en terna del administrador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f) Conocer de la apelación que se interpusiere en contra de la resolución del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dministrador que remueva al sub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dministrador, a los jefes de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unidades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o a los empleados del juzgado o tribunal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g) Decidir el proyecto de plan presupuestario anual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que le presente el juez presidente, para ser propuesto a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la Corporación Administrativa del Poder Judicial, 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h) Conocer de todas las demás materias que señale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la le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147600" y="155520"/>
            <a:ext cx="60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30184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Juez presidente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1218960" y="106668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 algn="just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l juez presidente del comité de jueces le corresponderá velar por el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adecuado funcionamiento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del juzgado o tribunal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 algn="just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El Juez Presidente tendrá los</a:t>
            </a: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siguientes deberes y atribuciones:</a:t>
            </a:r>
            <a:br>
              <a:rPr sz="1800"/>
            </a:b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a)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residir el comité de jueces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b) 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Relacionarse con la Corporación Administrativa del Poder Judicial en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todas las materias relativas a la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competencia de ésta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) 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Proponer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al comité de jueces el procedimiento objetivo y general a que se refieren los artículos 15 y 17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) Elaborar anualmente una cuenta de la gestión jurisdiccional del juzgado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) Aprobar los criterios de gestión administrativa que le proponga el administrador del tribunal y supervisar su ejecución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838080" y="990720"/>
            <a:ext cx="79250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f) Aprobar la distribución del personal que le presente el administrador del tribunal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g)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Calificar al personal, teniendo a la vista la evaluación que le presente el administrador del tribunal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h) Presentar al comité de jueces una terna para la designación del administrador del tribunal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i)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valuar anualmente la gestión del administrador, 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j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) Proponer al comité de jueces la remoción del administrador del tribunal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1294920" y="3124080"/>
            <a:ext cx="7543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cc"/>
                </a:solidFill>
                <a:latin typeface="Arial"/>
              </a:rPr>
              <a:t>Consejo Técnic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1294920" y="1676520"/>
            <a:ext cx="7543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lnSpc>
                <a:spcPct val="11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Finalidad: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rganismo asesor en el tratamiento de un conflicto familia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401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40120" indent="-240120" algn="just">
              <a:lnSpc>
                <a:spcPct val="11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El Consejo Técnico, conforme lo señala el artículo 457 del Código Orgánico de Tribunales, modificado por la Ley Nº 19.698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40120"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40120" indent="-240120" algn="just">
              <a:lnSpc>
                <a:spcPct val="11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ahoma"/>
              </a:rPr>
              <a:t>Es un organismo auxiliar de la administración de justicia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40120"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40120" indent="-240120" algn="just">
              <a:lnSpc>
                <a:spcPct val="11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Compuesto por profesionales en el número y con los requisitos que establece la le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40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295280" y="533520"/>
            <a:ext cx="71629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Consejo Técnico y el tratamiento multidisciplinario del conflicto famili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066680" y="6858000"/>
            <a:ext cx="8077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990720" y="2209680"/>
            <a:ext cx="8153280" cy="11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CL" sz="2000" spc="-1" strike="noStrike">
                <a:solidFill>
                  <a:srgbClr val="ffffff"/>
                </a:solidFill>
                <a:latin typeface="Tahoma"/>
              </a:rPr>
              <a:t>Función: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ahoma"/>
              </a:rPr>
              <a:t>Asesorar</a:t>
            </a:r>
            <a:r>
              <a:rPr b="1" lang="es-CL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s-CL" sz="1800" spc="-1" strike="noStrike">
                <a:solidFill>
                  <a:srgbClr val="ffffff"/>
                </a:solidFill>
                <a:latin typeface="Tahoma"/>
              </a:rPr>
              <a:t>individual o colectivamente</a:t>
            </a: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 a los jueces con competencia en asuntos de famili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914400" y="3657600"/>
            <a:ext cx="8001000" cy="31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CL" sz="2000" spc="-1" strike="noStrike">
                <a:solidFill>
                  <a:srgbClr val="ffffff"/>
                </a:solidFill>
                <a:latin typeface="Tahoma"/>
              </a:rPr>
              <a:t>¿Qué materias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En el análisis y mayor comprensión de los asuntos sometidos a su conocimiento en el ámbito de su especialidad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En </a:t>
            </a:r>
            <a:r>
              <a:rPr b="1" lang="es-CL" sz="2000" spc="-1" strike="noStrike">
                <a:solidFill>
                  <a:srgbClr val="ffffff"/>
                </a:solidFill>
                <a:latin typeface="Tahoma"/>
              </a:rPr>
              <a:t>cada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 juzgado de familia habrá un consejo técnico interdisciplinario integrado por profesionales especializados en asuntos de familia e infanc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1066320" y="167616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l artículo 7 de la Ley Nº 19.968 exige poseer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título profesional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e una carrera que tenga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al menos ocho semestres de duración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, otorgado por alguna universidad o instituto profesional del Estado o reconocido por éste,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debiendo además acreditarse experiencia profesional y formación especializada en materia de familia e infancia de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, al menos, dos semestres de duración, impartida por alguna de las instituciones antes señalada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"/>
          <p:cNvSpPr/>
          <p:nvPr/>
        </p:nvSpPr>
        <p:spPr>
          <a:xfrm>
            <a:off x="1066680" y="498600"/>
            <a:ext cx="76964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REQUISITOS PARA SER MIEMBRO DEL CONSEJO TÉCN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147600" y="155520"/>
            <a:ext cx="60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896400" y="1981080"/>
            <a:ext cx="81709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a)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Asistir a las audiencias de juicio </a:t>
            </a:r>
            <a:r>
              <a:rPr b="1" lang="es-CL" sz="2000" spc="-1" strike="noStrike" u="sng">
                <a:solidFill>
                  <a:srgbClr val="ffffff"/>
                </a:solidFill>
                <a:uFillTx/>
                <a:latin typeface="Arial"/>
              </a:rPr>
              <a:t>a que sean citados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 con el objetivo de emitir las opiniones técnicas que le sean solicitadas (artículo 5 letra b) de la Ley Nº 19.968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b)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Asesorar al juez para la adecuada comparecencia y declaración del niño, niña o adolescente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c)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Evaluar la pertinencia de derivar a mediación o aconsejar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conciliación entre las parte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, y sugerir los términos en que esta última pudiere llevarse a cabo (artículo 5 letra c) de la Ley Nº 19.968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)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sesorar al juez en todas las materias relacionadas con su especialidad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"/>
          <p:cNvSpPr/>
          <p:nvPr/>
        </p:nvSpPr>
        <p:spPr>
          <a:xfrm>
            <a:off x="1219320" y="609480"/>
            <a:ext cx="32004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Funcion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147600" y="7920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1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Si un miembro del Consejo Técnico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no pudiere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intervenir en una determinada causa,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o se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imposibilitare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para el ejercicio de su cargo, será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subrogado por los demás miembro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del Consejo Técnico del tribunal a que perteneciere, según el orden de sus nombramientos y la especialidad requerid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Si todos los miembro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del consejo técnico de un tribunal estuvieren afectados por una implicancia o recusación,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el juez designará un profesional que cumpla con los requisitos para integrar un Consejo Técnico de cualquier servicio público, el que estará obligado a desempeñar el carg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"/>
          <p:cNvSpPr/>
          <p:nvPr/>
        </p:nvSpPr>
        <p:spPr>
          <a:xfrm>
            <a:off x="1143000" y="380880"/>
            <a:ext cx="75438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Normas de implicancia o recusación de miembros del Consejo Técnico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71280" y="260280"/>
            <a:ext cx="754380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Juzgados de Familia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320" y="1484280"/>
            <a:ext cx="75438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Consejos técnicos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Organismo integrado por profesionale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Que asesoran a los juece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Para el análisis y mejor comprensión de los asuntos sometidos a su conocimient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Unidades administrativas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Sal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Atención de públic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Servicio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Administración de causa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1905120" y="3276720"/>
            <a:ext cx="5486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cc"/>
                </a:solidFill>
                <a:latin typeface="Arial"/>
              </a:rPr>
              <a:t>Administrad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1371600" y="342864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e elimina el cargo de secretario del tribun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"/>
          <p:cNvSpPr/>
          <p:nvPr/>
        </p:nvSpPr>
        <p:spPr>
          <a:xfrm>
            <a:off x="1143000" y="38088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Cambio Trascendental en la Reforma de los Tribunales de Famil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761760" y="182844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n cada tribunal de familia habrá un administrador, auxiliar de la administración de justicia </a:t>
            </a: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encargado de organizar y controlar la gestión administrativa y financiera del tribunal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, de acuerdo a las reglas contempladas en el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árrafo 4 bis de 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os administradores de tribunales con 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</a:rPr>
              <a:t>competencia en lo criminal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”,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del Título XI del Código Orgánico de Tribunales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371600" y="66996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l Administrado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Funciones: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066320" y="182844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6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Dirigir las labores administrativas propias del funcionamiento del tribunal, bajo la supervisión del juez presidente del comité de juece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6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 u="sng">
                <a:solidFill>
                  <a:srgbClr val="ffffff"/>
                </a:solidFill>
                <a:uFillTx/>
                <a:latin typeface="Arial"/>
              </a:rPr>
              <a:t>Proponer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al comité de jueces la designación de los jefes de unidades y de los empleados del tribunal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6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 u="sng">
                <a:solidFill>
                  <a:srgbClr val="ffffff"/>
                </a:solidFill>
                <a:uFillTx/>
                <a:latin typeface="Arial"/>
              </a:rPr>
              <a:t>Proponer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al juez presidente la distribución del personal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6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Evaluar al personal a su cargo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6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Distribuir las causas a los jueces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Arial"/>
              </a:rPr>
              <a:t>Funciones (2):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emover a los jefes de unidades y al personal de empleados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levar la contabilidad y administrar la cuenta corriente del tribunal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ar cuenta al juez presidente acerca de la gestión administrativa del tribunal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laborar el presupuesto anual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Adquirir y abastecer de materiales de trabajo al tribunal; y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Ejercer la demás tareas que le hayan sido asignadas por el comité de jueces, el juez presidente o que determinen las leyes.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1066320" y="144756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2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eberá sujetarse a las políticas generales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 de selección de personal, de evaluación, de administración de recursos materiales y de personal, de diseño y análisis de la información estadística y demás </a:t>
            </a: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que dicte el Consejo de la Corporación Administrativa del Poder Judicial.</a:t>
            </a:r>
            <a:r>
              <a:rPr b="1" lang="es-MX" sz="32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53352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l Administrad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1143000" y="205704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EMPLEADOS DE SECRETARÍ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1066320" y="1828440"/>
            <a:ext cx="7543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2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Los Tribunales de Familia contarán con una planta de empleados de secretarí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2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Se organizarán en </a:t>
            </a: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unidades administrativas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 para el cumplimiento eficaz y eficiente de las siguientes funciones, conforme lo dispone el artículo 2 de la Ley Nº 19.968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47600" y="155520"/>
            <a:ext cx="60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143000" y="609480"/>
            <a:ext cx="5943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FUNCIONES:</a:t>
            </a:r>
            <a:r>
              <a:rPr b="0" lang="es-MX" sz="4000" spc="-1" strike="noStrike">
                <a:solidFill>
                  <a:srgbClr val="ffff00"/>
                </a:solidFill>
                <a:latin typeface="Tahoma"/>
              </a:rPr>
              <a:t> </a:t>
            </a: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1º 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Sala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que consistirá en la organización y asistencia a la realización de las audiencia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2º 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Atención de público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, destinada a otorgar una adecuada atención, orientación e información al público que concurra al juzgado, especialmente a los niños, niñas y adolescentes, y manejar la correspondencia del tribuna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147600" y="155520"/>
            <a:ext cx="60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3°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Servicios,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que reunirá las labores de soporte técnico de la red computacional del juzgado, de contabilidad y de apoyo a la actividad administrativa, y la coordinación y abastecimiento de todas las necesidades físicas y materiales para la realización de las audiencia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4º 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Administración de causa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, que consistirá en desarrollar toda la labor relativa al manejo de causas y registros de los procesos en el juzgado, incluidas las relativas a las notificaciones; al manejo de las fechas y salas para las audiencias; al archivo judicial básico, al ingreso y al número de rol de las causas nuevas; a la actualización diaria de la base de datos que contengan las causas del juzgado, y a las estadísticas básicas del mism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147600" y="155520"/>
            <a:ext cx="60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115920"/>
            <a:ext cx="75438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Competencia de los Tribunales de Familia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Art. 8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uidado personal de niños, niñas o adolescent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Régimen relacional directo y regular del padre o madre que no tenga el cuidado del hij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atria potestad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erecho de alimento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isensos para contraer matrimoni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Guardas, con excepción de curaduría de herencia yacent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43000" y="609480"/>
            <a:ext cx="5943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s-CL" sz="4000" spc="-1" strike="noStrike">
                <a:solidFill>
                  <a:srgbClr val="ffff00"/>
                </a:solidFill>
                <a:latin typeface="Tahoma"/>
                <a:ea typeface="Times New Roman"/>
              </a:rPr>
              <a:t> </a:t>
            </a: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7720" y="533160"/>
            <a:ext cx="8001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ITULO VI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ISPOSICIONES VARI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rtículo 129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.-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upresión de Juzgados de Letras de Menore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rtículo 130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.- </a:t>
            </a:r>
            <a:r>
              <a:rPr b="1" lang="es-CL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Supresión de cargos de asistentes sociale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. 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rtículo 131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.-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plicación de procedimiento en Juzgados de Letras con competencia en familia.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Serán aplicables a las causas de competencia de los juzgados de familia que sean conocidas por los juzgados de letras, los procedimientos establecidos en los Títulos III, IV y V de esta ley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rtículo 132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.-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Creación de cargos en Juzgados de Letras.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Créase </a:t>
            </a:r>
            <a:r>
              <a:rPr b="1" lang="es-CL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un cargo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de miembro de consejo técnico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, en cada uno de los siguientes juzgados de letras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147600" y="155520"/>
            <a:ext cx="60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1142640" y="190512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Respecto a c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usas de familia actualmente radicadas ante Juzgados de Menores o de competencia civil,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guirán conociendo hasta su sentencia de término, de conformidad al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procedimiento antiguo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 regula la supresión de los Juzgados de Menores. Ley de emp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me propia. (6 meses, hasta un año adicional y luego el traspaso a tribunal de familia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Arial"/>
              </a:rPr>
              <a:t>Normas transitorias: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727200" y="155520"/>
            <a:ext cx="7543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Procedimient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rcRect l="5462" t="0" r="0" b="0"/>
          <a:stretch/>
        </p:blipFill>
        <p:spPr>
          <a:xfrm>
            <a:off x="574560" y="2860560"/>
            <a:ext cx="2109960" cy="195588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727200" y="3497400"/>
            <a:ext cx="190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600" spc="-1" strike="noStrike">
                <a:solidFill>
                  <a:srgbClr val="000066"/>
                </a:solidFill>
                <a:latin typeface="Times New Roman"/>
              </a:rPr>
              <a:t>Procedimient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2"/>
          <a:srcRect l="0" t="5237" r="6783" b="0"/>
          <a:stretch/>
        </p:blipFill>
        <p:spPr>
          <a:xfrm>
            <a:off x="3165480" y="1125360"/>
            <a:ext cx="2057400" cy="121932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3626280" y="1592280"/>
            <a:ext cx="101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600" spc="-1" strike="noStrike">
                <a:solidFill>
                  <a:srgbClr val="000066"/>
                </a:solidFill>
                <a:latin typeface="Times New Roman"/>
              </a:rPr>
              <a:t>Ordinar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3"/>
          <a:srcRect l="0" t="5237" r="6783" b="0"/>
          <a:stretch/>
        </p:blipFill>
        <p:spPr>
          <a:xfrm>
            <a:off x="3165480" y="3165480"/>
            <a:ext cx="2057400" cy="121932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3507120" y="3557520"/>
            <a:ext cx="106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600" spc="-1" strike="noStrike">
                <a:solidFill>
                  <a:srgbClr val="000066"/>
                </a:solidFill>
                <a:latin typeface="Times New Roman"/>
              </a:rPr>
              <a:t>Especial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4"/>
          <a:srcRect l="0" t="5237" r="6783" b="0"/>
          <a:stretch/>
        </p:blipFill>
        <p:spPr>
          <a:xfrm>
            <a:off x="3165480" y="5305320"/>
            <a:ext cx="2057400" cy="121932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3537360" y="5583240"/>
            <a:ext cx="106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600" spc="-1" strike="noStrike">
                <a:solidFill>
                  <a:srgbClr val="000066"/>
                </a:solidFill>
                <a:latin typeface="Times New Roman"/>
              </a:rPr>
              <a:t>En Leye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600" spc="-1" strike="noStrike">
                <a:solidFill>
                  <a:srgbClr val="000066"/>
                </a:solidFill>
                <a:latin typeface="Times New Roman"/>
              </a:rPr>
              <a:t>Especial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rot="1491000">
            <a:off x="2499840" y="5351040"/>
            <a:ext cx="773280" cy="309600"/>
          </a:xfrm>
          <a:prstGeom prst="rightArrow">
            <a:avLst>
              <a:gd name="adj1" fmla="val 50000"/>
              <a:gd name="adj2" fmla="val 62442"/>
            </a:avLst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rot="19360200">
            <a:off x="2502000" y="2061720"/>
            <a:ext cx="815760" cy="289080"/>
          </a:xfrm>
          <a:prstGeom prst="rightArrow">
            <a:avLst>
              <a:gd name="adj1" fmla="val 50000"/>
              <a:gd name="adj2" fmla="val 70548"/>
            </a:avLst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39000">
            <a:off x="2712600" y="3546000"/>
            <a:ext cx="681120" cy="273240"/>
          </a:xfrm>
          <a:prstGeom prst="rightArrow">
            <a:avLst>
              <a:gd name="adj1" fmla="val 50000"/>
              <a:gd name="adj2" fmla="val 62319"/>
            </a:avLst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5"/>
          <a:srcRect l="0" t="11156" r="6783" b="0"/>
          <a:stretch/>
        </p:blipFill>
        <p:spPr>
          <a:xfrm>
            <a:off x="5562720" y="2057400"/>
            <a:ext cx="3352680" cy="106668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 rot="19171800">
            <a:off x="5195880" y="2708280"/>
            <a:ext cx="816120" cy="289080"/>
          </a:xfrm>
          <a:prstGeom prst="rightArrow">
            <a:avLst>
              <a:gd name="adj1" fmla="val 50000"/>
              <a:gd name="adj2" fmla="val 70579"/>
            </a:avLst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6"/>
          <a:srcRect l="0" t="5237" r="6783" b="0"/>
          <a:stretch/>
        </p:blipFill>
        <p:spPr>
          <a:xfrm>
            <a:off x="5562720" y="3024360"/>
            <a:ext cx="3352680" cy="117144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6019920" y="3429000"/>
            <a:ext cx="255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66"/>
                </a:solidFill>
                <a:latin typeface="Times New Roman"/>
              </a:rPr>
              <a:t>Violencia intrafamilia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7"/>
          <a:srcRect l="0" t="5237" r="6783" b="0"/>
          <a:stretch/>
        </p:blipFill>
        <p:spPr>
          <a:xfrm>
            <a:off x="5562720" y="4114800"/>
            <a:ext cx="3352680" cy="99540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6019920" y="4419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66"/>
                </a:solidFill>
                <a:latin typeface="Times New Roman"/>
              </a:rPr>
              <a:t>Asuntos no contencioso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rot="20678400">
            <a:off x="5227200" y="3465000"/>
            <a:ext cx="681120" cy="273240"/>
          </a:xfrm>
          <a:prstGeom prst="rightArrow">
            <a:avLst>
              <a:gd name="adj1" fmla="val 50000"/>
              <a:gd name="adj2" fmla="val 62319"/>
            </a:avLst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rot="790800">
            <a:off x="5238360" y="4119120"/>
            <a:ext cx="773280" cy="309600"/>
          </a:xfrm>
          <a:prstGeom prst="rightArrow">
            <a:avLst>
              <a:gd name="adj1" fmla="val 50000"/>
              <a:gd name="adj2" fmla="val 62442"/>
            </a:avLst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8"/>
          <a:srcRect l="0" t="5237" r="6783" b="0"/>
          <a:stretch/>
        </p:blipFill>
        <p:spPr>
          <a:xfrm>
            <a:off x="6172200" y="5410080"/>
            <a:ext cx="2427120" cy="120024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6705720" y="5715000"/>
            <a:ext cx="1522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66"/>
                </a:solidFill>
                <a:latin typeface="Times New Roman"/>
              </a:rPr>
              <a:t>Adopción (Ley 19.620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111640" y="5700600"/>
            <a:ext cx="773280" cy="309600"/>
          </a:xfrm>
          <a:prstGeom prst="rightArrow">
            <a:avLst>
              <a:gd name="adj1" fmla="val 50000"/>
              <a:gd name="adj2" fmla="val 62442"/>
            </a:avLst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629400" y="1143000"/>
            <a:ext cx="11430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000066"/>
                </a:solidFill>
                <a:latin typeface="Times New Roman"/>
              </a:rPr>
              <a:t>Separación, nulidad y divorci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943600" y="2084400"/>
            <a:ext cx="27432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66"/>
                </a:solidFill>
                <a:latin typeface="Times New Roman"/>
              </a:rPr>
              <a:t>Medidas de protección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66"/>
                </a:solidFill>
                <a:latin typeface="Times New Roman"/>
              </a:rPr>
              <a:t>de niños, niñas 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66"/>
                </a:solidFill>
                <a:latin typeface="Times New Roman"/>
              </a:rPr>
              <a:t>adolescente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-2700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Competencia de los Tribunales de Familia(2)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>
              <a:lnSpc>
                <a:spcPct val="16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Vida futura del niño, niña o adolescent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just">
              <a:lnSpc>
                <a:spcPct val="16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Medidas de protección de niños, niñas y adolescent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just">
              <a:lnSpc>
                <a:spcPct val="16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cciones de filiación y estado civi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just">
              <a:lnSpc>
                <a:spcPct val="16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Infracciones penales cometidas por niños, niñas y adolescentes exentos de responsabilidad crimina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just">
              <a:lnSpc>
                <a:spcPct val="16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utorización niños, niñas y adolescentes para salir del paí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just">
              <a:lnSpc>
                <a:spcPct val="16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ausas relativas al maltrato de niños, niñas y adolescent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just">
              <a:lnSpc>
                <a:spcPct val="16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rocedimientos de adopció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543800" cy="7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Competencia de los Tribunales de Familia (3)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paración judicial de bien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utorizaciones judicial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eclaración y desafectación de bienes familiares y constitución de derechos de usufructo, uso y habitación sobre los mismo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paración, nulidad y divorci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eclaraciones de interdicció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ctos de violencia intrafamilia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or último, y en forma genérica, toda otra cuestión personal derivada de las relaciones de famili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066320" y="15238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cc"/>
                </a:solidFill>
                <a:latin typeface="Arial"/>
              </a:rPr>
              <a:t>ESTRUCTURA ORGÁNICA DE LOS TRIBUNALES DE FAMIL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1455840" y="1959120"/>
            <a:ext cx="6689160" cy="4738320"/>
            <a:chOff x="1455840" y="1959120"/>
            <a:chExt cx="6689160" cy="4738320"/>
          </a:xfrm>
        </p:grpSpPr>
        <p:sp>
          <p:nvSpPr>
            <p:cNvPr id="137" name=""/>
            <p:cNvSpPr/>
            <p:nvPr/>
          </p:nvSpPr>
          <p:spPr>
            <a:xfrm>
              <a:off x="4019040" y="2826360"/>
              <a:ext cx="1705320" cy="484920"/>
            </a:xfrm>
            <a:prstGeom prst="rect">
              <a:avLst/>
            </a:prstGeom>
            <a:solidFill>
              <a:srgbClr val="33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 Narrow"/>
                </a:rPr>
                <a:t>Juez Presidente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605600" y="3303720"/>
              <a:ext cx="1701360" cy="468000"/>
            </a:xfrm>
            <a:prstGeom prst="rect">
              <a:avLst/>
            </a:prstGeom>
            <a:solidFill>
              <a:srgbClr val="33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 Narrow"/>
                </a:rPr>
                <a:t>Administrador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667520" y="5303880"/>
              <a:ext cx="3389040" cy="29232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Encargado de administración de causa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489320" y="4709160"/>
              <a:ext cx="580320" cy="4842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</a:rPr>
                <a:t>Sala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707360" y="4765680"/>
              <a:ext cx="1816920" cy="468720"/>
            </a:xfrm>
            <a:prstGeom prst="rect">
              <a:avLst/>
            </a:prstGeom>
            <a:solidFill>
              <a:srgbClr val="3366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 Narrow"/>
                </a:rPr>
                <a:t>Atención Público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410560" y="3074040"/>
              <a:ext cx="1609200" cy="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835440" y="3630960"/>
              <a:ext cx="2318040" cy="484920"/>
            </a:xfrm>
            <a:prstGeom prst="rect">
              <a:avLst/>
            </a:prstGeom>
            <a:solidFill>
              <a:srgbClr val="33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 Narrow"/>
                </a:rPr>
                <a:t>Jueces de Familia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123960" y="3879000"/>
              <a:ext cx="4330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555600" y="3655800"/>
              <a:ext cx="1513800" cy="460800"/>
            </a:xfrm>
            <a:prstGeom prst="rect">
              <a:avLst/>
            </a:prstGeom>
            <a:solidFill>
              <a:srgbClr val="33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 Narrow"/>
                </a:rPr>
                <a:t>Consejo Técnico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455840" y="4665240"/>
              <a:ext cx="6689160" cy="2032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244680" y="3478680"/>
              <a:ext cx="432864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425680" y="3070440"/>
              <a:ext cx="1800" cy="233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443560" y="4126680"/>
              <a:ext cx="1080" cy="49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824000" y="3321720"/>
              <a:ext cx="1080" cy="309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957480" y="1959120"/>
              <a:ext cx="1884600" cy="484920"/>
            </a:xfrm>
            <a:prstGeom prst="rect">
              <a:avLst/>
            </a:prstGeom>
            <a:solidFill>
              <a:srgbClr val="33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 Narrow"/>
                </a:rPr>
                <a:t>Comité de Jueces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824000" y="2454120"/>
              <a:ext cx="1080" cy="37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167920" y="4709160"/>
              <a:ext cx="2467080" cy="48492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dministración de Causas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6360" y="4765680"/>
              <a:ext cx="1064520" cy="486360"/>
            </a:xfrm>
            <a:prstGeom prst="rect">
              <a:avLst/>
            </a:prstGeom>
            <a:solidFill>
              <a:srgbClr val="3366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 Narrow"/>
                </a:rPr>
                <a:t>Servicios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667520" y="5673600"/>
              <a:ext cx="1653840" cy="29412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Encargado de sala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072040" y="6229800"/>
              <a:ext cx="781560" cy="293040"/>
            </a:xfrm>
            <a:prstGeom prst="rect">
              <a:avLst/>
            </a:prstGeom>
            <a:solidFill>
              <a:srgbClr val="3366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 Narrow"/>
                </a:rPr>
                <a:t>Auxilia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072040" y="5798520"/>
              <a:ext cx="1775880" cy="292680"/>
            </a:xfrm>
            <a:prstGeom prst="rect">
              <a:avLst/>
            </a:prstGeom>
            <a:solidFill>
              <a:srgbClr val="3366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 Narrow"/>
                </a:rPr>
                <a:t>Encargado contabl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072040" y="5409360"/>
              <a:ext cx="2450520" cy="293400"/>
            </a:xfrm>
            <a:prstGeom prst="rect">
              <a:avLst/>
            </a:prstGeom>
            <a:solidFill>
              <a:srgbClr val="3366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 Narrow"/>
                </a:rPr>
                <a:t>Encargado Atención público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667520" y="5994720"/>
              <a:ext cx="2160000" cy="2948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Encargado de mediació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667520" y="6346440"/>
              <a:ext cx="2451960" cy="2930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Encargado de toma de acta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573320" y="3478680"/>
              <a:ext cx="1080" cy="17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1295280" y="333360"/>
            <a:ext cx="75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 estructura orgánica de los nuevos Juzgados de Familia 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1066320" y="19051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os 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tribunales formarán parte del Poder Judici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Tendrán la estructura, organización y competencia que la ley establece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La implementación implica la sustitución de los actuales 51 Tribunales de Menores por 258 jueces agrupados en 60 nuevos Tribunales de Familia, a los cuales deben sumarse los 77 Jueces de Letras que tendrán también competencia en asuntos de familia en aquellos lugares en que no exista judicatura especializada en materia familia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45720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Características de los tribuna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3T18:33:17Z</dcterms:created>
  <dc:creator>INP</dc:creator>
  <dc:description/>
  <dc:language>en-US</dc:language>
  <cp:lastModifiedBy>renunez</cp:lastModifiedBy>
  <dcterms:modified xsi:type="dcterms:W3CDTF">2006-08-02T19:38:07Z</dcterms:modified>
  <cp:revision>68</cp:revision>
  <dc:subject/>
  <dc:title>Diapositiva 1</dc:title>
</cp:coreProperties>
</file>