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408-129E-40AD-8DD1-8CC0ED63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32C-1F30-40E2-9952-8DB6A1E2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329-2B49-4D9D-A4E7-16F40E47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8E1-B333-440A-A614-7C7B24B5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DBB9-B704-4972-B51F-38E26C92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2180-CCC5-4A69-92C6-03B00D99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C52C-6CBF-4875-A47F-ACBE89C1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ED86-CA95-4E13-95CB-9A539B25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3620-1962-404C-8AE3-67E0862D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9E6F-3F70-43EA-B0D4-36DB8835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3F64-F646-4225-8E1A-9C2CD2C0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A16-E136-4B02-9A20-51B4A401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29DD-1282-4D7E-9339-AF12831E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B1AC-7E1A-46EB-A52D-4F272BFC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335A-801A-46B2-B254-F3940587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6051-C174-4183-A9FF-72D82CD8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6A57-39E9-4282-AD6D-14CC8BE3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F35-260E-4ABD-BC21-F32AE15D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957-5C6B-4864-89BE-B3C046B2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962-BA64-4443-A423-E18842DC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55C-CA3E-4BBE-AAD5-8FAD178E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79E-941C-4612-951A-45145397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BD9-7ECA-4F4D-B7C1-50E80729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67C-4302-4AC9-ACEE-0454EF84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8E9D-A00B-4A70-B926-C119FA0D5A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C466-09C3-4616-AD0D-2FB9ECA1A87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1: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juez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dos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do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dos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re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tres miembros del consejo técnico, dos administrativos jefes, cuatro administrativos 1º, dos administrativos 2º, un administrativo 3º y un auxiliar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uatro jueces, un administrador, cuatro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nc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inco jueces, un administrador, cinco 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i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eis jueces, un administrador, seis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iet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iet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et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ch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ocho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cho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ueve juec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uev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uev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iez jueces, un administrador, diez miembros del consejo técnico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oce jueces, un administrador, doce miembros del consejo técnico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el primero, el segundo y el tercer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y el cuart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28600"/>
            <a:ext cx="79246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ordinario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r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u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lificar anualmente a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Es un organismo auxiliar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al menos, dos semestres de duración, impartida por alguna de las instituciones antes señal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b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tria potest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uardas, con excepción de curaduría de herencia ya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562720" y="302436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019920" y="3429000"/>
            <a:ext cx="25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Violencia intrafamil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5562720" y="4114800"/>
            <a:ext cx="3352680" cy="995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27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da futura del niño, niña o adoles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racciones penales cometidas por niños, niñas y adolescentes exentos de responsabilidad crimi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 (3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ones judi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ón y desafectación de bienes familiares y constitución de derechos de usufructo, uso y habitación sobre los mism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ones de interdi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r último, y en forma genérica, toda otra cuestión personal derivada de las relaciones de famil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37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02T19:38:07Z</dcterms:modified>
  <cp:revision>68</cp:revision>
  <dc:subject/>
  <dc:title>Diapositiva 1</dc:title>
</cp:coreProperties>
</file>