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F20-FF58-47E8-9363-5420BA59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59B-7A85-4654-81A7-8E94902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440-5CCC-486A-A6A8-E75D382A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6479-3444-484A-A3DF-3FB2CA58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9C42-0679-4A2E-8CC3-D1487FC95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47E1-0474-4D0A-8975-6CF56DCC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0129-0114-4B74-ACAC-01460077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F058-5705-4902-8EC3-87A54C73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1644-115A-466B-97D9-FA2880EE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AD9A-6367-4050-A768-BC70A79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A609-7548-4D52-ADE0-BF625D2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773-37A5-46F8-B90E-F6985AD7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49B2-6062-436D-BD2E-5E4B3DD2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329-19B1-4ACF-9B92-96BCBB52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6047-74B9-4BE6-8D75-27BF3D78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24618-81BF-402D-997D-37EF9F1B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E8D7-C406-4823-959D-1F64E83C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D25-0199-44A4-B325-15C49647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9EE-90B4-4197-B01C-16D44FAF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6022-F359-4D77-B69E-D387F84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EDC-16F2-44B0-8D30-C34306BF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0CD-BF3D-4FE5-A8DB-FC08CF1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2ED-4BA1-46E8-A589-F1CCC256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464-4AC8-49E1-A980-BC8BF23A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327C-8705-46FC-ABBA-CE1FCB50479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324A-48CA-4B07-9402-8EFF8E0361D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22860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Universidad de Chile</a:t>
            </a:r>
            <a:br>
              <a:rPr sz="40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9736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ff"/>
                </a:solidFill>
                <a:latin typeface="Arial"/>
              </a:rPr>
              <a:t>René Núñe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981080"/>
            <a:ext cx="281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00"/>
                </a:solidFill>
                <a:latin typeface="Monotype Corsiva"/>
              </a:rPr>
              <a:t>Módulo 1: Estructura, competencia y procedimien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44600" y="1870200"/>
            <a:ext cx="4903920" cy="4911120"/>
            <a:chOff x="1344600" y="1870200"/>
            <a:chExt cx="4903920" cy="49111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352520" y="1873080"/>
              <a:ext cx="486900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344600" y="668484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47840" y="1870200"/>
              <a:ext cx="4900680" cy="964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460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61040" y="1873080"/>
              <a:ext cx="74880" cy="48891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47600" y="26028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brá juzgados unipersonales de composición múltip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gnifica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Juzgados compuestos por un número variable de ju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da uno de los cuales detentará la plenitud jurisdiccional en forma independ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número de jueces será vari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determinará de acuerdo a la carga de trabajo estimada para cada jurisd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lo no previsto en la Ley de Tribunales de Familia, quedarán sujetos a las disposiciones del Código Orgánico de Tribunales y demás leyes que lo complement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tículo 118 de la Ley Nº 19.968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 aplicable a los Tribunales de Familia,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en cuanto resulte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compatib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las normas previstas en el Código Orgánico de Tribunales para los juzgados de garantía y tribunales de juicio oral en lo penal, en lo relativo 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. Comité de juec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. Juez presiden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3. Administradores de tribunales y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Organización administrativa de los juzgados;</a:t>
            </a:r>
            <a:r>
              <a:rPr b="0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orma supletoria en relación a la organización de los Tribunales de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1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n juez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un juez, un administrador, dos miembros del consejo técnico, dos administrativos jefes, dos administrativos 1º, un administrativo 2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2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do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dos jueces, un administrador, dos miembros del consejo técnico, dos administrativos jefes, tres administrativos 1º, un administrativo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3) Juzgados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tres juec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: tres jueces, un administrador, tres miembros del consejo técnico, dos administrativos jefes, cuatro administrativos 1º, dos administrativos 2º, un administrativo 3º y un auxiliar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itulo V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I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nta De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rtículo 115.- Composición de la planta de los juzgados de 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uatro jueces, un administrador, cuatro miembros del consejo técnico, dos administrativos jefes, cinco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5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nc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cinco jueces, un administrador, cinco miembros del consejo técnico, dos administrativos jefes, seis administrativos 1º, dos administrativos 2º, un administrativo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6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ei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eis jueces, un administrador, seis miembros del consejo técnico, dos administrativos jefes, un administrativo contable, siete administrativos 1º, dos administrativos 2º, dos administrativos 3º y un aux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0"/>
            <a:ext cx="7925040" cy="25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tículo 115.- Composición de la planta de los juzgados de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iet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siet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iet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ocho administrativos 1º, do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8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cho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ocho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cho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nueve administrativos 1º, tres administrativos 2º, do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9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ueve juec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ueve jueces, un administrador,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ueve miembros del consejo técnic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tres administrativos jefes, un administrativo contable, diez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2286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ble a l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0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iez jueces, un administrador, diez miembros del consejo técnico, cuatro administrativos jefes, un administrativo contable, once administrativos 1º, tres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1)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uzgado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doce jueces, un administrador, doce miembros del consejo técnico, cuatro administrativos jefes, un administrativo contable, trece administrativos 1º, cuatro administrativos 2º, tres administrativos 3º y dos auxilia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3049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15.- Composición de la planta de los juzgados d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amil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atro juzgados de famil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el primero, el segundo y el tercer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ez jueces cada un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y el cuarto, co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oce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competencia sobre las comunas de la provincia de Santiago..., con excepción de....lo que sigue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os juzga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iez jueces cada uno, con competencia sobre las comunas de San Miguel, San Joaquín, La Granja, La Pintana, San Ramón, Pedro Aguirre Cerda, La Cisterna, El Bosque y Lo Espe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n juzgad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on doce jueces, con competencia sobre las comunas de Pudahuel, Quinta Normal, Cerro Navia y Lo Pr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8600"/>
            <a:ext cx="792468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NUEVOS JUZ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GIÓN METROPOLITANA DE SANTI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95280" y="2362320"/>
            <a:ext cx="73915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3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os juzgados de garantía en los que sirvan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res o más juec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y en cada tribunal de ju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al en lo penal, habrá un comité de juec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380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rma del Código Procesal Penal aplicable en materia de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283500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FUNCIONES DEL COMITÉ DE JUECE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57000"/>
            <a:ext cx="7543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cepto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ordinarios, integrados por uno o más jueces unipersonales, que conocerán de los asuntos de familia que la ley les encomien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os Juzgados formaran parte del Poder Judi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formación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umero de jueces que la ley determine (Art. 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ejo técnic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 administrad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mpleados de secretarí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Unidades administrativ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0" y="-39196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924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robar el procedimiento objetivo y general a que se refieren los artículos 15 y 17, en su caso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Designar, de la terna que le presente el juez presidente, a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alificar anualmente a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solver acerca de la remoción del administrado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signar al personal del juzgado o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, a propuesta en terna del administrad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Conocer de la apelación que se interpusiere en contra de la resolución de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 que remueva al sub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dministrador, a los jefes d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a los empleados del juzgado o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Decidir el proyecto de plan presupuestario anual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 le presente el juez presidente, para ser propuesto a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Corporación Administrativa del Poder Judicial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Conocer de todas las demás materias que señal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l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30184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Juez president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juez presidente del comité de jueces le corresponderá velar por el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ecuado funcionamient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del juzgado o tribun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just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Juez Presidente tendrá los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iguientes deberes y atribuciones: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idir el comité de juece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Relacionarse con la Corporación Administrativa del Poder Judicial en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odas las materias relativas a la</a:t>
            </a:r>
            <a:r>
              <a:rPr b="0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competencia de és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al comité de jueces el procedimiento objetivo y general a que se refieren los artículos 15 y 17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) Elaborar anualmente una cuenta de la gestión jurisdiccional del juzg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 Aprobar los criterios de gestión administrativa que le proponga el administrador del tribunal y supervisar su ejecución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Aprobar la distribución del personal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lificar al personal, teniendo a la vista la evaluación que le presente 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 Presentar al comité de jueces una terna para la designación del administrador del tribunal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valuar anualmente la gestión del administrador, 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) Proponer al comité de jueces la remoción del administrador del tribuna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294920" y="312408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Consejo Téc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inalidad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ganismo asesor en el tratamiento de un conflicto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Consejo Técnico, conforme lo señala el artículo 457 del Código Orgánico de Tribunales, modificado por la Ley Nº 19.69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Es un organismo auxiliar de la administración de justici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mpuesto por profesionales en el número y con los requisitos que establece la le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95280" y="533520"/>
            <a:ext cx="716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ejo Técnico y el tratamiento multidisciplinario del conflicto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6858000"/>
            <a:ext cx="807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209680"/>
            <a:ext cx="815328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Función: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Asesorar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individual o colectivamente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a los jueces con competencia en asuntos de famil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657600"/>
            <a:ext cx="8001000" cy="31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¿Qué materia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el análisis y mayor comprensión de los asuntos sometidos a su conocimiento en el ámbito de su especiali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da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juzgado de familia habrá un consejo técnico interdisciplinario integrado por profesionales especializados en asuntos de familia e inf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663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 artículo 7 de la Ley Nº 19.968 exige poseer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ítulo profes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una carrera que teng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 menos ocho semestres de dur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otorgado por alguna universidad o instituto profesional del Estado o reconocido por éste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biendo además acreditarse experiencia profesional y formación especializada en materia de familia e infancia d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al menos, dos semestres de duración, impartida por alguna de las instituciones antes señal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498600"/>
            <a:ext cx="769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EQUISITOS PARA SER MIEMBRO DEL CONSEJO TÉC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96400" y="1981080"/>
            <a:ext cx="8170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istir a las audiencias de juicio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a que sean citado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con el objetivo de emitir las opiniones técnicas que le sean solicitadas (artículo 5 letra b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sesorar al juez para la adecuada comparecencia y declaración del niño, niña o adolesc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la pertinencia de derivar a mediación o aconsej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iliación entre las part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y sugerir los términos en que esta última pudiere llevarse a cabo (artículo 5 letra c) de la Ley Nº 19.968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)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esorar al juez en todas las materias relacionadas con su especi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609480"/>
            <a:ext cx="3200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47600" y="7920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 un miembro del Consejo Técnico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pudie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intervenir en una determinada causa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o 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mposibilit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ara el ejercicio de su cargo, será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ubrogado por los demá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l tribunal a que perteneciere, según el orden de sus nombramientos y la especialidad requer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todos los miembr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l consejo técnico de un tribunal estuvieren afectados por una implicancia o recusación,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juez designará un profesional que cumpla con los requisitos para integrar un Consejo Técnico de cualquier servicio público, el que estará obligado a desempeñar el carg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80880"/>
            <a:ext cx="754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ormas de implicancia o recusación de miembros del Consejo Técnic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5438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Juzgado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Consejos técnico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rganismo integrado por profesional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Que asesoran a los juec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ra el análisis y mejor comprensión de los asuntos sometidos a su conocimi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a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rvici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dministración de caus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905120" y="32767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Administra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371600" y="34286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 elimina el cargo de secretario del tribu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808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ambio Trascendental en la Reforma de los Tribunales de Fami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da tribunal de familia habrá un administrador, auxiliar de la administración de justicia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cargado de organizar y controlar la gestión administrativa y financiera del tribu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, de acuerdo a las reglas contempladas en e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rrafo 4 bis d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administradores de tribunales co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competencia en lo criminal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”,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l Título XI del Código Orgánico de Tribunale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6699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rigir las labores administrativas propias del funcionamiento del tribunal, bajo la supervisión del juez presidente del comité de juec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comité de jueces la designación de los jefes de unidades y de los empleados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Propon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al juez presidente la distribución del perso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valuar al personal a su carg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istribuir las causas a los juec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Funciones (2)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mover a los jefes de unidades y al personal de empleado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levar la contabilidad y administrar la cuenta corriente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ar cuenta al juez presidente acerca de la gestión administrativa del tribun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laborar el presupuesto anual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quirir y abastecer de materiales de trabajo al tribunal; y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jercer la demás tareas que le hayan sido asignadas por el comité de jueces, el juez presidente o que determinen las leyes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berá sujetarse a las políticas generale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de selección de personal, de evaluación, de administración de recursos materiales y de personal, de diseño y análisis de la información estadística y demás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que dicte el Consejo de la Corporación Administrativa del Poder Judicial.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533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Administr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MPLEADOS DE SECRETARÍ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os Tribunales de Familia contarán con una planta de empleados de secretar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organizarán en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unidades administrativas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para el cumplimiento eficaz y eficiente de las siguientes funciones, conforme lo dispone el artículo 2 de la Ley Nº 19.968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UNCIONES:</a:t>
            </a:r>
            <a:r>
              <a:rPr b="0" lang="es-MX" sz="40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1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ala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consistirá en la organización y asistencia 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tención de públ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estinada a otorgar una adecuada atención, orientación e información al público que concurra al juzgado, especialmente a los niños, niñas y adolescentes, y manejar la correspondencia del tribu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3°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Servicios,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que reunirá las labores de soporte técnico de la red computacional del juzgado, de contabilidad y de apoyo a la actividad administrativa, y la coordinación y abastecimiento de todas las necesidades físicas y materiales para la realización de las audie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º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Administración de caus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que consistirá en desarrollar toda la labor relativa al manejo de causas y registros de los procesos en el juzgado, incluidas las relativas a las notificaciones; al manejo de las fechas y salas para las audiencias; al archivo judicial básico, al ingreso y al número de rol de las causas nuevas; a la actualización diaria de la base de datos que contengan las causas del juzgado, y a las estadísticas básicas d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115920"/>
            <a:ext cx="75438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rt. 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dado personal de niños, niñas o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égimen relacional directo y regular del padre o madre que no tenga el cuidado del hij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tria potest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recho de alimen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ensos para contraer matrimon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Guardas, con excepción de curaduría de herencia ya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CL" sz="4000" spc="-1" strike="noStrike">
                <a:solidFill>
                  <a:srgbClr val="ffff00"/>
                </a:solidFill>
                <a:latin typeface="Tahoma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533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ITULO V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CIONES V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29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presión de Juzgados de Letras de Menor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0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presión de cargos de asistentes soci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 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ón de procedimiento en Juzgados de Letras con competencia en familia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erán aplicables a las causas de competencia de los juzgados de familia que sean conocidas por los juzgados de letras, los procedimientos establecidos en los Títulos III, IV y V de esta le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tículo 132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-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reación de cargos en Juzgados de Letras.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réas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n carg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miembro de consejo técnic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en cada uno de los siguientes juzgados de letr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7600" y="155520"/>
            <a:ext cx="6080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specto a c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sas de familia actualmente radicadas ante Juzgados de Menores o de competencia civil,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án conociendo hasta su sentencia de término, de conformidad 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cedimiento antigu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regula la supresión de los Juzgados de Menores. Ley de emp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me propia. (6 meses, hasta un año adicional y luego el traspaso a tribunal de famili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eaeaea"/>
                </a:solidFill>
                <a:latin typeface="Arial"/>
              </a:rPr>
              <a:t>Normas transitorias: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27200" y="1555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Procedimi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5462" t="0" r="0" b="0"/>
          <a:stretch/>
        </p:blipFill>
        <p:spPr>
          <a:xfrm>
            <a:off x="574560" y="2860560"/>
            <a:ext cx="2109960" cy="1955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27200" y="349740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Proced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rcRect l="0" t="5237" r="6783" b="0"/>
          <a:stretch/>
        </p:blipFill>
        <p:spPr>
          <a:xfrm>
            <a:off x="3165480" y="112536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626280" y="1592280"/>
            <a:ext cx="101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Ordin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rcRect l="0" t="5237" r="6783" b="0"/>
          <a:stretch/>
        </p:blipFill>
        <p:spPr>
          <a:xfrm>
            <a:off x="3165480" y="316548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507120" y="355752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4"/>
          <a:srcRect l="0" t="5237" r="6783" b="0"/>
          <a:stretch/>
        </p:blipFill>
        <p:spPr>
          <a:xfrm>
            <a:off x="3165480" y="5305320"/>
            <a:ext cx="2057400" cy="12193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3537360" y="558324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n Ley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66"/>
                </a:solidFill>
                <a:latin typeface="Times New Roman"/>
              </a:rPr>
              <a:t>Espec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491000">
            <a:off x="2499840" y="535104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360200">
            <a:off x="2502000" y="2061720"/>
            <a:ext cx="815760" cy="289080"/>
          </a:xfrm>
          <a:prstGeom prst="rightArrow">
            <a:avLst>
              <a:gd name="adj1" fmla="val 50000"/>
              <a:gd name="adj2" fmla="val 70548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39000">
            <a:off x="2712600" y="3546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rcRect l="0" t="11156" r="6783" b="0"/>
          <a:stretch/>
        </p:blipFill>
        <p:spPr>
          <a:xfrm>
            <a:off x="5562720" y="2057400"/>
            <a:ext cx="3352680" cy="1066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 rot="19171800">
            <a:off x="5195880" y="2708280"/>
            <a:ext cx="816120" cy="289080"/>
          </a:xfrm>
          <a:prstGeom prst="rightArrow">
            <a:avLst>
              <a:gd name="adj1" fmla="val 50000"/>
              <a:gd name="adj2" fmla="val 7057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rcRect l="0" t="5237" r="6783" b="0"/>
          <a:stretch/>
        </p:blipFill>
        <p:spPr>
          <a:xfrm>
            <a:off x="5562720" y="3024360"/>
            <a:ext cx="3352680" cy="1171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019920" y="3429000"/>
            <a:ext cx="25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Violencia intrafamili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rcRect l="0" t="5237" r="6783" b="0"/>
          <a:stretch/>
        </p:blipFill>
        <p:spPr>
          <a:xfrm>
            <a:off x="5562720" y="4114800"/>
            <a:ext cx="3352680" cy="9954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01992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suntos no contencio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20678400">
            <a:off x="5227200" y="3465000"/>
            <a:ext cx="681120" cy="273240"/>
          </a:xfrm>
          <a:prstGeom prst="rightArrow">
            <a:avLst>
              <a:gd name="adj1" fmla="val 50000"/>
              <a:gd name="adj2" fmla="val 62319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790800">
            <a:off x="5238360" y="411912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8"/>
          <a:srcRect l="0" t="5237" r="6783" b="0"/>
          <a:stretch/>
        </p:blipFill>
        <p:spPr>
          <a:xfrm>
            <a:off x="6172200" y="5410080"/>
            <a:ext cx="2427120" cy="1200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705720" y="5715000"/>
            <a:ext cx="152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66"/>
                </a:solidFill>
                <a:latin typeface="Times New Roman"/>
              </a:rPr>
              <a:t>Adopción (Ley 19.62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11640" y="5700600"/>
            <a:ext cx="773280" cy="309600"/>
          </a:xfrm>
          <a:prstGeom prst="rightArrow">
            <a:avLst>
              <a:gd name="adj1" fmla="val 50000"/>
              <a:gd name="adj2" fmla="val 62442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9400" y="1143000"/>
            <a:ext cx="1143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66"/>
                </a:solidFill>
                <a:latin typeface="Times New Roman"/>
              </a:rPr>
              <a:t>Separación, nulidad y divorc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2084400"/>
            <a:ext cx="2743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Medidas de protec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de niños, niñas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66"/>
                </a:solidFill>
                <a:latin typeface="Times New Roman"/>
              </a:rPr>
              <a:t>adolesc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(2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Vida futura del niño, niña o adolesc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das de protección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ciones de filiación y estado civi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fracciones penales cometidas por niños, niñas y adolescentes exentos de responsabilidad crimi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ón niños, niñas y adolescentes para salir del 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usas relativas al maltrato de niños, niñas y adoles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6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rocedimientos de adop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Competencia de los Tribunales de Familia (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 judicial de bie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torizaciones judici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ón y desafectación de bienes familiares y constitución de derechos de usufructo, uso y habitación sobre los mism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paración, nulidad y divorci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claraciones de interdi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ctos de violencia intrafamili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r último, y en forma genérica, toda otra cuestión personal derivada de las relaciones de famil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ESTRUCTURA ORGÁNICA DE LOS TRIBUNALES DE FAMI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455840" y="1959120"/>
            <a:ext cx="6689160" cy="4738320"/>
            <a:chOff x="1455840" y="1959120"/>
            <a:chExt cx="6689160" cy="4738320"/>
          </a:xfrm>
        </p:grpSpPr>
        <p:sp>
          <p:nvSpPr>
            <p:cNvPr id="137" name=""/>
            <p:cNvSpPr/>
            <p:nvPr/>
          </p:nvSpPr>
          <p:spPr>
            <a:xfrm>
              <a:off x="4019040" y="2826360"/>
              <a:ext cx="170532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z Presidente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5600" y="3303720"/>
              <a:ext cx="1701360" cy="4680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dministrador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7520" y="5303880"/>
              <a:ext cx="3389040" cy="2923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administración de caus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9320" y="4709160"/>
              <a:ext cx="580320" cy="484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</a:rPr>
                <a:t>Sal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07360" y="4765680"/>
              <a:ext cx="1816920" cy="4687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Atención Público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0560" y="3074040"/>
              <a:ext cx="1609200" cy="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35440" y="3630960"/>
              <a:ext cx="231804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Jueces de Familia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23960" y="3879000"/>
              <a:ext cx="433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55600" y="3655800"/>
              <a:ext cx="1513800" cy="46080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Consejo Técn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55840" y="4665240"/>
              <a:ext cx="6689160" cy="203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3478680"/>
              <a:ext cx="4328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25680" y="3070440"/>
              <a:ext cx="180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43560" y="4126680"/>
              <a:ext cx="108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4000" y="3321720"/>
              <a:ext cx="108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7480" y="1959120"/>
              <a:ext cx="1884600" cy="48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Comité de Juec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24000" y="2454120"/>
              <a:ext cx="1080" cy="3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7920" y="4709160"/>
              <a:ext cx="2467080" cy="48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dministración de Causa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6360" y="4765680"/>
              <a:ext cx="1064520" cy="48636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 Narrow"/>
                </a:rPr>
                <a:t>Servicio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67520" y="5673600"/>
              <a:ext cx="1653840" cy="2941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sal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72040" y="6229800"/>
              <a:ext cx="781560" cy="29304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Auxilia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2040" y="5798520"/>
              <a:ext cx="1775880" cy="29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cont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5409360"/>
              <a:ext cx="2450520" cy="29340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Encargado Atención públic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7520" y="5994720"/>
              <a:ext cx="2160000" cy="294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media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7520" y="6346440"/>
              <a:ext cx="2451960" cy="293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6520" rIns="5652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ncargado de toma de acta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3320" y="3478680"/>
              <a:ext cx="1080" cy="17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295280" y="3333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estructura orgánica de los nuevos Juzgados de Familia 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ibunales formarán parte del Poder Jud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ndrán la estructura, organización y competencia que la ley estable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2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implementación implica la sustitución de los actuales 51 Tribunales de Menores por 258 jueces agrupados en 60 nuevos Tribunales de Familia, a los cuales deben sumarse los 77 Jueces de Letras que tendrán también competencia en asuntos de familia en aquellos lugares en que no exista judicatura especializada en materia famili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572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racterísticas de los tribu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47600" y="44280"/>
            <a:ext cx="6080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18:33:17Z</dcterms:created>
  <dc:creator>INP</dc:creator>
  <dc:description/>
  <dc:language>en-US</dc:language>
  <cp:lastModifiedBy>renunez</cp:lastModifiedBy>
  <dcterms:modified xsi:type="dcterms:W3CDTF">2006-08-02T19:38:07Z</dcterms:modified>
  <cp:revision>68</cp:revision>
  <dc:subject/>
  <dc:title>Diapositiva 1</dc:title>
</cp:coreProperties>
</file>