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A72-3919-45A0-9175-4D03CF2B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A5C-7E50-4B99-B915-8C5D3A13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37E-5CCE-4C53-9D08-095CFA7E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61C6-5DF2-420B-8CB9-9B6DD5F2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EB27-B9C2-49CC-9FD1-9AA74726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C828-6E1D-4770-B684-D5431480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8D42-A378-4D71-A30F-2DEA1F20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4C38-878D-4E25-96A4-CDF0A8F6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CEAC-D98D-4FE4-86D6-5E5CECA3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7587-8FF7-4DE8-A083-122138BA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D1AF-9D1A-49B1-A726-4907FFC5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D05-95EB-4B49-B86E-586F05AC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EFE1-4896-4296-AC9D-DFEC5A26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0417-12A5-4217-90A4-994B8821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40BB-55FF-4312-8BC7-9C219496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5FE9-A6AE-410C-A87F-DFF7963D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F06B-C272-4609-8B51-885C8C13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EF1-1A81-49AB-94B5-19F9119E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B36-87DD-4313-8D09-70EC9B55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DD6-89FB-4295-ABAD-A6E53BBD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C97-68CA-4DD0-8D98-6A911DA0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100C-6F60-42B5-B6BF-CB94943B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576-9430-4A80-9B5E-EDAECB9E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677-6B5F-4649-8895-01A88FE2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32B2-0940-434F-A4AF-49438F38E63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71D5-BC84-44C7-8404-ABBE66E9449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1: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juez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dos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do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dos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re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tres miembros del consejo técnico, dos administrativos jefes, cuatro administrativos 1º, dos administrativos 2º, un administrativo 3º y un auxiliar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uatro jueces, un administrador, cuatro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nc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inco jueces, un administrador, cinco 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i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eis jueces, un administrador, seis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iet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iet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et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ch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ocho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cho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ueve juec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uev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uev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iez jueces, un administrador, diez miembros del consejo técnico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oce jueces, un administrador, doce miembros del consejo técnico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el primero, el segundo y el tercer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y el cuart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28600"/>
            <a:ext cx="79246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ordinario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r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u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lificar anualmente a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Es un organismo auxiliar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al menos, dos semestres de duración, impartida por alguna de las instituciones antes señal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b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tria potest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uardas, con excepción de curaduría de herencia ya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562720" y="302436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019920" y="3429000"/>
            <a:ext cx="25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Violencia intrafamil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5562720" y="4114800"/>
            <a:ext cx="3352680" cy="995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27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da futura del niño, niña o adoles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racciones penales cometidas por niños, niñas y adolescentes exentos de responsabilidad crimi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 (3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ones judi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ón y desafectación de bienes familiares y constitución de derechos de usufructo, uso y habitación sobre los mism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ones de interdi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r último, y en forma genérica, toda otra cuestión personal derivada de las relaciones de famil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37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02T19:38:07Z</dcterms:modified>
  <cp:revision>68</cp:revision>
  <dc:subject/>
  <dc:title>Diapositiva 1</dc:title>
</cp:coreProperties>
</file>