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22C2-7068-4ECE-84D3-6158D030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A5A-EC21-4D2B-81E4-23CAD806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53C-2AB3-47D1-AB52-1EA3CCFE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92E8-6C64-444D-9253-1AB5D841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FAC9-2B17-4AE6-A7A5-BBFC6D01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880F-5631-47B1-9CEE-C0E6E1E6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FCFE-2D0A-41A2-A996-22061D8C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7923-1B41-4695-8671-1662542A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F9B0-0F2A-4234-B4C5-483AC993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7FB2-40AC-483B-AFB4-FA44CFC4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073C-FDB4-4006-8426-92B20788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A13-620A-48AE-B708-330F3BBA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E1A4-67EB-4EE3-9E9E-72ECB01E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F2AC-8676-4085-AD5E-35680A34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7BDB-9AAF-4A1E-A5EF-FF95E4B5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0507-308D-4CB8-B23B-438F95BD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A48F-DB4C-4E66-8423-35CE56B7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7E60-E932-4933-9937-D6E57A50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4AEB-3004-45D8-8C9A-0140F476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36B-0561-4E01-B338-9C45D6AF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E316-7C18-45CA-9A1A-AB573F74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F67-4BCC-4D2A-8D29-B9EB7E89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0F0-A341-4E15-8E59-8BF2C9AD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DDD4-B7B5-46B7-A438-C9573FFF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F7DB-B2E5-4078-8E2B-B03AA5864A4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F4F1-FF44-4AED-8AD4-FDED0079D00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198108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1: Estructura, competencia y procedimien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brá juzgados unipersonales de composición múltip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gnif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Juzgados compuestos por un número variable de ju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da uno de los cuales detentará la plenitud jurisdiccional en forma independ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número de jueces será var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determinará de acuerdo a la carga de trabajo estimada para cada jurisd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tículo 118 de la Ley Nº 19.96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Organización administrativa de los juzgados;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juez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un juez, un administrador, dos miembros del consejo técnico, dos administrativos jefes, dos administrativos 1º, un administrativo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do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os jueces, un administrador, dos miembros del consejo técnico, dos administrativos jefes, tres administrativos 1º, un administrativo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tre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tres jueces, un administrador, tres miembros del consejo técnico, dos administrativos jefes, cuatro administrativos 1º, dos administrativos 2º, un administrativo 3º y un auxiliar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itulo V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nta De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uatro jueces, un administrador, cuatro miembros del consejo técnico, dos administrativos jefes, cinco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inc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inco jueces, un administrador, cinco miembros del consejo técnico, dos administrativos jefes, seis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i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eis jueces, un administrador, seis miembros del consejo técnico, dos administrativos jefes, un administrativo contable, siete administrativos 1º, dos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0"/>
            <a:ext cx="79250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tículo 115.- Composición de la planta de los juzgados d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iet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iet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et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ocho administrativos 1º, do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ch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ocho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cho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nueve administrativos 1º, tre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9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ueve juec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uev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uev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diez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28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772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ble a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iez jueces, un administrador, diez miembros del consejo técnico, cuatro administrativos jefes, un administrativo contable, once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oce jueces, un administrador, doce miembros del consejo técnico, cuatro administrativos jefes, un administrativo contable, trece administrativos 1º, cuatro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304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el primero, el segundo y el tercer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y el cuart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competencia sobre las comunas de la provincia de Santiago..., con excepción de....lo que sigu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iez jueces cada uno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oce jueces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28600"/>
            <a:ext cx="792468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NUEVOS JUZ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95280" y="2362320"/>
            <a:ext cx="7391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3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os juzgados de garantía en los que sirva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tres o má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n cada tribunal de jui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al en lo penal, habrá un comité de juec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80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rma del Código Procesal Penal aplicable en materia de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UNCIONES DEL 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cep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ordinarios, integrados por uno o más jueces unipersonales, que conocerán de los asuntos de familia que la ley les encomien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Juzgados formaran parte del Poder 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form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umero de jueces que la ley determine (Art.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ejo técn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 administr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mpleados de secretarí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idades administrativ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robar el procedimiento objetivo y general a que se refieren los artículos 15 y 17, en su cas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lificar anualmente a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ver acerca de la remoción del administrado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esignar al personal del juzgado o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uez president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18960" y="10666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juez presidente del comité de jueces le corresponderá velar por el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ecuado funciona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l juzgado o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Juez Presidente tendrá los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guientes deberes y atribuciones: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lacionarse con la Corporación Administrativa del Poder Judicial en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todas las materias relativas a l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mpetencia de ést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al comité de jueces el procedimiento objetivo y general a que se refieren los artículos 15 y 17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valuar anualmente la gestión del administrador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) Proponer al comité de jueces la remoción de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Consejo Téc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inalidad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Es un organismo auxiliar de la administración de justici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95280" y="53352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ejo Técnico y el tratamiento multidisciplinario del conflic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2209680"/>
            <a:ext cx="81532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Asesorar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individual o colectivamente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657600"/>
            <a:ext cx="800100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d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es especializados en asuntos de familia e inf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artículo 7 de la Ley Nº 19.968 exige poseer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ítulo profesional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una carrera que tenga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l menos ocho semestres de dur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otorgado por alguna universidad o instituto profesional del Estado o reconocido por éste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biendo además acreditarse experiencia profesional y formación especializada en materia de familia e infancia d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al menos, dos semestres de duración, impartida por alguna de las instituciones antes señal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498600"/>
            <a:ext cx="769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EQUISITOS PARA SER MIEMBRO DEL CONSEJO TÉC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istir a las audiencias de juicio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a que sean citad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con el objetivo de emitir las opiniones técnicas que le sean solicitadas (artículo 5 letra b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esorar al juez para la adecuada comparecencia y declaración del niño, niña o adolesc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la pertinencia de derivar a mediación o aconsej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iliación entre las part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sugerir los términos en que esta última pudiere llevarse a cabo (artículo 5 letra c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esorar al juez en todas las materias relacionadas con su especi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609480"/>
            <a:ext cx="3200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7600" y="7920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un miembro del Consejo Técnic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pudie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intervenir en una determinada causa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o 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mposibilit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el ejercicio de su cargo, será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ubrogado por los demá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l tribunal a que perteneciere, según el orden de sus nombramientos y la especialidad reque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 todos lo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 un tribunal estuvieren afectados por una implicancia o recusación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juez designará un profesional que cumpla con los requisitos para integrar un Consejo Técnico de cualquier servicio público, el que estará obligado a desempeñar el carg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8088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ormas de implicancia o recusación de miembros del Consejo Técnic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ejos técnic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ganismo integrado por profesiona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Que asesoran a los juec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el análisis y mejor comprensión de los asuntos sometidos a su conoc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dministración de caus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Administr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 elimina el cargo de secretario del tribu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808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mbio Trascendental en la Reforma de los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da tribunal de familia habrá un administrador, auxiliar de la administración de justicia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cargado de organizar y controlar la gestión administrativa y financiera del tribu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, de acuerdo a las reglas contempladas en e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árrafo 4 bis d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dministradores de tribunale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ompetencia en lo crimi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”,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l Título XI del Código Orgánico de Tribu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6699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rigir las labores administrativas propias del funcionamiento del tribunal, bajo la supervisión del juez presidente del comité de juec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de jueces la designación de los jefes de unidades y de los empleados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juez presidente la distribución del perso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al personal a su carg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stribuir las causas a los juec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Funciones (2)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mover a los jefes de unidades y al personal de emple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evar la contabilidad y administrar la cuenta corriente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ar cuenta al juez presidente acerca de la gestión administrativa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aborar el presupuesto anu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quirir y abastecer de materiales de trabajo al tribunal; y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rcer la demás tareas que le hayan sido asignadas por el comité de jueces, el juez presidente o que determinen las leyes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berá sujetarse a las políticas general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de selección de personal, de evaluación, de administración de recursos materiales y de personal, de diseño y análisis de la información estadística y demás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que dicte el Consejo de la Corporación Administrativa del Poder Judicial.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Tribunales de Familia contarán con una planta de empleados de secreta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organizarán en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para el cumplimiento eficaz y eficiente de las siguientes funciones, conforme lo dispone el artículo 2 de la Ley Nº 19.96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al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consistirá en la organización y asistencia 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estinada a otorgar una adecuada atención, orientación e información al público que concurra al juzgado, especialmente a los niños, niñas y adolescentes, y manejar la correspondencia del tribu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3°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ervicios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dministración de caus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rt.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dado personal de niños, niñas o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égimen relacional directo y regular del padre o madre que no tenga el cuidado del hi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tria potest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recho de alimen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nsos para contraer matrimon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uardas, con excepción de curaduría de herencia ya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533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TULO V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CIONES V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erán aplicables a las causas de competencia de los juzgados de familia que sean conocidas por los juzgados de letras, los procedimientos establecidos en los Títulos III, IV y V de est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réas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n carg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 miembro de consejo téc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specto a 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sas de familia actualmente radicadas ante Juzgados de Menores o de competencia civil,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irán conociendo hasta su sentencia de término, de conformidad 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cedimiento antigu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regula la supresión de los Juzgados de Menores. Ley de emp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me propia. (6 meses, hasta un año adicional y luego el traspaso a tribunal de famil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Normas transitoria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27200" y="1555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5462" t="0" r="0" b="0"/>
          <a:stretch/>
        </p:blipFill>
        <p:spPr>
          <a:xfrm>
            <a:off x="574560" y="2860560"/>
            <a:ext cx="2109960" cy="1955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27200" y="34974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Procedimi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rcRect l="0" t="5237" r="6783" b="0"/>
          <a:stretch/>
        </p:blipFill>
        <p:spPr>
          <a:xfrm>
            <a:off x="3165480" y="112536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626280" y="159228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Ordin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rcRect l="0" t="5237" r="6783" b="0"/>
          <a:stretch/>
        </p:blipFill>
        <p:spPr>
          <a:xfrm>
            <a:off x="3165480" y="316548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507120" y="35575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rcRect l="0" t="5237" r="6783" b="0"/>
          <a:stretch/>
        </p:blipFill>
        <p:spPr>
          <a:xfrm>
            <a:off x="3165480" y="530532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537360" y="558324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n Ley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491000">
            <a:off x="2499840" y="535104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9360200">
            <a:off x="2502000" y="2061720"/>
            <a:ext cx="815760" cy="289080"/>
          </a:xfrm>
          <a:prstGeom prst="rightArrow">
            <a:avLst>
              <a:gd name="adj1" fmla="val 50000"/>
              <a:gd name="adj2" fmla="val 70548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39000">
            <a:off x="2712600" y="3546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5"/>
          <a:srcRect l="0" t="11156" r="6783" b="0"/>
          <a:stretch/>
        </p:blipFill>
        <p:spPr>
          <a:xfrm>
            <a:off x="5562720" y="2057400"/>
            <a:ext cx="3352680" cy="1066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19171800">
            <a:off x="5195880" y="2708280"/>
            <a:ext cx="816120" cy="289080"/>
          </a:xfrm>
          <a:prstGeom prst="rightArrow">
            <a:avLst>
              <a:gd name="adj1" fmla="val 50000"/>
              <a:gd name="adj2" fmla="val 7057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6"/>
          <a:srcRect l="0" t="5237" r="6783" b="0"/>
          <a:stretch/>
        </p:blipFill>
        <p:spPr>
          <a:xfrm>
            <a:off x="5562720" y="3024360"/>
            <a:ext cx="3352680" cy="1171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019920" y="3429000"/>
            <a:ext cx="25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Violencia intrafamili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7"/>
          <a:srcRect l="0" t="5237" r="6783" b="0"/>
          <a:stretch/>
        </p:blipFill>
        <p:spPr>
          <a:xfrm>
            <a:off x="5562720" y="4114800"/>
            <a:ext cx="3352680" cy="9954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019920" y="4419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suntos no contencios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20678400">
            <a:off x="5227200" y="3465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790800">
            <a:off x="5238360" y="411912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8"/>
          <a:srcRect l="0" t="5237" r="6783" b="0"/>
          <a:stretch/>
        </p:blipFill>
        <p:spPr>
          <a:xfrm>
            <a:off x="6172200" y="5410080"/>
            <a:ext cx="2427120" cy="1200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705720" y="5715000"/>
            <a:ext cx="152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dopción (Ley 19.6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11640" y="570060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9400" y="1143000"/>
            <a:ext cx="1143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66"/>
                </a:solidFill>
                <a:latin typeface="Times New Roman"/>
              </a:rPr>
              <a:t>Separación, nulidad y divorci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2084400"/>
            <a:ext cx="2743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Medidas de protec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de niños, niñas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adolesce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-27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(2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da futura del niño, niña o adoles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das de protección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ciones de filiación y estado civ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fracciones penales cometidas por niños, niñas y adolescentes exentos de responsabilidad crimi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ón niños, niñas y adolescentes para salir del 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usas relativas al maltrato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s de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54380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 (3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 judicial de bie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ones judi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ón y desafectación de bienes familiares y constitución de derechos de usufructo, uso y habitación sobre los mism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, nulidad y divor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ones de interdi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os d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r último, y en forma genérica, toda otra cuestión personal derivada de las relaciones de famil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ESTRUCTURA ORGÁNICA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455840" y="1959120"/>
            <a:ext cx="6689160" cy="4738320"/>
            <a:chOff x="1455840" y="1959120"/>
            <a:chExt cx="6689160" cy="4738320"/>
          </a:xfrm>
        </p:grpSpPr>
        <p:sp>
          <p:nvSpPr>
            <p:cNvPr id="137" name=""/>
            <p:cNvSpPr/>
            <p:nvPr/>
          </p:nvSpPr>
          <p:spPr>
            <a:xfrm>
              <a:off x="4019040" y="2826360"/>
              <a:ext cx="170532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5600" y="3303720"/>
              <a:ext cx="170136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7520" y="5303880"/>
              <a:ext cx="3389040" cy="29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9320" y="4709160"/>
              <a:ext cx="58032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5440" y="3630960"/>
              <a:ext cx="231804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5600" y="3655800"/>
              <a:ext cx="1513800" cy="4608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57480" y="1959120"/>
              <a:ext cx="188460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7920" y="4709160"/>
              <a:ext cx="2467080" cy="484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67520" y="5673600"/>
              <a:ext cx="1653840" cy="294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7520" y="5994720"/>
              <a:ext cx="2160000" cy="294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67520" y="6346440"/>
              <a:ext cx="2451960" cy="293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295280" y="33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estructura orgánica de los nuevos Juzgados de Familia 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formarán parte del Poder Jud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ndrán la estructura, organización y competencia que la ley estable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implementación implica la sustitución de los actuales 51 Tribunales de Menores por 258 jueces agrupados en 60 nuevos Tribunales de Familia, a los cuales deben sumarse los 77 Jueces de Letras que tendrán también competencia en asuntos de familia en aquellos lugares en que no exista judicatura especializada en materia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renunez</cp:lastModifiedBy>
  <dcterms:modified xsi:type="dcterms:W3CDTF">2006-08-02T19:38:07Z</dcterms:modified>
  <cp:revision>68</cp:revision>
  <dc:subject/>
  <dc:title>Diapositiva 1</dc:title>
</cp:coreProperties>
</file>