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6316-185A-467C-AC56-D2E403A9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2666-AB8D-4F9D-8DCE-2F089163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011D9-9C9B-4BFF-AADC-58B2D188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0BEC-A30F-41C5-94B1-21B3CC5B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CD12-0D5E-48ED-BC09-52E7914C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22EA-8F0E-486D-BF06-0CDBAE78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E98C-F261-42E4-91A2-C75024D7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ADFB-A58B-4345-9711-EB94D73A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5FDD-6552-459F-8412-2C34E366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D9D9-D38D-4426-AF60-1BE1C539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5C29-3417-4737-BF33-3D11A85D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B53C-EC84-4A88-8E35-ACEEEDF6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BF91-F6E2-4B04-BDCC-5954ED89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1E99-E932-4081-90E1-B9E6C3EC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EB40-F4E5-4B6F-B182-79D75F4B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CA3C-BCD8-45E7-AFA0-B56BD738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1961-E7A3-4EDE-A460-4947D922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6BB6-7BE2-462D-9F77-498F8CB5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4F38-6D2B-4F43-8059-480888F8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08BE-B62C-4D38-B833-B68E7B0B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476C-FB37-4869-A00E-B41D6F31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DF84-0223-41C1-A7EA-95E9D979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68D1E-EE9E-4D75-9043-84314037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80A3-8BC4-4BC9-931C-D2C42436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195B-C7B3-4E66-A68A-9EC294134CE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F92D-E117-49C9-914F-77B310A82DA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DERECHO PROCESAL II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JUICIO ORDINARIO CIVIL Y LA PRUEB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31AB-EC2C-4329-9155-F4987CF67C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04640"/>
            <a:ext cx="8893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JUICIO ORDINARIO CIVIL Y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I 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REGLAS COMUNES A TODO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Actua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Not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Resolu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os principios formativos d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 ASPECTOS GENERALES DE LA PRUEBA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epto y evolución histórica de la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grados de conocimiento y la prueba: la ignorancia, la credibilidad, la probabilidad, la certeza y la convi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Certeza: Naturaleza y e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erteza y convicción. Control de la convicción: motivación de la sen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incipios formativos del procedimiento en relación con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prueba y las resolu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I JUICIO ORDINARIO CIVIL DE MAYOR CUANT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eriodo de discu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eriodo de concil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eriodo de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44360" y="5084640"/>
            <a:ext cx="8893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V LOS PRINCIPIOS FORMATIVOS DEL PROCEDIMIENTO Y SU APLICACIÓN EN MATERIA PROBA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 OBJETO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Noción de hechos para efectos prob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ueba de los hechos y del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hechos notorios y ev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l hecho neg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8D4F-87B3-4822-B10D-42A2207037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74560"/>
            <a:ext cx="889308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VI LA CARGA DE LA PRUEBA Y SU DISTRIB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Sujetos procesales que soportan la carga de la prueba en el Derecho Proces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hechos presum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convicción en relación con la carga de la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VII LOS MEDIOS DE PRUEBA EN PARTICULAR, EN MAT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epto y clasificación de los medios de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Instr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os Testig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 Confe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 Peri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 Inspección Personal del Tribu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s Presun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Otros medios de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VII LOS SISTEMAS DE ADMISIBILIDAD Y VALORACIO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X LAS LIMITACIONES A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X   LA SEN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itación para oír sen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s medidas para mejor resol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A9B0-CF74-442B-8666-25560F8B54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333360"/>
            <a:ext cx="8893080" cy="61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: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: lunes 31 de julio – 10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: 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01 de sept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25 de septiembre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6 de noviembre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11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, verdadero y falso, preguntas abiertas y casos. Cada tipo de pregunta tiene un puntaje determinado a indicar en cada contro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. Las preguntas abiertas y los casos no descuentan puntaj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98B7-4D9D-4549-BCFD-93A1D6AF99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nws</cp:lastModifiedBy>
  <dcterms:modified xsi:type="dcterms:W3CDTF">2006-07-31T12:56:07Z</dcterms:modified>
  <cp:revision>747</cp:revision>
  <dc:subject/>
  <dc:title>PowerPoint Presentation</dc:title>
</cp:coreProperties>
</file>