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24C3F-4D13-468C-9D54-7C9E1642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6C69-638B-4DC3-91F6-1F25EACE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BA343-C837-4E3D-9AF8-46C7D5D1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E8D94-3613-4157-B540-E8EB9A13A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5E64-9C01-43FB-9E24-7F98D669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1D57-E6B9-496D-B86F-E7EEDA1B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9E24-92AD-4BC1-96E5-77F4F005B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131D-0DD5-444C-BA97-127C61C1C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FDCD4-030F-41BE-ADF2-B2235640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E815D-5C81-4E39-9369-3B4F867D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0538-4B82-4273-8530-52A68543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E2706-0C31-4AFD-87B4-4847CC73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F89-AED6-44F2-89F6-41FF49B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2239-02F3-49C9-9CE2-64197539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A519F-4E28-45F3-8333-AC0699EE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3D4E5-84C7-42F1-80FF-326C6D398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3AE8-5A64-41FB-9F84-00D702D2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6E8F-9991-4213-83D7-AC3366B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A93F0-B5D0-4897-BB5F-83C6CBC5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68119-3304-4748-B539-72630AB8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314D1-3EA6-4798-8EB6-EC1E715C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1B27A-8883-4B63-B11F-088DB101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236A2-16B4-4EC7-B621-A821425C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94357-43C0-4AC4-BE49-2F080A08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4FAD-C3E5-4309-8B04-6E994D9F093D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2174-1060-4C34-9DF9-5FDCE17CB963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br>
              <a:rPr sz="1800"/>
            </a:br>
            <a:br>
              <a:rPr sz="1800"/>
            </a:br>
            <a:r>
              <a:rPr b="1" lang="es-ES_tradnl" sz="18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51CA1-C504-495F-8DEB-173D8D4CA9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404640"/>
            <a:ext cx="8893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DERECHO PROCESAL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7d"/>
                </a:solidFill>
                <a:latin typeface="Tahoma"/>
              </a:rPr>
              <a:t>JUICIO ORDINARIO CIVIL Y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I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GLAS COMUNES A TODO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Actua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Notificac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principios formativos del proced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 ASPECTOS GENERALES DE LA PRUEBA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evolución históric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grados de conocimiento y la prueba: la ignorancia, la credibilidad, la probabilidad, la certeza y la convi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erteza: Naturaleza y e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erteza y convicción. Control de la convicción: motivación de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incipios formativos del procedimiento en relación con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prueba y las resoluciones judic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II JUICIO ORDINARIO CIVIL DE MAYOR CUANT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discu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concili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eriodo de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144360" y="5084640"/>
            <a:ext cx="8893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V LOS PRINCIPIOS FORMATIVOS DEL PROCEDIMIENTO Y SU APLICACIÓN EN MATERIA PROBAT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V OBJETO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Noción de hechos para efectos probato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Prueba de los hechos y del dere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notorios y evide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        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El hecho neg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C3762-938F-4FDE-80CB-6035A76FED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74560"/>
            <a:ext cx="889308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 LA CARGA DE LA PRUEBA Y SU DISTRIBU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Sujetos procesales que soportan la carga de la prueba en el Derecho Procesal Chil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hechos presumi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convicción en relación con la carga de la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VII LOS MEDIOS DE PRUEBA EN PARTICULAR, EN MATERIA CIV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oncepto y clasificación de l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os 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Instr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os Testig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Confes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Peri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 Inspección Personal del Tribu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Las Presun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Otros medios de prueb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7d"/>
                </a:solidFill>
                <a:latin typeface="Tahoma"/>
              </a:rPr>
              <a:t>CAPITULO VII LOS SISTEMAS DE ADMISIBILIDAD Y VALORACION DE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IX LAS LIMITACIONES A LA PRU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APITULO X   LA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Citación para oír senten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s medidas para mejor resol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ES" sz="1200" spc="-1" strike="noStrike">
                <a:solidFill>
                  <a:srgbClr val="00007d"/>
                </a:solidFill>
                <a:latin typeface="Tahoma"/>
              </a:rPr>
              <a:t>La sentencia defini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1D50C-457A-49D4-9882-E5E57E876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04640"/>
            <a:ext cx="9144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18000" y="663264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7d"/>
                </a:solidFill>
                <a:latin typeface="Tahoma"/>
              </a:rPr>
              <a:t>R. Monte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333360"/>
            <a:ext cx="8893080" cy="61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 clases: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9:45 - 10: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 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Miérco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8:30 -   9: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nicio y término de clases: lunes 31 de julio – 10 de noviem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I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Asistencia: li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I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y Exam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ernes 01 de sept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25 de sept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 06 de noviembre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xamen final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Lunes</a:t>
            </a:r>
            <a:r>
              <a:rPr b="1" i="1" lang="es-C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11 de diciembre 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Horario: a confirm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Rezagados: El curso no considera tomar controles rezag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VI.-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	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Estructura de los controles y ponder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, verdadero y falso, preguntas abiertas y casos. Cada tipo de pregunta tiene un puntaje determinado a indicar en cada contro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Preguntas de selección múltiple y de verdadero y falso, tres respuestas incorrectas, descuentan una correcta. Las preguntas abiertas y los casos no descuentan puntaj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uración de los controles: 90-120 minu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De los tres controles parciales, para la ponderación final se considerarán </a:t>
            </a:r>
            <a:r>
              <a:rPr b="1" lang="es-CL" sz="1200" spc="-1" strike="noStrike">
                <a:solidFill>
                  <a:srgbClr val="00007d"/>
                </a:solidFill>
                <a:latin typeface="Tahoma"/>
              </a:rPr>
              <a:t>sólo dos</a:t>
            </a: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, eliminándose la calificación más baja o la que no se hubiere rendi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7d"/>
                </a:solidFill>
                <a:latin typeface="Tahoma"/>
              </a:rPr>
              <a:t>Controles parciales: 60%. Examen: 40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Facultad" descr=""/>
          <p:cNvPicPr/>
          <p:nvPr/>
        </p:nvPicPr>
        <p:blipFill>
          <a:blip r:embed="rId1"/>
          <a:stretch/>
        </p:blipFill>
        <p:spPr>
          <a:xfrm>
            <a:off x="7381800" y="452520"/>
            <a:ext cx="1582920" cy="38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80360" y="907920"/>
            <a:ext cx="1612800" cy="921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DEPARTAMENTO DE DERECHO</a:t>
            </a:r>
            <a:r>
              <a:rPr b="1" lang="es-MX" sz="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s-MX" sz="500" spc="-1" strike="noStrike">
                <a:solidFill>
                  <a:srgbClr val="000000"/>
                </a:solidFill>
                <a:latin typeface="Arial Narrow"/>
              </a:rPr>
              <a:t>PROCES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ADF3-0ACB-4CDA-B676-33FD371C4B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rtenws</cp:lastModifiedBy>
  <dcterms:modified xsi:type="dcterms:W3CDTF">2006-07-31T12:56:07Z</dcterms:modified>
  <cp:revision>747</cp:revision>
  <dc:subject/>
  <dc:title>PowerPoint Presentation</dc:title>
</cp:coreProperties>
</file>