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5B7-50E5-40FD-9CF5-6DCA4F73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E3E-13F7-4710-BADF-5BC8AD23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1BC-7AAE-42BB-9FBE-F0955098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C08-9459-400B-BD4E-92263BA6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53EE-55C0-4607-B3F9-BD47B550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FB75-329D-40EC-BD05-CD067AEA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EC03-9BF6-47BB-8AD7-44C36177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532A-BE14-4C88-83EA-07A2330F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EDA0-78B5-4EAC-9CFA-CEC7A4E7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D50C-7626-430D-B736-FBEA0C6A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37ED-4E28-474D-8984-FE6E9965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76C-063B-4992-AAD8-42C77EBE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256A-DFCE-46D5-9FA5-913A0E2A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6C91-F4AE-41FC-AF23-22C2584D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12E4-C6E0-47E3-8D18-A8C9C731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A351-E67B-436D-91C0-2B543CF4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7265-7493-464B-8612-84E8D3D9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0E5-0E77-458A-8CC1-7E4378E9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D70-7605-4B68-A809-93F12B95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187-556D-4FE1-9B07-A35595C1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26E-B351-4E24-AB88-E16CFD88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262-82DF-4F25-95DA-2C695490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366-3B97-4E2F-A231-5210D2A3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5278-9D08-4A36-AB28-C0F4FAA6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15F5-666A-4F52-8D16-D3D32830DD7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C4CC-0823-4299-8533-4F89E8BCF90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s de la Diferenc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Reacciones: dos tendenc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Revalorización de cualidades femeninas (largamente subvaloradas en la socieda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Riesgo de restituir peligrosos estereotipos de género que, en definitiva, pueden conducir a separar aún más los géneros (esencialismo) y a devaluar las cualidades femenin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óxima clase: Feminismo Radical o de la Domin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3048120"/>
            <a:ext cx="820872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eer texto “Sexualidad” de Catharine MacKinnon (22 págs. U- Curso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Principales característ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Existen diferencias sociales, psicológicas y de comportamiento entre los varones y las mujeres (base: proceso de socialización / diferencia biológic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Las diferencias de género son explicadas en base a la biología, la división del trabajo, la dinámica psicológica en la formación de la identidad, la estructura política de las relaciones de género, 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Principales característ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A diferencia de las feministas liberales (que intentan eliminar las diferencias de género) las partidarias de este enfoque buscan aprender de las diferencias de género, una vez 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redefinidas: 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el ámbito público debe ser </a:t>
            </a:r>
            <a:r>
              <a:rPr b="0" i="1" lang="es-MX" sz="3200" spc="-1" strike="noStrike">
                <a:solidFill>
                  <a:srgbClr val="ffffcc"/>
                </a:solidFill>
                <a:latin typeface="Arial"/>
              </a:rPr>
              <a:t>reconstruido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con la 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participación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de las mujeres y teniendo en cuenta sus 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neces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Principales característ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El Derecho debe ser puesto en cuestión desde una perspectiva feminista que surja de la experiencia misma de las mujeres en la sociedad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(reformas legales en materia de delitos sexual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8680" y="2474640"/>
            <a:ext cx="82087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Valora la cultura femenina como un conjunto de valores desarrollados en la esfera privada de la sociedad </a:t>
            </a:r>
            <a:r>
              <a:rPr b="0" lang="es-MX" sz="32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capacidades que deben ser llevadas a la esfera públ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arol Gilligan: (</a:t>
            </a: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In a different voice</a:t>
            </a: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. 198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Diferencias en la forma en que varones y mujer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se conciben a sí mismos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conciben a su entorno, y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la forma en que resuelven problemas moral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Teoría tradicional del desarrollo psicológico femenino está basado en estudios del desarrollo masculino </a:t>
            </a: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(Estadios de desarrollo moral de Kohlberg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Obj.: que ambos géneros estuviesen representados como sujetos en las investigaciones sobre el desarrollo mo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Arial"/>
              </a:rPr>
              <a:t>Ética del cuidado / Ética de la justicia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Propuesta de Gilligan: agregar la ética del cuidado a la ética de la justi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cc"/>
                </a:solidFill>
                <a:latin typeface="Arial"/>
              </a:rPr>
              <a:t>Ética del cuidado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: que nadie resulte dañ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cc"/>
                </a:solidFill>
                <a:latin typeface="Arial"/>
              </a:rPr>
              <a:t>Ética de la justicia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: que todos sean tratados por ig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Arial"/>
              </a:rPr>
              <a:t>Ética de la justicia / Ética del cuidado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Base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: personas como individuos, independientes (previo a rels. social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Imparcialismo 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Formalismo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Respeto por los derechos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formales de los demás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(límite a la acció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Obj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.: reglas mínimas de convivencia (por procedimiento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Base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: mundo como una red de relaciones en que se inserta el y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Contextualismo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(sit. particular sujeto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Responsabilidad por los demás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(importa tb. la omisió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Obj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.: no sólo reglas sino también de cualquier cosa que se valore como mo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aracterísticas del modelo masculino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Abstrac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Objetivida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Ausencia de peso emocion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onsecuencias en el campo del Derech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Ley está impregnada de la perspectiva masculina: Reglas abstractas, ideas de autonomía y de derechos individuales </a:t>
            </a:r>
            <a:r>
              <a:rPr b="0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excluyen la perspectiva femenin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Sugiere numerosa incorporación de abogadas y juezas en el sistema jurídico </a:t>
            </a:r>
            <a:r>
              <a:rPr b="0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nueva perspectiva y cambi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23:11:51Z</dcterms:created>
  <dc:creator>Patsili Toledo</dc:creator>
  <dc:description/>
  <dc:language>en-US</dc:language>
  <cp:lastModifiedBy>Humanas</cp:lastModifiedBy>
  <dcterms:modified xsi:type="dcterms:W3CDTF">2006-08-25T15:37:00Z</dcterms:modified>
  <cp:revision>8</cp:revision>
  <dc:subject/>
  <dc:title>Feminismo de la Diferencia</dc:title>
</cp:coreProperties>
</file>