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E2B9-FCD9-4F5C-AFB3-FF95A987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DF3-7864-4777-B2DF-4C610FC9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45A-DAC1-4CC0-9E01-74A75736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EE5-DCD3-41D7-9377-4D5BE112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8E78-5898-4D93-BA9C-FC32C3AF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290A-1671-4E2D-9B7F-5439B362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05F4-7CE8-4FA3-A86C-8F277F86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869E-55EC-44DE-8D8F-CD15AD0D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A45E-F6FB-4629-84CF-13E68279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C0F3-CB3A-474F-A2FA-5CA57E6F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36EC-597C-4402-A028-514ADF80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BC4-0E67-4637-89DF-96A29E78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FB22-AB56-4512-8F8A-716A2537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81FB-00F7-4B61-871C-85B38912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9218-60F8-4686-8B5F-8C84BBC6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DC22-C86C-4328-BDD9-48153EC4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3927-E4E3-4714-83CD-2CEC99FB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9FF-3B92-4E2A-A23B-FE13D75F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6AE-C978-4BFC-9356-2B0604E0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781-3A9B-4EBE-936E-D8FD877F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6F2-109A-4ADC-AE28-1B969710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B8A-EB88-4882-9F66-FDD3F303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4534-AF94-4A03-B907-E287EF83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5C5-38CB-4D37-A1CD-52F2053C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8755-0386-4602-8119-1FC494232DF9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4057-1801-4FAE-BFE6-4E6E8D314219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Violencia%20y%20G&#233;nero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urso%202004/textos/Observaciones%20finales%20del%20Comit&#233;%20CEDAW.do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Convención sobre la Eliminación de Todas las Formas de Discriminación contra la Mujer (CEDAW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aciones Unidas, 197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atificación por Chile, 198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Importanc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l Protocolo Facultativo a la CEDAW </a:t>
            </a:r>
            <a:r>
              <a:rPr b="0" lang="es-MX" sz="3200" spc="-1" strike="noStrike" u="sng">
                <a:solidFill>
                  <a:srgbClr val="eaeaea"/>
                </a:solidFill>
                <a:uFillTx/>
                <a:latin typeface="Arial"/>
              </a:rPr>
              <a:t>no consagra nuevos derecho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, sino que sólo establece mecanismos de protección para equipar a la CEDAW a otros tratados de derechos humano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Las </a:t>
            </a: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comunicaciones individu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El procedimiento de </a:t>
            </a: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investigación frente a violaciones graves o sistemátic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Comunicaciones individua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nuncia la víctima o su representa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Comunicación debe ser por escrito y no anóni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l mismo hecho no puede haber sido presentado ante otra instancia u órgano internac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ben agotarse previamente los recursos de la jurisdicción inter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bd189"/>
                </a:solidFill>
                <a:latin typeface="Arial"/>
              </a:rPr>
              <a:t>Investigación sobre violaciones masivas o sistemáticas (*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nformación fidedigna de una situación que revele violaciones graves o sistemátic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esignación de expertos/as para investig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Facultad de visita “in situ” (con consentimiento del paí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municación de resultados, comentarios y recomend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Seguimiento a las recomend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603576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Arial Narrow"/>
              </a:rPr>
              <a:t>(*) Estados pueden no aceptar la competencia del Comité para estas investigaciones, al momento de ratificar el Protoco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Discriminación contra la muj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toda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distinción, exclusión o restricción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basada en el sexo que tenga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por objeto o resultado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menoscabar el reconocimiento, goce o ejercicio por la mujer, independientemente de su estado civil, sobre la base de la igualdad del hombre y de la mujer, de los derechos humanos y las libertades fundamentales en las esferas política, económica, social, cultural y civil o en cualquier otra esfera.” (Art. 1°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>
            <a:hlinkClick r:id="rId1"/>
          </p:cNvPr>
          <p:cNvSpPr/>
          <p:nvPr/>
        </p:nvSpPr>
        <p:spPr>
          <a:xfrm>
            <a:off x="8077320" y="6248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Elementos relevan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La discriminación es entendida como resultado, no sólo como propósit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Una acción, ley o política sin intención de discriminar puede ser discriminatoria si ese es su efec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se plantea una división entre la discriminación que se produce en el ámbito público y privado (“en cualquier otra esfera”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Obligaciones para los Esta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especto de todos los instrumentos internacionales de derechos humano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Obligación de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respet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Abstenerse de violar los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Obligación de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garantiz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Generar las condiciones necesarias para el goce y ejercicio de los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Obligación de garantiz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 u="sng">
                <a:solidFill>
                  <a:srgbClr val="fcab40"/>
                </a:solidFill>
                <a:uFillTx/>
                <a:latin typeface="Arial"/>
              </a:rPr>
              <a:t>Acciones afirmativa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“Medidas de carácter temporal encaminadas a acelerar la igualdad de facto entre el hombre y la mujer (…) estas medidas cesarán cuando se hayan alcanzado los objetivos de igualdad de oportunidad y trato” (Art. 4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Obligación de garantiz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 u="sng">
                <a:solidFill>
                  <a:srgbClr val="fcab40"/>
                </a:solidFill>
                <a:uFillTx/>
                <a:latin typeface="Arial"/>
              </a:rPr>
              <a:t>Modificación de patrones socioculturale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 de conducta de hombres y mujeres, con miras a alcanzar la eliminación de los prejuicios y las prácticas consuetudinarias y de cualquier otra índole que estén basados en la idea de la inferioridad o superioridad de cualquiera de los sexos o en funciones estereotipadas de hombres y mujeres (Art. 5 CEDAW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bd189"/>
                </a:solidFill>
                <a:latin typeface="Arial"/>
              </a:rPr>
              <a:t>Derechos consagrados en la CEDAW de relevancia en Chil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Igual capacidad  jurídica civil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articipar sin discriminación en la vida política y pública del paí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discriminación en la esfera del emple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recho a decidir libre y responsablemente el número e intervalo de los hijos/as y acceso a la información, educación y medios que les permitan ejercer estos derech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Mecanismos de protec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mité para la Eliminación de la Discriminación contra la Mujer (Comité CEDAW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Arial"/>
              </a:rPr>
              <a:t>23 expertas/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Arial"/>
              </a:rPr>
              <a:t>Sistema de informes periódicos de los Estados Par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Arial"/>
              </a:rPr>
              <a:t>Informes sombra </a:t>
            </a:r>
            <a:r>
              <a:rPr b="0" i="1" lang="es-MX" sz="2000" spc="-1" strike="noStrike">
                <a:solidFill>
                  <a:srgbClr val="eaeaea"/>
                </a:solidFill>
                <a:latin typeface="Arial"/>
              </a:rPr>
              <a:t>(shadow report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Arial"/>
              </a:rPr>
              <a:t>Observaciones del Comité al Estado </a:t>
            </a:r>
            <a:r>
              <a:rPr b="0" lang="es-MX" sz="2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Curso 2004\textos\Observaciones finales del Comité CEDAW.d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Protocolo Facultativo a la CED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aciones Unidas, 199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ratificado por Ch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1:25:50Z</dcterms:created>
  <dc:creator>Peter</dc:creator>
  <dc:description/>
  <dc:language>en-US</dc:language>
  <cp:lastModifiedBy> Patsili Toledo</cp:lastModifiedBy>
  <dcterms:modified xsi:type="dcterms:W3CDTF">2006-10-11T03:38:12Z</dcterms:modified>
  <cp:revision>13</cp:revision>
  <dc:subject/>
  <dc:title>Proyecto de Ley que elimina la sociedad conyugal</dc:title>
</cp:coreProperties>
</file>