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13D2-50E1-496C-8052-FBEA90C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D29F-A11B-416B-ACA5-0CB778AB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069-9BDC-45F3-8B16-602E65DEC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249-1B00-4C02-8E9A-92AAECE2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968E-1915-4708-B9FF-5948292F4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CFD9-595F-41E0-A9C1-B09CCC34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EA0D-93F6-40FA-9684-94D23E29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1F54-3F08-4DD4-9BE1-419B8044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1D80-6400-48C8-B434-41BA956B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BBC7-82BC-4D3A-88A4-888D0F97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24B-8528-4AE9-BAFF-B514CCD6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5BFD-7035-4CEB-B5C0-8CA66D99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7E88-41E3-4E24-9A87-E0CAC0D7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84A2-34C8-4DC1-9798-E40BE730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9A27-12A9-4D78-B652-03E04ED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5CE3-1301-4F12-9062-49AFD262B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DC05-601A-4B51-91F0-185C8A465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6212-6B5B-4CF6-8329-DC28E890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620B-64EA-4810-9C46-D4C02F9A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1D2-F31D-4F80-BD6E-E145E329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B34-7603-4C86-976E-61435F7D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B5B0-7D1C-4182-AB51-76E36C1E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5651-551F-46D0-A281-097B7811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1D96-C31C-4992-B2E8-6109336D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DC96-DC54-428A-AD3F-4C09048C5920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69DF-5BA2-4166-8D88-F47CBF9B5D7D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Violencia%20y%20G&#233;nero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Curso%202004/textos/Observaciones%20finales%20del%20Comit&#233;%20CEDAW.doc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nvención sobre la Eliminación de Todas las Formas de Discriminación contra la Mujer (CEDAW)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7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tificación por Chile, 198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Importanci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Protocolo Facultativo a la CEDAW </a:t>
            </a:r>
            <a:r>
              <a:rPr b="0" lang="es-MX" sz="3200" spc="-1" strike="noStrike" u="sng">
                <a:solidFill>
                  <a:srgbClr val="eaeaea"/>
                </a:solidFill>
                <a:uFillTx/>
                <a:latin typeface="Arial"/>
              </a:rPr>
              <a:t>no consagra nuevos derecho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, sino que sólo establece mecanismos de protección para equipar a la CEDAW a otros tratado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s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comunicaciones individu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El procedimiento de </a:t>
            </a: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investigación frente a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Comunicaciones individual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nuncia la víctima o su represen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omunicación debe ser por escrito y no anónim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mismo hecho no puede haber sido presentado ante otra instancia u órgano internacion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n agotarse previamente los recursos de la jurisdicción intern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Investigación sobre violaciones masivas o sistemáticas (*)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nformación fidedigna de una situación que revele violaciones graves o sistemátic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ignación de expertos/as para investiga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acultad de visita “in situ” (con consentimiento del paí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unicación de resultados, comentarios y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guimiento a las recomendacion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3576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 Narrow"/>
              </a:rPr>
              <a:t>(*) Estados pueden no aceptar la competencia del Comité para estas investigaciones, al momento de ratificar el Protoco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iscriminación contra la muje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tod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distinción, exclusión o restricción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basada en el sexo que tenga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por objeto o resultad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menoscabar el reconocimiento, goce o ejercicio por la mujer, independientemente de su estado civil, sobre la base de la igualdad del hombre y de la mujer, de los derechos humanos y las libertades fundamentales en las esferas política, económica, social, cultural y civil o en cualquier otra esfera.” (Art. 1°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>
            <a:hlinkClick r:id="rId1"/>
          </p:cNvPr>
          <p:cNvSpPr/>
          <p:nvPr/>
        </p:nvSpPr>
        <p:spPr>
          <a:xfrm>
            <a:off x="8077320" y="62485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Elementos releva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La discriminación es entendida como resultado, no sólo como propósito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a acción, ley o política sin intención de discriminar puede ser discriminatoria si ese es su efec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plantea una división entre la discriminación que se produce en el ámbito público y privado (“en cualquier otra esfera”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ones para los Esta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80769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specto de todos los instrumentos internacionales de derechos humano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respet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Abstenerse de violar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ligación de </a:t>
            </a:r>
            <a:r>
              <a:rPr b="0" lang="es-MX" sz="3200" spc="-1" strike="noStrike">
                <a:solidFill>
                  <a:srgbClr val="fcab40"/>
                </a:solidFill>
                <a:latin typeface="Arial"/>
              </a:rPr>
              <a:t>garantiz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Generar las condiciones necesarias para el goce y ejercicio de los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Acciones afirmativa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“Medidas de carácter temporal encaminadas a acelerar la igualdad de facto entre el hombre y la mujer (…) estas medidas cesarán cuando se hayan alcanzado los objetivos de igualdad de oportunidad y trato” (Art. 4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Obligación de garantizar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 u="sng">
                <a:solidFill>
                  <a:srgbClr val="fcab40"/>
                </a:solidFill>
                <a:uFillTx/>
                <a:latin typeface="Arial"/>
              </a:rPr>
              <a:t>Modificación de patrones socioculturales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 de conducta de hombres y mujeres, con miras a alcanzar la eliminación de los prejuicios y las prácticas consuetudinarias y de cualquier otra índole que estén basados en la idea de la inferioridad o superioridad de cualquiera de los sexos o en funciones estereotipadas de hombres y mujeres (Art. 5 CEDAW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ebd189"/>
                </a:solidFill>
                <a:latin typeface="Arial"/>
              </a:rPr>
              <a:t>Derechos consagrados en la CEDAW de relevancia en Chile</a:t>
            </a:r>
            <a:endParaRPr b="0" lang="en-US" sz="40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 capacidad  jurídica civi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articipar sin discriminación en la vida política y pública del paí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discriminación en la esfera del emple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recho a decidir libre y responsablemente el número e intervalo de los hijos/as y acceso a la información, educación y medios que les permitan ejercer estos derech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ecanismos de protecció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mité para la Eliminación de la Discriminación contra la Mujer (Comité CEDAW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23 expertas/o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eaeaea"/>
                </a:solidFill>
                <a:latin typeface="Arial"/>
              </a:rPr>
              <a:t>Sistema de informes periódicos de los Estados Part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Informes sombra </a:t>
            </a:r>
            <a:r>
              <a:rPr b="0" i="1" lang="es-MX" sz="2000" spc="-1" strike="noStrike">
                <a:solidFill>
                  <a:srgbClr val="eaeaea"/>
                </a:solidFill>
                <a:latin typeface="Arial"/>
              </a:rPr>
              <a:t>(shadow reports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Observaciones del Comité al Estado </a:t>
            </a:r>
            <a:r>
              <a:rPr b="0" lang="es-MX" sz="2000" spc="-1" strike="noStrike" u="sng">
                <a:solidFill>
                  <a:srgbClr val="b97c01"/>
                </a:solidFill>
                <a:uFillTx/>
                <a:latin typeface="Arial"/>
                <a:hlinkClick r:id="rId1"/>
              </a:rPr>
              <a:t>Curso 2004\textos\Observaciones finales del Comité CEDAW.doc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otocolo Facultativo a la CEDA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aciones Unidas, 1999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ratificado por Ch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01:25:50Z</dcterms:created>
  <dc:creator>Peter</dc:creator>
  <dc:description/>
  <dc:language>en-US</dc:language>
  <cp:lastModifiedBy> Patsili Toledo</cp:lastModifiedBy>
  <dcterms:modified xsi:type="dcterms:W3CDTF">2006-10-11T03:38:12Z</dcterms:modified>
  <cp:revision>13</cp:revision>
  <dc:subject/>
  <dc:title>Proyecto de Ley que elimina la sociedad conyugal</dc:title>
</cp:coreProperties>
</file>