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A85C-D9D9-4F47-B7AF-A8A616450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3C8-2FA2-4863-8705-08020EC3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30EC-FF30-4FC2-92E5-AF534458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CF65-7934-41EB-82DC-C4E93376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F1386-84A7-41FB-8343-A1C9E45F1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0DAFF-3181-42DD-8342-C9F7C187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2533-341B-4E08-BFBD-EDD9B6A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9E3A-249E-41F0-B146-BD37317C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759E-4A38-4A53-9BF8-E777FFCD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BCC6-042A-4EE5-A83A-F98BFC56E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06E4-AA3B-4E57-94CE-4EE7E6F5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1718-877E-421A-870A-729CD1FA5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BE2AD-5E19-4954-8A70-F77E5E4B9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D5F84-FDCF-40CE-90E8-6D5034E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103BD-4771-4BA8-A944-A7DDF851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6E35-08EB-454B-996C-6A8C84EA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EEAE-C08F-4F3F-BA7A-4C74F6B81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D8E7-C2F8-4D48-B2F9-411B3A1C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4834-2727-4FB5-B4B1-1407D73E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778-5D66-4CA7-B54B-750F2CC4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E98-06F6-4599-B149-B0885EAE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711-1191-4E04-9ACC-BDA87DB3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42C5-7AF4-4F3E-B907-0498B577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4613-CC57-43D4-A66B-F9E45876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D527-408D-4185-B643-88B658C3877D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95B-8A1F-49A7-9D8B-2DECD1D31EC7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olencia%20y%20G&#233;nero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urso%202004/textos/Observaciones%20finales%20del%20Comit&#233;%20CEDAW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vención sobre la Eliminación de Todas las Formas de Discriminación contra la Mujer (CEDAW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tificación por Chile, 198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Protocolo Facultativo a la CEDAW </a:t>
            </a:r>
            <a:r>
              <a:rPr b="0" lang="es-MX" sz="3200" spc="-1" strike="noStrike" u="sng">
                <a:solidFill>
                  <a:srgbClr val="eaeaea"/>
                </a:solidFill>
                <a:uFillTx/>
                <a:latin typeface="Arial"/>
              </a:rPr>
              <a:t>no consagra nuevos derech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, sino que sólo establece mecanismos de protección para equipar a la CEDAW a otros tratado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s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comunicaciones individu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procedimiento de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investigación frente a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municaciones individu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nuncia la víctima o su represen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omunicación debe ser por escrito y no anóni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mismo hecho no puede haber sido presentado ante otra instancia u órgano internac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n agotarse previamente los recursos de la jurisdicción inte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Investigación sobre violaciones masivas o sistemáticas (*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nformación fidedigna de una situación que revele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ignación de expertos/as para investig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acultad de visita “in situ” (con consentimiento del paí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unicación de resultados, comentarios y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guimiento a las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357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 Narrow"/>
              </a:rPr>
              <a:t>(*) Estados pueden no aceptar la competencia del Comité para estas investigaciones, al momento de ratificar el Protoc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scriminación contra la muj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tod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distinción, exclusión o restric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basada en el sexo que teng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por objeto o resultad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menoscabar el reconocimiento, goce o ejercicio por la mujer, independientemente de su estado civil, sobre la base de la igualdad del hombre y de la mujer, de los derechos humanos y las libertades fundamentales en las esferas política, económica, social, cultural y civil o en cualquier otra esfera.” (Art. 1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773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lementos releva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La discriminación es entendida como resultado, no sólo como propósi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a acción, ley o política sin intención de discriminar puede ser discriminatoria si ese es su efec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plantea una división entre la discriminación que se produce en el ámbito público y privado (“en cualquier otra esfera”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ones para los Esta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specto de todos los instrumentos internacionale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respet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Abstenerse de violar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garanti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Generar las condiciones necesarias para el goce y ejercicio de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Acciones afirmativa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“Medidas de carácter temporal encaminadas a acelerar la igualdad de facto entre el hombre y la mujer (…) estas medidas cesarán cuando se hayan alcanzado los objetivos de igualdad de oportunidad y trato” (Art. 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Modificación de patrones sociocultural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 de conducta de hombres y mujeres, con miras a alcanzar la eliminación de los prejuicios y las prácticas consuetudinarias y de cualquier otra índole que estén basados en la idea de la inferioridad o superioridad de cualquiera de los sexos o en funciones estereotipadas de hombres y mujeres (Art. 5 CEDA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Derechos consagrados en la CEDAW de relevancia en Chil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 capacidad  jurídica civi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articipar sin discriminación en la vida política y pública del paí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discriminación en la esfera del emple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recho a decidir libre y responsablemente el número e intervalo de los hijos/as y acceso a la información, educación y medios que les permitan ejercer estos derech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ecanismos de prote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ité para la Eliminación de la Discriminación contra la Mujer (Comité CEDAW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23 expertas/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Sistema de informes periódicos de los Estados Par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Informes sombra </a:t>
            </a:r>
            <a:r>
              <a:rPr b="0" i="1" lang="es-MX" sz="2000" spc="-1" strike="noStrike">
                <a:solidFill>
                  <a:srgbClr val="eaeaea"/>
                </a:solidFill>
                <a:latin typeface="Arial"/>
              </a:rPr>
              <a:t>(shadow report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Observaciones del Comité al Estado </a:t>
            </a:r>
            <a:r>
              <a:rPr b="0" lang="es-MX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Curso 2004\textos\Observaciones finales del Comité CEDAW.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otocolo Facultativo a la CED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ratificado por Ch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5:50Z</dcterms:created>
  <dc:creator>Peter</dc:creator>
  <dc:description/>
  <dc:language>en-US</dc:language>
  <cp:lastModifiedBy> Patsili Toledo</cp:lastModifiedBy>
  <dcterms:modified xsi:type="dcterms:W3CDTF">2006-10-11T03:38:12Z</dcterms:modified>
  <cp:revision>13</cp:revision>
  <dc:subject/>
  <dc:title>Proyecto de Ley que elimina la sociedad conyugal</dc:title>
</cp:coreProperties>
</file>