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939-355C-44E9-8EA3-7BD90B6C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77A9-3E1D-41D2-A7F2-35C569A1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C68D-AAD8-406E-994E-098ABC54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54B5-3A11-4F77-BD31-A98C3C40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AEFD-A905-4D65-BB24-14D30448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BEC2-2367-47D2-9F56-D8FD9FF5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1BCC-4806-4BFE-A755-CFA3D700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CB4D-7E66-4223-9799-664C2E4C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1EED-6F3E-4DAB-8EC5-DDC72967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9C98-11DD-43A2-AF70-C987843E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772D-0146-4DA8-9F3C-BF9850B6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4850-1005-46AA-B6B5-F6EC68D0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C352-13F3-4D58-A8A4-1008207E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D1BA-F744-4E45-8F28-56CBCA1D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6418-D0A7-45F2-BD02-821A5D8B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D2A4-9D22-4349-81D0-ED8180EE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C3F5-ADA1-4CAF-ABD1-027E80FDE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9A9C-8DC8-4410-B8EA-3289B682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B0E9-5FA7-4F9A-A537-0C0B72D5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CE8-95A5-4EC4-87CA-4412E6EF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843B-3179-4B6A-B7FE-610CD629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F424-5F0A-44FE-B4B6-1BD6CB88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A9EE-41A8-4DA9-935B-3D0384F4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2A2F-C47E-4C11-9905-CB750E23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17AE-70D3-4A80-B17F-DA4B334D2FB7}" type="slidenum"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FDC4-C7CF-4F1A-AE23-726F1177F45C}" type="slidenum"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Feminismos y pensamientos postmodern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Pensadores postmodernos franceses: Foucault, Lyotard, Lacan, Derrid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Planteamiento fundamental: Cuestionamiento a las teorías y conceptos “modernos” que se presentan como totalizadoras y coherentes </a:t>
            </a:r>
            <a:r>
              <a:rPr b="0" lang="es-MX" sz="2800" spc="-1" strike="noStrike">
                <a:solidFill>
                  <a:srgbClr val="545472"/>
                </a:solidFill>
                <a:latin typeface="Symbol"/>
                <a:ea typeface="Symbol"/>
              </a:rPr>
              <a:t></a:t>
            </a: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 deconstrucción</a:t>
            </a:r>
            <a:r>
              <a:rPr b="0" lang="es-MX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057400" y="4648320"/>
          <a:ext cx="5029200" cy="156996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moderno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postmoderno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erteza 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herencia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ragmentación 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ntingencia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Diversidad 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ostmodernismo y feminism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Revisión de los conceptos tradicionalmente utilizados para explicar la subordinación de las mujeres: </a:t>
            </a:r>
            <a:r>
              <a:rPr b="0" i="1" lang="es-MX" sz="2400" spc="-1" strike="noStrike">
                <a:solidFill>
                  <a:srgbClr val="545472"/>
                </a:solidFill>
                <a:latin typeface="Tahoma"/>
              </a:rPr>
              <a:t>género y patriarcado; público y privado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Develar las maneras en que </a:t>
            </a:r>
            <a:r>
              <a:rPr b="0" i="1" lang="es-MX" sz="2400" spc="-1" strike="noStrike">
                <a:solidFill>
                  <a:srgbClr val="545472"/>
                </a:solidFill>
                <a:latin typeface="Tahoma"/>
              </a:rPr>
              <a:t>el lenguaje constituye la realidad: </a:t>
            </a: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poder e identidades construidas desde los discurso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Cuestionamiento de las categorías duales y opuestos binarios (totalizadores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Crítica a feminismos tradicionales (70s y 80s): reduccionistas o esencialistas / mujeres blancas de clase medi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ostmodernismo y feminism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Feminismo postmoderno” </a:t>
            </a:r>
            <a:r>
              <a:rPr b="0" lang="es-MX" sz="2400" spc="-1" strike="noStrike">
                <a:solidFill>
                  <a:srgbClr val="545472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contradicció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Más bien se trata de la influencia del pensamiento postmoderno en las teorías feministas: que continúan teniendo como referente a </a:t>
            </a:r>
            <a:r>
              <a:rPr b="0" i="1" lang="es-MX" sz="2800" spc="-1" strike="noStrike">
                <a:solidFill>
                  <a:srgbClr val="545472"/>
                </a:solidFill>
                <a:latin typeface="Tahoma"/>
              </a:rPr>
              <a:t>las mujeres</a:t>
            </a: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 y además se plantean un objetivo político de </a:t>
            </a:r>
            <a:r>
              <a:rPr b="0" i="1" lang="es-MX" sz="2800" spc="-1" strike="noStrike">
                <a:solidFill>
                  <a:srgbClr val="545472"/>
                </a:solidFill>
                <a:latin typeface="Tahoma"/>
              </a:rPr>
              <a:t>modificación del statu quo</a:t>
            </a: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 (cambios sociales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Análisis del Derech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Considerar que el “derecho es masculino” es demasiado simplist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La ley es a la vez racional, objetiva y abstracta como irracional, subjetiva y concreta </a:t>
            </a:r>
            <a:r>
              <a:rPr b="0" lang="es-MX" sz="2400" spc="-1" strike="noStrike">
                <a:solidFill>
                  <a:srgbClr val="545472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tan contradictoria como la realidad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Es necesario abandonar las “grandes” teorías </a:t>
            </a:r>
            <a:r>
              <a:rPr b="0" lang="es-MX" sz="2800" spc="-1" strike="noStrike">
                <a:solidFill>
                  <a:srgbClr val="545472"/>
                </a:solidFill>
                <a:latin typeface="Symbol"/>
                <a:ea typeface="Symbol"/>
              </a:rPr>
              <a:t></a:t>
            </a: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 estudio de instancias específica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arol Smar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45472"/>
                </a:solidFill>
                <a:latin typeface="Tahoma"/>
              </a:rPr>
              <a:t>La ley puede, a la vez, ayudar y perjudicar a las mujeres (el derecho</a:t>
            </a:r>
            <a:r>
              <a:rPr b="1" lang="es-E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i="1" lang="es-ES" sz="2800" spc="-1" strike="noStrike">
                <a:solidFill>
                  <a:srgbClr val="545472"/>
                </a:solidFill>
                <a:latin typeface="Tahoma"/>
              </a:rPr>
              <a:t>no es </a:t>
            </a:r>
            <a:r>
              <a:rPr b="0" lang="es-ES" sz="2800" spc="-1" strike="noStrike">
                <a:solidFill>
                  <a:srgbClr val="545472"/>
                </a:solidFill>
                <a:latin typeface="Tahoma"/>
              </a:rPr>
              <a:t>masculino, el derecho </a:t>
            </a:r>
            <a:r>
              <a:rPr b="0" i="1" lang="es-ES" sz="2800" spc="-1" strike="noStrike">
                <a:solidFill>
                  <a:srgbClr val="545472"/>
                </a:solidFill>
                <a:latin typeface="Tahoma"/>
              </a:rPr>
              <a:t>tiene género</a:t>
            </a:r>
            <a:r>
              <a:rPr b="0" lang="es-ES" sz="28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45472"/>
                </a:solidFill>
                <a:latin typeface="Tahoma"/>
              </a:rPr>
              <a:t>Es necesario considerar no sólo la ley escrita sino también la forma en que se aplica (operadores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45472"/>
                </a:solidFill>
                <a:latin typeface="Tahoma"/>
              </a:rPr>
              <a:t>El género actúa sobre la ley, y a la vez </a:t>
            </a:r>
            <a:r>
              <a:rPr b="0" i="1" lang="es-ES" sz="2800" spc="-1" strike="noStrike">
                <a:solidFill>
                  <a:srgbClr val="545472"/>
                </a:solidFill>
                <a:latin typeface="Tahoma"/>
              </a:rPr>
              <a:t>produce </a:t>
            </a:r>
            <a:r>
              <a:rPr b="0" lang="es-ES" sz="2800" spc="-1" strike="noStrike">
                <a:solidFill>
                  <a:srgbClr val="545472"/>
                </a:solidFill>
                <a:latin typeface="Tahoma"/>
              </a:rPr>
              <a:t>género (tecnología del género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45472"/>
                </a:solidFill>
                <a:latin typeface="Tahoma"/>
              </a:rPr>
              <a:t>La ley debe ser considerada, por tanto, un espacio válido e importante para la lucha feminist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Ngaire Naff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45472"/>
                </a:solidFill>
                <a:latin typeface="Tahoma"/>
              </a:rPr>
              <a:t>Introduce a la teoría feminista elementos del marxismo: clase y géner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45472"/>
                </a:solidFill>
                <a:latin typeface="Tahoma"/>
              </a:rPr>
              <a:t>Derecho </a:t>
            </a:r>
            <a:r>
              <a:rPr b="0" lang="es-MX" sz="3200" spc="-1" strike="noStrike">
                <a:solidFill>
                  <a:srgbClr val="545472"/>
                </a:solidFill>
                <a:latin typeface="Symbol"/>
                <a:ea typeface="Symbol"/>
              </a:rPr>
              <a:t></a:t>
            </a:r>
            <a:r>
              <a:rPr b="0" lang="es-MX" sz="3200" spc="-1" strike="noStrike">
                <a:solidFill>
                  <a:srgbClr val="545472"/>
                </a:solidFill>
                <a:latin typeface="Tahoma"/>
              </a:rPr>
              <a:t> figura preferida: “el hombre de la ley” </a:t>
            </a:r>
            <a:r>
              <a:rPr b="0" lang="es-MX" sz="3200" spc="-1" strike="noStrike">
                <a:solidFill>
                  <a:srgbClr val="545472"/>
                </a:solidFill>
                <a:latin typeface="Symbol"/>
                <a:ea typeface="Symbol"/>
              </a:rPr>
              <a:t></a:t>
            </a:r>
            <a:r>
              <a:rPr b="0" lang="es-MX" sz="3200" spc="-1" strike="noStrike">
                <a:solidFill>
                  <a:srgbClr val="545472"/>
                </a:solidFill>
                <a:latin typeface="Tahoma"/>
              </a:rPr>
              <a:t> las mujeres son construidas para reflejar su lugar tradicional en el orden social, como compañeras del hombre del derecho (discusión sobre el sujeto de derecho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02:27:09Z</dcterms:created>
  <dc:creator> Patsili Toledo</dc:creator>
  <dc:description/>
  <dc:language>en-US</dc:language>
  <cp:lastModifiedBy>Humanas</cp:lastModifiedBy>
  <dcterms:modified xsi:type="dcterms:W3CDTF">2006-09-01T14:53:41Z</dcterms:modified>
  <cp:revision>3</cp:revision>
  <dc:subject/>
  <dc:title>Feminismos y pensamientos postmodernos</dc:title>
</cp:coreProperties>
</file>